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EEE-0EEB-4C33-9943-0F71DC5D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ED8-0464-4B6E-889A-60A96E4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B42-57E7-487C-9DDD-3025FC52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09E-40A9-4805-958F-FE935929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378-8043-4262-B3FE-A1A8C00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4EF-E722-4B57-AB75-36BDD8B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C9A-8670-4EAA-BBF7-B36AD7A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1EE-5794-4CBE-B13C-55389EDB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2FB-7C49-4049-A4DA-624D20D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8F5-21D9-406F-905B-19BD593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056-B822-4E0C-89CA-DC846479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CDF-D272-4940-A706-C8F365A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F3B-C8BD-4999-93F4-875A72E52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lvisPresleyImAllShookUp.wav" TargetMode="External"/><Relationship Id="rId3" Type="http://schemas.openxmlformats.org/officeDocument/2006/relationships/hyperlink" Target="file:///tmp/home/.config/libreoffice/4/user/gallery/TomJonesgreengreengrassofhome.wav" TargetMode="External"/><Relationship Id="rId4" Type="http://schemas.openxmlformats.org/officeDocument/2006/relationships/hyperlink" Target="file:///tmp/home/.config/libreoffice/4/user/gallery/RoyOrbisonOobyDooby.wav" TargetMode="External"/><Relationship Id="rId5" Type="http://schemas.openxmlformats.org/officeDocument/2006/relationships/hyperlink" Target="file:///tmp/home/.config/libreoffice/4/user/gallery/FatsDominoImInLoveAgain.wav" TargetMode="External"/><Relationship Id="rId6" Type="http://schemas.openxmlformats.org/officeDocument/2006/relationships/hyperlink" Target="file:///tmp/home/.config/libreoffice/4/user/gallery/PlattersTheGreatPretender.wav" TargetMode="External"/><Relationship Id="rId7" Type="http://schemas.openxmlformats.org/officeDocument/2006/relationships/hyperlink" Target="file:///tmp/home/.config/libreoffice/4/user/gallery/RickyNelsonHelloMaryLou.wav" TargetMode="External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24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651640" y="314100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kEBO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1693440" y="306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kEBO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887600" y="6622920"/>
            <a:ext cx="102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Arial"/>
              </a:rPr>
              <a:t>C . de Vries 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120" y="138240"/>
            <a:ext cx="22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lik op de Hit van Uw keuz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8675640" y="33336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14371" y="10800"/>
                </a:moveTo>
                <a:lnTo>
                  <a:pt x="3865" y="17806"/>
                </a:lnTo>
                <a:lnTo>
                  <a:pt x="3865" y="3794"/>
                </a:lnTo>
                <a:close/>
              </a:path>
              <a:path fill="darken" w="21744" h="21600">
                <a:moveTo>
                  <a:pt x="16216" y="3794"/>
                </a:moveTo>
                <a:lnTo>
                  <a:pt x="16216" y="17806"/>
                </a:lnTo>
                <a:lnTo>
                  <a:pt x="17878" y="17806"/>
                </a:lnTo>
                <a:lnTo>
                  <a:pt x="17878" y="37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637000"/>
            <a:ext cx="576360" cy="23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47640" y="836640"/>
            <a:ext cx="2304000" cy="936720"/>
            <a:chOff x="3347640" y="836640"/>
            <a:chExt cx="2304000" cy="936720"/>
          </a:xfrm>
        </p:grpSpPr>
        <p:sp>
          <p:nvSpPr>
            <p:cNvPr id="49" name=""/>
            <p:cNvSpPr/>
            <p:nvPr/>
          </p:nvSpPr>
          <p:spPr>
            <a:xfrm rot="5400000">
              <a:off x="4030920" y="153000"/>
              <a:ext cx="936720" cy="2303640"/>
            </a:xfrm>
            <a:custGeom>
              <a:avLst/>
              <a:gdLst>
                <a:gd name="textAreaLeft" fmla="*/ 0 w 936720"/>
                <a:gd name="textAreaRight" fmla="*/ 737640 w 936720"/>
                <a:gd name="textAreaTop" fmla="*/ 1150920 h 2303640"/>
                <a:gd name="textAreaBottom" fmla="*/ 1152720 h 23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304" y="3051"/>
                    <a:pt x="17008" y="5080"/>
                    <a:pt x="17008" y="10800"/>
                  </a:cubicBezTo>
                  <a:cubicBezTo>
                    <a:pt x="17008" y="16520"/>
                    <a:pt x="19304" y="1854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19640" y="1557360"/>
              <a:ext cx="2232000" cy="21600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03640" y="1987560"/>
            <a:ext cx="2520720" cy="577800"/>
          </a:xfrm>
          <a:prstGeom prst="rect">
            <a:avLst/>
          </a:prstGeom>
          <a:solidFill>
            <a:srgbClr val="ff9900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/>
          </p:cNvPr>
          <p:cNvSpPr/>
          <p:nvPr/>
        </p:nvSpPr>
        <p:spPr>
          <a:xfrm>
            <a:off x="3276720" y="2060640"/>
            <a:ext cx="792000" cy="21600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04" h="21600">
                <a:moveTo>
                  <a:pt x="0" y="0"/>
                </a:moveTo>
                <a:lnTo>
                  <a:pt x="79104" y="0"/>
                </a:lnTo>
                <a:lnTo>
                  <a:pt x="79104" y="21600"/>
                </a:lnTo>
                <a:lnTo>
                  <a:pt x="0" y="21600"/>
                </a:lnTo>
                <a:close/>
              </a:path>
              <a:path fill="lightenLess" w="79104" h="21600">
                <a:moveTo>
                  <a:pt x="0" y="0"/>
                </a:moveTo>
                <a:lnTo>
                  <a:pt x="79104" y="0"/>
                </a:lnTo>
                <a:lnTo>
                  <a:pt x="77704" y="1400"/>
                </a:lnTo>
                <a:lnTo>
                  <a:pt x="1400" y="1400"/>
                </a:lnTo>
                <a:close/>
              </a:path>
              <a:path fill="darken" w="79104" h="21600">
                <a:moveTo>
                  <a:pt x="79104" y="0"/>
                </a:moveTo>
                <a:lnTo>
                  <a:pt x="79104" y="21600"/>
                </a:lnTo>
                <a:lnTo>
                  <a:pt x="77704" y="20200"/>
                </a:lnTo>
                <a:lnTo>
                  <a:pt x="77704" y="1400"/>
                </a:lnTo>
                <a:close/>
              </a:path>
              <a:path fill="darkenLess" w="79104" h="21600">
                <a:moveTo>
                  <a:pt x="7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04" y="20200"/>
                </a:lnTo>
                <a:close/>
              </a:path>
              <a:path fill="lighten" w="7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3276720" y="2276640"/>
            <a:ext cx="792000" cy="21564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/>
          </p:cNvPr>
          <p:cNvSpPr/>
          <p:nvPr/>
        </p:nvSpPr>
        <p:spPr>
          <a:xfrm>
            <a:off x="4067280" y="2060640"/>
            <a:ext cx="792000" cy="21600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04" h="21600">
                <a:moveTo>
                  <a:pt x="0" y="0"/>
                </a:moveTo>
                <a:lnTo>
                  <a:pt x="79104" y="0"/>
                </a:lnTo>
                <a:lnTo>
                  <a:pt x="79104" y="21600"/>
                </a:lnTo>
                <a:lnTo>
                  <a:pt x="0" y="21600"/>
                </a:lnTo>
                <a:close/>
              </a:path>
              <a:path fill="lightenLess" w="79104" h="21600">
                <a:moveTo>
                  <a:pt x="0" y="0"/>
                </a:moveTo>
                <a:lnTo>
                  <a:pt x="79104" y="0"/>
                </a:lnTo>
                <a:lnTo>
                  <a:pt x="77704" y="1400"/>
                </a:lnTo>
                <a:lnTo>
                  <a:pt x="1400" y="1400"/>
                </a:lnTo>
                <a:close/>
              </a:path>
              <a:path fill="darken" w="79104" h="21600">
                <a:moveTo>
                  <a:pt x="79104" y="0"/>
                </a:moveTo>
                <a:lnTo>
                  <a:pt x="79104" y="21600"/>
                </a:lnTo>
                <a:lnTo>
                  <a:pt x="77704" y="20200"/>
                </a:lnTo>
                <a:lnTo>
                  <a:pt x="77704" y="1400"/>
                </a:lnTo>
                <a:close/>
              </a:path>
              <a:path fill="darkenLess" w="79104" h="21600">
                <a:moveTo>
                  <a:pt x="7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04" y="20200"/>
                </a:lnTo>
                <a:close/>
              </a:path>
              <a:path fill="lighten" w="7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5"/>
          </p:cNvPr>
          <p:cNvSpPr/>
          <p:nvPr/>
        </p:nvSpPr>
        <p:spPr>
          <a:xfrm>
            <a:off x="4067280" y="2276640"/>
            <a:ext cx="792000" cy="21564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6"/>
          </p:cNvPr>
          <p:cNvSpPr/>
          <p:nvPr/>
        </p:nvSpPr>
        <p:spPr>
          <a:xfrm>
            <a:off x="4859280" y="2060640"/>
            <a:ext cx="792360" cy="21600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40" h="21600">
                <a:moveTo>
                  <a:pt x="0" y="0"/>
                </a:moveTo>
                <a:lnTo>
                  <a:pt x="79140" y="0"/>
                </a:lnTo>
                <a:lnTo>
                  <a:pt x="79140" y="21600"/>
                </a:lnTo>
                <a:lnTo>
                  <a:pt x="0" y="21600"/>
                </a:lnTo>
                <a:close/>
              </a:path>
              <a:path fill="lightenLess" w="79140" h="21600">
                <a:moveTo>
                  <a:pt x="0" y="0"/>
                </a:moveTo>
                <a:lnTo>
                  <a:pt x="79140" y="0"/>
                </a:lnTo>
                <a:lnTo>
                  <a:pt x="77740" y="1400"/>
                </a:lnTo>
                <a:lnTo>
                  <a:pt x="1400" y="1400"/>
                </a:lnTo>
                <a:close/>
              </a:path>
              <a:path fill="darken" w="79140" h="21600">
                <a:moveTo>
                  <a:pt x="79140" y="0"/>
                </a:moveTo>
                <a:lnTo>
                  <a:pt x="79140" y="21600"/>
                </a:lnTo>
                <a:lnTo>
                  <a:pt x="77740" y="20200"/>
                </a:lnTo>
                <a:lnTo>
                  <a:pt x="77740" y="1400"/>
                </a:lnTo>
                <a:close/>
              </a:path>
              <a:path fill="darkenLess" w="79140" h="21600">
                <a:moveTo>
                  <a:pt x="7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0" y="20200"/>
                </a:lnTo>
                <a:close/>
              </a:path>
              <a:path fill="lighten" w="7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7"/>
          </p:cNvPr>
          <p:cNvSpPr/>
          <p:nvPr/>
        </p:nvSpPr>
        <p:spPr>
          <a:xfrm>
            <a:off x="4859280" y="2276640"/>
            <a:ext cx="792360" cy="21564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9272" h="21600">
                <a:moveTo>
                  <a:pt x="0" y="0"/>
                </a:moveTo>
                <a:lnTo>
                  <a:pt x="79272" y="0"/>
                </a:lnTo>
                <a:lnTo>
                  <a:pt x="79272" y="21600"/>
                </a:lnTo>
                <a:lnTo>
                  <a:pt x="0" y="21600"/>
                </a:lnTo>
                <a:close/>
              </a:path>
              <a:path fill="lightenLess" w="79272" h="21600">
                <a:moveTo>
                  <a:pt x="0" y="0"/>
                </a:moveTo>
                <a:lnTo>
                  <a:pt x="79272" y="0"/>
                </a:lnTo>
                <a:lnTo>
                  <a:pt x="77872" y="1400"/>
                </a:lnTo>
                <a:lnTo>
                  <a:pt x="1400" y="1400"/>
                </a:lnTo>
                <a:close/>
              </a:path>
              <a:path fill="darken" w="79272" h="21600">
                <a:moveTo>
                  <a:pt x="79272" y="0"/>
                </a:moveTo>
                <a:lnTo>
                  <a:pt x="79272" y="21600"/>
                </a:lnTo>
                <a:lnTo>
                  <a:pt x="77872" y="20200"/>
                </a:lnTo>
                <a:lnTo>
                  <a:pt x="77872" y="1400"/>
                </a:lnTo>
                <a:close/>
              </a:path>
              <a:path fill="darkenLess" w="79272" h="21600">
                <a:moveTo>
                  <a:pt x="79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72" y="20200"/>
                </a:lnTo>
                <a:close/>
              </a:path>
              <a:path fill="lighten" w="79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637000"/>
            <a:ext cx="504720" cy="230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012000" y="3789360"/>
            <a:ext cx="168912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971640" y="3933720"/>
            <a:ext cx="2043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584200" y="128520"/>
            <a:ext cx="40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8720" y="6237360"/>
            <a:ext cx="82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Arial"/>
              </a:rPr>
              <a:t>* ProCorSoft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22:57Z</dcterms:created>
  <dc:creator>C.de Vries</dc:creator>
  <dc:description/>
  <dc:language>en-US</dc:language>
  <cp:lastModifiedBy>Smets</cp:lastModifiedBy>
  <dcterms:modified xsi:type="dcterms:W3CDTF">2008-09-20T03:45:06Z</dcterms:modified>
  <cp:revision>12</cp:revision>
  <dc:subject/>
  <dc:title>Dia 1</dc:title>
</cp:coreProperties>
</file>