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png" ContentType="image/png"/>
  <Override PartName="/ppt/media/image26.jpeg" ContentType="image/jpeg"/>
  <Override PartName="/ppt/media/image8.png" ContentType="image/png"/>
  <Override PartName="/ppt/media/image16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5.png" ContentType="image/png"/>
  <Override PartName="/ppt/media/image27.jpeg" ContentType="image/jpeg"/>
  <Override PartName="/ppt/media/image13.wmf" ContentType="image/x-wmf"/>
  <Override PartName="/ppt/media/image28.png" ContentType="image/png"/>
  <Override PartName="/ppt/media/image6.png" ContentType="image/png"/>
  <Override PartName="/ppt/media/image11.png" ContentType="image/png"/>
  <Override PartName="/ppt/media/image9.png" ContentType="image/png"/>
  <Override PartName="/ppt/media/11.wav" ContentType="audio/x-wav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4.png" ContentType="image/png"/>
  <Override PartName="/ppt/media/image12.jpeg" ContentType="image/jpeg"/>
  <Override PartName="/ppt/media/image14.png" ContentType="image/png"/>
  <Override PartName="/ppt/media/Ch.03(bj11).wav" ContentType="audio/x-wav"/>
  <Override PartName="/ppt/media/7.1.wav" ContentType="audio/x-wav"/>
  <Override PartName="/ppt/media/image19.wmf" ContentType="image/x-wmf"/>
  <Override PartName="/ppt/media/image21.wmf" ContentType="image/x-wmf"/>
  <Override PartName="/ppt/media/image18.png" ContentType="image/png"/>
  <Override PartName="/ppt/media/image17.png" ContentType="image/pn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179-DF3F-4431-8B72-09FCBCC5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610-45EC-473A-87FE-3C663D8B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0C1-AC13-4770-9C8B-30E3D7C1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292-20C0-410B-B187-2A5046E4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CA0-BE41-48FE-B4CD-F346CE2F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B18-C404-4D1E-954F-669C8D96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AFA-1901-4BA5-9322-DD437132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47A-8A3F-489D-98B8-3EE01D6F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E99-4901-419A-AD55-A3667D78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69C-74BB-4210-A126-ECDF432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5AC-4535-4C16-92DE-495CD067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83C-887D-4149-8A96-B3953224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9205-3B89-47EE-B654-4D44CD8A054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.03(bj11)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11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slide" Target="slide10.xml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audio" Target="../media/11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slide" Target="slide10.xml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audio" Target="../media/11.wav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audio" Target="../media/11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audio" Target="../media/11.wav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audio" Target="../media/11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audio" Target="../media/11.wav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11.wav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11.wav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11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11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11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11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11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audio" Target="../media/7.1.wav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audio" Target="../media/11.wav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11.wav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11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5257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h.03(bj11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Organ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800000"/>
              </a:buClr>
              <a:buSzPct val="80000"/>
              <a:buFont typeface="Wingding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very small size – can only be observed under electron microsc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99cc00"/>
              </a:buClr>
              <a:buSzPct val="80000"/>
              <a:buFont typeface="Wingding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Impact"/>
              </a:rPr>
              <a:t>has specific functions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66ff"/>
              </a:buClr>
              <a:buSzPct val="80000"/>
              <a:buFont typeface="Wingding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Impact"/>
              </a:rPr>
              <a:t>in cytopla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1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2895480"/>
            <a:ext cx="5181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459720" indent="-279000">
              <a:lnSpc>
                <a:spcPct val="110000"/>
              </a:lnSpc>
              <a:spcBef>
                <a:spcPts val="901"/>
              </a:spcBef>
              <a:buClr>
                <a:srgbClr val="0099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Impact"/>
              </a:rPr>
              <a:t>Contain the green pigment </a:t>
            </a:r>
            <a:r>
              <a:rPr b="0" lang="en-US" sz="3600" spc="-1" strike="noStrike" u="sng">
                <a:solidFill>
                  <a:srgbClr val="009900"/>
                </a:solidFill>
                <a:uFillTx/>
                <a:latin typeface="Impact"/>
              </a:rPr>
              <a:t>chlorophy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1520" indent="-180720">
              <a:lnSpc>
                <a:spcPct val="110000"/>
              </a:lnSpc>
              <a:spcBef>
                <a:spcPts val="901"/>
              </a:spcBef>
              <a:buClr>
                <a:srgbClr val="ff99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Impact"/>
              </a:rPr>
              <a:t>To trap </a:t>
            </a:r>
            <a:r>
              <a:rPr b="0" lang="en-US" sz="3600" spc="-1" strike="noStrike" u="sng">
                <a:solidFill>
                  <a:srgbClr val="ff99ff"/>
                </a:solidFill>
                <a:uFillTx/>
                <a:latin typeface="Impact"/>
              </a:rPr>
              <a:t>light energy</a:t>
            </a:r>
            <a:r>
              <a:rPr b="0" lang="en-US" sz="3600" spc="-1" strike="noStrike">
                <a:solidFill>
                  <a:srgbClr val="ff99ff"/>
                </a:solidFill>
                <a:latin typeface="Impact"/>
              </a:rPr>
              <a:t>, to make food by 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2280" y="2057400"/>
            <a:ext cx="6324480" cy="1218960"/>
            <a:chOff x="152280" y="2057400"/>
            <a:chExt cx="6324480" cy="1218960"/>
          </a:xfrm>
        </p:grpSpPr>
        <p:sp>
          <p:nvSpPr>
            <p:cNvPr id="122" name=""/>
            <p:cNvSpPr/>
            <p:nvPr/>
          </p:nvSpPr>
          <p:spPr>
            <a:xfrm>
              <a:off x="152280" y="2057400"/>
              <a:ext cx="3124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Impac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Impact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Impact"/>
                </a:rPr>
                <a:t>Chloroplas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504960" y="2437920"/>
              <a:ext cx="297180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320" y="3048120"/>
            <a:ext cx="4876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71680" indent="-277920">
              <a:lnSpc>
                <a:spcPct val="120000"/>
              </a:lnSpc>
              <a:spcBef>
                <a:spcPts val="901"/>
              </a:spcBef>
              <a:buClr>
                <a:srgbClr val="6666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Impact"/>
              </a:rPr>
              <a:t>Contain </a:t>
            </a:r>
            <a:r>
              <a:rPr b="0" lang="en-US" sz="3600" spc="-1" strike="noStrike" u="sng">
                <a:solidFill>
                  <a:srgbClr val="6666ff"/>
                </a:solidFill>
                <a:uFillTx/>
                <a:latin typeface="Impact"/>
              </a:rPr>
              <a:t>starch grains</a:t>
            </a:r>
            <a:r>
              <a:rPr b="0" lang="en-US" sz="3600" spc="-1" strike="noStrike">
                <a:solidFill>
                  <a:srgbClr val="6666ff"/>
                </a:solidFill>
                <a:latin typeface="Impact"/>
              </a:rPr>
              <a:t> (products of photosynthe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2057400"/>
            <a:ext cx="3124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hloropl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504960" y="2437920"/>
            <a:ext cx="297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3880" y="3581280"/>
            <a:ext cx="3810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Rod sh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Impact"/>
              </a:rPr>
              <a:t>For re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33720" y="5257800"/>
          <a:ext cx="2514600" cy="14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5257800"/>
                    <a:ext cx="25146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37960" y="3962520"/>
          <a:ext cx="157320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960" y="3962520"/>
                    <a:ext cx="1573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lant%20cell" descr=""/>
          <p:cNvPicPr/>
          <p:nvPr/>
        </p:nvPicPr>
        <p:blipFill>
          <a:blip r:embed="rId7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33520" y="1905120"/>
            <a:ext cx="6476400" cy="1066680"/>
            <a:chOff x="533520" y="1905120"/>
            <a:chExt cx="6476400" cy="1066680"/>
          </a:xfrm>
        </p:grpSpPr>
        <p:sp>
          <p:nvSpPr>
            <p:cNvPr id="143" name=""/>
            <p:cNvSpPr/>
            <p:nvPr/>
          </p:nvSpPr>
          <p:spPr>
            <a:xfrm>
              <a:off x="533520" y="1905120"/>
              <a:ext cx="4343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Impac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Impact"/>
                </a:rPr>
                <a:t>Mitochondrion</a:t>
              </a:r>
              <a:br>
                <a:rPr sz="4000"/>
              </a:br>
              <a:r>
                <a:rPr b="0" lang="en-US" sz="4000" spc="-1" strike="noStrike">
                  <a:solidFill>
                    <a:srgbClr val="000000"/>
                  </a:solidFill>
                  <a:latin typeface="Impact"/>
                </a:rPr>
                <a:t>( mitochondria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571640" y="26668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8" name="1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3048120"/>
            <a:ext cx="4800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33cc"/>
                </a:solidFill>
                <a:latin typeface="Impact"/>
              </a:rPr>
              <a:t>Active cells   ( eg. sperms, liver cells) have more mitochondr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752480"/>
            <a:ext cx="4343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itochondr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( mitochondria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23920" y="25146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133720" y="5257800"/>
          <a:ext cx="2514600" cy="14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5257800"/>
                    <a:ext cx="25146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37960" y="3962520"/>
          <a:ext cx="157320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7960" y="3962520"/>
                    <a:ext cx="1573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8" name="1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3276720"/>
            <a:ext cx="5029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Starch gran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Impact"/>
              </a:rPr>
              <a:t>Oil dropl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Impact"/>
              </a:rPr>
              <a:t>Crystals of insoluble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2120" y="1905120"/>
            <a:ext cx="5409720" cy="837720"/>
            <a:chOff x="762120" y="1905120"/>
            <a:chExt cx="5409720" cy="837720"/>
          </a:xfrm>
        </p:grpSpPr>
        <p:sp>
          <p:nvSpPr>
            <p:cNvPr id="164" name=""/>
            <p:cNvSpPr/>
            <p:nvPr/>
          </p:nvSpPr>
          <p:spPr>
            <a:xfrm>
              <a:off x="762120" y="1905120"/>
              <a:ext cx="4114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Impac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Impact"/>
                </a:rPr>
                <a:t>Non-living granul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3657240" y="2514240"/>
              <a:ext cx="2514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0" y="243828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554400" indent="-369720">
              <a:lnSpc>
                <a:spcPct val="100000"/>
              </a:lnSpc>
              <a:spcBef>
                <a:spcPts val="850"/>
              </a:spcBef>
              <a:buClr>
                <a:srgbClr val="ff66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66ff"/>
                </a:solidFill>
                <a:latin typeface="Impact"/>
                <a:ea typeface="標楷體"/>
              </a:rPr>
              <a:t>large central vacuo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4400" indent="-369720">
              <a:lnSpc>
                <a:spcPct val="100000"/>
              </a:lnSpc>
              <a:spcBef>
                <a:spcPts val="850"/>
              </a:spcBef>
              <a:buClr>
                <a:srgbClr val="6699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669900"/>
                </a:solidFill>
                <a:latin typeface="Impact"/>
                <a:ea typeface="標楷體"/>
              </a:rPr>
              <a:t>Surrounded by </a:t>
            </a:r>
            <a:r>
              <a:rPr b="0" lang="zh-TW" sz="3400" spc="-1" strike="noStrike" u="sng">
                <a:solidFill>
                  <a:srgbClr val="669900"/>
                </a:solidFill>
                <a:uFillTx/>
                <a:latin typeface="Impact"/>
                <a:ea typeface="標楷體"/>
              </a:rPr>
              <a:t>tonoplas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4400" indent="-369720">
              <a:lnSpc>
                <a:spcPct val="100000"/>
              </a:lnSpc>
              <a:spcBef>
                <a:spcPts val="850"/>
              </a:spcBef>
              <a:buClr>
                <a:srgbClr val="ffcc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cc00"/>
                </a:solidFill>
                <a:latin typeface="Impact"/>
                <a:ea typeface="標楷體"/>
              </a:rPr>
              <a:t>Contains cell sa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3840" indent="-284400">
              <a:lnSpc>
                <a:spcPct val="100000"/>
              </a:lnSpc>
              <a:spcBef>
                <a:spcPts val="850"/>
              </a:spcBef>
              <a:buClr>
                <a:srgbClr val="0066ff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66ff"/>
                </a:solidFill>
                <a:latin typeface="Impact"/>
                <a:ea typeface="標楷體"/>
              </a:rPr>
              <a:t>a solution of chemicals (sugars, proteins, mineral salts, wastes, pigment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09480" y="1752480"/>
            <a:ext cx="6858000" cy="1600200"/>
            <a:chOff x="609480" y="1752480"/>
            <a:chExt cx="6858000" cy="1600200"/>
          </a:xfrm>
        </p:grpSpPr>
        <p:sp>
          <p:nvSpPr>
            <p:cNvPr id="173" name=""/>
            <p:cNvSpPr/>
            <p:nvPr/>
          </p:nvSpPr>
          <p:spPr>
            <a:xfrm>
              <a:off x="609480" y="1752480"/>
              <a:ext cx="3124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Impac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Impact"/>
                  <a:ea typeface="標楷體"/>
                </a:rPr>
                <a:t>Vacuol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3048120" y="2057400"/>
              <a:ext cx="441936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3581280"/>
            <a:ext cx="8001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459720" indent="-2790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9900"/>
                </a:solidFill>
                <a:latin typeface="Impact"/>
              </a:rPr>
              <a:t>Control the normal                                        activities of th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9720" indent="-279000">
              <a:lnSpc>
                <a:spcPct val="100000"/>
              </a:lnSpc>
              <a:spcBef>
                <a:spcPts val="901"/>
              </a:spcBef>
              <a:buClr>
                <a:srgbClr val="6666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66ff"/>
                </a:solidFill>
                <a:latin typeface="Impact"/>
              </a:rPr>
              <a:t>Bounded  by a                                                           nuclear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9720" indent="-27900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99"/>
                </a:solidFill>
                <a:latin typeface="Impact"/>
              </a:rPr>
              <a:t>Contains thread-like </a:t>
            </a:r>
            <a:r>
              <a:rPr b="0" lang="zh-TW" sz="3600" spc="-1" strike="noStrike" u="sng">
                <a:solidFill>
                  <a:srgbClr val="ff3399"/>
                </a:solidFill>
                <a:uFillTx/>
                <a:latin typeface="Impact"/>
              </a:rPr>
              <a:t>chrom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457200"/>
          <a:ext cx="198144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1981440" cy="19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81" name="plant%20cell" descr=""/>
          <p:cNvPicPr/>
          <p:nvPr/>
        </p:nvPicPr>
        <p:blipFill>
          <a:blip r:embed="rId4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3520" y="2666880"/>
            <a:ext cx="5790960" cy="1218960"/>
            <a:chOff x="533520" y="2666880"/>
            <a:chExt cx="5790960" cy="1218960"/>
          </a:xfrm>
        </p:grpSpPr>
        <p:sp>
          <p:nvSpPr>
            <p:cNvPr id="184" name=""/>
            <p:cNvSpPr/>
            <p:nvPr/>
          </p:nvSpPr>
          <p:spPr>
            <a:xfrm>
              <a:off x="533520" y="2666880"/>
              <a:ext cx="2438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Impac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Impact"/>
                </a:rPr>
                <a:t>Nucleu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2819520" y="3123720"/>
              <a:ext cx="3504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5" name="11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-76320" y="3581280"/>
            <a:ext cx="8610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84200" indent="-29376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ff"/>
                </a:solidFill>
                <a:latin typeface="Impact"/>
              </a:rPr>
              <a:t>Each cell has fixed                                                      number of chrom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277920">
              <a:lnSpc>
                <a:spcPct val="100000"/>
              </a:lnSpc>
              <a:spcBef>
                <a:spcPts val="901"/>
              </a:spcBef>
              <a:buClr>
                <a:srgbClr val="ff99ff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ff"/>
                </a:solidFill>
                <a:latin typeface="Impact"/>
              </a:rPr>
              <a:t>Chromosomes carry</a:t>
            </a:r>
            <a:r>
              <a:rPr b="0" lang="zh-TW" sz="3600" spc="-1" strike="noStrike">
                <a:solidFill>
                  <a:srgbClr val="00cc99"/>
                </a:solidFill>
                <a:latin typeface="Impact"/>
              </a:rPr>
              <a:t>                                              </a:t>
            </a:r>
            <a:r>
              <a:rPr b="0" lang="zh-TW" sz="3600" spc="-1" strike="noStrike" u="sng">
                <a:solidFill>
                  <a:srgbClr val="ff66ff"/>
                </a:solidFill>
                <a:uFillTx/>
                <a:latin typeface="Impact"/>
              </a:rPr>
              <a:t>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0920" indent="-2779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9900"/>
                </a:solidFill>
                <a:latin typeface="Impact"/>
              </a:rPr>
              <a:t>genes control cell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743200"/>
            <a:ext cx="243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80880" y="457200"/>
          <a:ext cx="198144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1981440" cy="19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93" name="plant%20cell" descr=""/>
          <p:cNvPicPr/>
          <p:nvPr/>
        </p:nvPicPr>
        <p:blipFill>
          <a:blip r:embed="rId4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124080" y="3123720"/>
            <a:ext cx="3200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5" name="11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Different kinds of plan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71600" y="1990800"/>
            <a:ext cx="6248520" cy="4638600"/>
            <a:chOff x="1371600" y="1990800"/>
            <a:chExt cx="6248520" cy="4638600"/>
          </a:xfrm>
        </p:grpSpPr>
        <p:pic>
          <p:nvPicPr>
            <p:cNvPr id="201" name="03.12" descr=""/>
            <p:cNvPicPr/>
            <p:nvPr/>
          </p:nvPicPr>
          <p:blipFill>
            <a:blip r:embed="rId2"/>
            <a:stretch/>
          </p:blipFill>
          <p:spPr>
            <a:xfrm>
              <a:off x="1371600" y="1990800"/>
              <a:ext cx="6248520" cy="4638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2" name=""/>
            <p:cNvSpPr/>
            <p:nvPr/>
          </p:nvSpPr>
          <p:spPr>
            <a:xfrm>
              <a:off x="1767960" y="3941640"/>
              <a:ext cx="334440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Impact"/>
                </a:rPr>
                <a:t>Onion Epidermal Cel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200" y="6075360"/>
              <a:ext cx="253044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Impact"/>
                </a:rPr>
                <a:t>Root Hair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67880" y="4551480"/>
              <a:ext cx="14302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Impact"/>
                </a:rPr>
                <a:t>root h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13840" y="4017960"/>
              <a:ext cx="182520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Impact"/>
                </a:rPr>
                <a:t>Guard Cel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Impact"/>
              </a:rPr>
              <a:t>Cells are the basic units of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Impact"/>
              </a:rPr>
              <a:t>Cells can only be observed under micro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Impact"/>
              </a:rPr>
              <a:t>Two basic types of cel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800360" y="3733920"/>
          <a:ext cx="234288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360" y="3733920"/>
                    <a:ext cx="2342880" cy="2361960"/>
                  </a:xfrm>
                  <a:prstGeom prst="rect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76720" y="3733920"/>
          <a:ext cx="2467080" cy="24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3733920"/>
                    <a:ext cx="2467080" cy="2408040"/>
                  </a:xfrm>
                  <a:prstGeom prst="rect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939320" y="61405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  <a:ea typeface="華康新儷粗黑"/>
              </a:rPr>
              <a:t>Anima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38960" y="614052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Impact"/>
                <a:ea typeface="華康新儷粗黑"/>
              </a:rPr>
              <a:t>Pla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6" name="11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animal%20cell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4403880" cy="6172200"/>
          </a:xfrm>
          <a:prstGeom prst="rect">
            <a:avLst/>
          </a:prstGeom>
          <a:ln w="38160">
            <a:solidFill>
              <a:srgbClr val="cc0099"/>
            </a:solidFill>
            <a:miter/>
          </a:ln>
        </p:spPr>
      </p:pic>
      <p:sp>
        <p:nvSpPr>
          <p:cNvPr id="210" name=""/>
          <p:cNvSpPr/>
          <p:nvPr/>
        </p:nvSpPr>
        <p:spPr>
          <a:xfrm flipV="1">
            <a:off x="2556000" y="335232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371600" y="472392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4343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mitochond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3124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38080" y="579096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8831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glycogen gran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286000" y="6095880"/>
            <a:ext cx="9144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654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685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048120" y="1066680"/>
            <a:ext cx="7617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724280" y="190512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Animal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289548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Impact"/>
              </a:rPr>
              <a:t>No cell wall and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4191120"/>
            <a:ext cx="3276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Impact"/>
              </a:rPr>
              <a:t>Stores glycogen granules and oil droplets in the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66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685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vacu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Different kinds of anim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143000" y="2133720"/>
            <a:ext cx="6781680" cy="4647960"/>
            <a:chOff x="1143000" y="2133720"/>
            <a:chExt cx="6781680" cy="4647960"/>
          </a:xfrm>
        </p:grpSpPr>
        <p:pic>
          <p:nvPicPr>
            <p:cNvPr id="230" name="03.16" descr=""/>
            <p:cNvPicPr/>
            <p:nvPr/>
          </p:nvPicPr>
          <p:blipFill>
            <a:blip r:embed="rId2"/>
            <a:stretch/>
          </p:blipFill>
          <p:spPr>
            <a:xfrm>
              <a:off x="1143000" y="2133720"/>
              <a:ext cx="6781680" cy="4647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1" name=""/>
            <p:cNvSpPr/>
            <p:nvPr/>
          </p:nvSpPr>
          <p:spPr>
            <a:xfrm>
              <a:off x="1218960" y="3336840"/>
              <a:ext cx="1905120" cy="703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Impact"/>
                </a:rPr>
                <a:t>white blood c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18960" y="4419720"/>
              <a:ext cx="1857600" cy="398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Impact"/>
                </a:rPr>
                <a:t>red blood c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18960" y="5943600"/>
              <a:ext cx="1524240" cy="398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Impact"/>
                </a:rPr>
                <a:t>cheek cel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95480" y="5715000"/>
              <a:ext cx="928800" cy="703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Impact"/>
                </a:rPr>
                <a:t>sp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30680" y="6172200"/>
              <a:ext cx="1374480" cy="398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Impact"/>
                </a:rPr>
                <a:t>nerve c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16520" y="5394240"/>
              <a:ext cx="1560240" cy="398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Impact"/>
                </a:rPr>
                <a:t>muscle c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3680" y="3870360"/>
              <a:ext cx="1216080" cy="398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660066"/>
                  </a:solidFill>
                  <a:uFillTx/>
                  <a:latin typeface="Impact"/>
                </a:rPr>
                <a:t>Amo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43400" y="6324480"/>
              <a:ext cx="1704960" cy="398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660066"/>
                  </a:solidFill>
                  <a:uFillTx/>
                  <a:latin typeface="Impact"/>
                </a:rPr>
                <a:t>Paramec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Similarities between plant cells and anim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3047760"/>
            <a:ext cx="7772400" cy="106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Impact"/>
              </a:rPr>
              <a:t>Both have a cell membrane surrounding the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4495680"/>
            <a:ext cx="7772400" cy="609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Impact"/>
              </a:rPr>
              <a:t>Both have a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486400"/>
            <a:ext cx="77724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0202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202"/>
                </a:solidFill>
                <a:latin typeface="Impact"/>
              </a:rPr>
              <a:t>Both contain mitochond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5" name="11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Differences between plant cells and anim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2749680"/>
            <a:ext cx="3810240" cy="642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e0202"/>
                </a:solidFill>
                <a:latin typeface="Impact"/>
              </a:rPr>
              <a:t>Animal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2749680"/>
            <a:ext cx="3809880" cy="642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e0202"/>
                </a:solidFill>
                <a:latin typeface="Impact"/>
              </a:rPr>
              <a:t>Plant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3581280"/>
            <a:ext cx="3810240" cy="1068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Impact"/>
              </a:rPr>
              <a:t>Relatively smaller in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4830840"/>
            <a:ext cx="38102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Impact"/>
              </a:rPr>
              <a:t>Irregular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5638680"/>
            <a:ext cx="38102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202"/>
                </a:solidFill>
                <a:latin typeface="Impact"/>
              </a:rPr>
              <a:t>No cel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3581280"/>
            <a:ext cx="3809880" cy="106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Impact"/>
              </a:rPr>
              <a:t>Relatively larger in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4830840"/>
            <a:ext cx="38098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Impact"/>
              </a:rPr>
              <a:t>Regular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5668920"/>
            <a:ext cx="38098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202"/>
                </a:solidFill>
                <a:latin typeface="Impact"/>
              </a:rPr>
              <a:t>Cell wall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11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92520"/>
            <a:ext cx="4343400" cy="642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e0202"/>
                </a:solidFill>
                <a:latin typeface="Impact"/>
              </a:rPr>
              <a:t>Animal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2792520"/>
            <a:ext cx="3809880" cy="642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e0202"/>
                </a:solidFill>
                <a:latin typeface="Impact"/>
              </a:rPr>
              <a:t>Plant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581280"/>
            <a:ext cx="4267080" cy="1068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Impact"/>
              </a:rPr>
              <a:t>Vacuole small or ab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343400"/>
            <a:ext cx="4267080" cy="1068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Impact"/>
              </a:rPr>
              <a:t>Glycogen granules as food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562720"/>
            <a:ext cx="426708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9933"/>
                </a:solidFill>
                <a:latin typeface="Impact"/>
              </a:rPr>
              <a:t>Nucleus at the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76920" y="3581280"/>
            <a:ext cx="3886200" cy="106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Impact"/>
              </a:rPr>
              <a:t>Large central vacu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4343400"/>
            <a:ext cx="3962160" cy="106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Impact"/>
              </a:rPr>
              <a:t>Starch granules as food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5562720"/>
            <a:ext cx="3962160" cy="106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Impact"/>
              </a:rPr>
              <a:t>Nucleus near cel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Differences between plant cells and anim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11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Micro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Impact"/>
              </a:rPr>
              <a:t>Instrument for observing small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na0826" descr=""/>
          <p:cNvPicPr/>
          <p:nvPr/>
        </p:nvPicPr>
        <p:blipFill>
          <a:blip r:embed="rId2"/>
          <a:stretch/>
        </p:blipFill>
        <p:spPr>
          <a:xfrm>
            <a:off x="4572000" y="1917720"/>
            <a:ext cx="4267080" cy="410220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Impact"/>
              </a:rPr>
              <a:t>Different parts of a microscop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11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03.21" descr=""/>
          <p:cNvPicPr/>
          <p:nvPr/>
        </p:nvPicPr>
        <p:blipFill>
          <a:blip r:embed="rId2"/>
          <a:stretch/>
        </p:blipFill>
        <p:spPr>
          <a:xfrm>
            <a:off x="2924280" y="1219320"/>
            <a:ext cx="3251160" cy="55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84" name=""/>
          <p:cNvGrpSpPr/>
          <p:nvPr/>
        </p:nvGrpSpPr>
        <p:grpSpPr>
          <a:xfrm>
            <a:off x="5057640" y="1447920"/>
            <a:ext cx="3143520" cy="947160"/>
            <a:chOff x="5057640" y="1447920"/>
            <a:chExt cx="3143520" cy="947160"/>
          </a:xfrm>
        </p:grpSpPr>
        <p:sp>
          <p:nvSpPr>
            <p:cNvPr id="285" name=""/>
            <p:cNvSpPr/>
            <p:nvPr/>
          </p:nvSpPr>
          <p:spPr>
            <a:xfrm>
              <a:off x="6629400" y="1447920"/>
              <a:ext cx="1571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Eyepie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57640" y="1676520"/>
              <a:ext cx="16002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362560" y="3244680"/>
            <a:ext cx="3857760" cy="947160"/>
            <a:chOff x="5362560" y="3244680"/>
            <a:chExt cx="3857760" cy="947160"/>
          </a:xfrm>
        </p:grpSpPr>
        <p:sp>
          <p:nvSpPr>
            <p:cNvPr id="288" name=""/>
            <p:cNvSpPr/>
            <p:nvPr/>
          </p:nvSpPr>
          <p:spPr>
            <a:xfrm>
              <a:off x="6629400" y="324468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Fine adjust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62560" y="3581280"/>
              <a:ext cx="12668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772240" y="3886200"/>
            <a:ext cx="2457000" cy="520560"/>
            <a:chOff x="5772240" y="3886200"/>
            <a:chExt cx="2457000" cy="520560"/>
          </a:xfrm>
        </p:grpSpPr>
        <p:sp>
          <p:nvSpPr>
            <p:cNvPr id="291" name=""/>
            <p:cNvSpPr/>
            <p:nvPr/>
          </p:nvSpPr>
          <p:spPr>
            <a:xfrm>
              <a:off x="6657840" y="3886200"/>
              <a:ext cx="157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Ar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72240" y="4114800"/>
              <a:ext cx="8856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133960" y="4495680"/>
            <a:ext cx="3067200" cy="520560"/>
            <a:chOff x="5133960" y="4495680"/>
            <a:chExt cx="3067200" cy="520560"/>
          </a:xfrm>
        </p:grpSpPr>
        <p:sp>
          <p:nvSpPr>
            <p:cNvPr id="294" name=""/>
            <p:cNvSpPr/>
            <p:nvPr/>
          </p:nvSpPr>
          <p:spPr>
            <a:xfrm>
              <a:off x="6629400" y="4495680"/>
              <a:ext cx="15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Sta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33960" y="4724280"/>
              <a:ext cx="1495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362560" y="5029200"/>
            <a:ext cx="3753000" cy="947160"/>
            <a:chOff x="5362560" y="5029200"/>
            <a:chExt cx="3753000" cy="947160"/>
          </a:xfrm>
        </p:grpSpPr>
        <p:sp>
          <p:nvSpPr>
            <p:cNvPr id="297" name=""/>
            <p:cNvSpPr/>
            <p:nvPr/>
          </p:nvSpPr>
          <p:spPr>
            <a:xfrm>
              <a:off x="6629400" y="5029200"/>
              <a:ext cx="248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Condenser control kno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62560" y="5486400"/>
              <a:ext cx="12193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753080" y="6019920"/>
            <a:ext cx="2990880" cy="520560"/>
            <a:chOff x="4753080" y="6019920"/>
            <a:chExt cx="2990880" cy="520560"/>
          </a:xfrm>
        </p:grpSpPr>
        <p:sp>
          <p:nvSpPr>
            <p:cNvPr id="300" name=""/>
            <p:cNvSpPr/>
            <p:nvPr/>
          </p:nvSpPr>
          <p:spPr>
            <a:xfrm>
              <a:off x="6629400" y="6019920"/>
              <a:ext cx="111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53080" y="6248520"/>
              <a:ext cx="18763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829040" y="1981080"/>
            <a:ext cx="3905280" cy="914040"/>
            <a:chOff x="4829040" y="1981080"/>
            <a:chExt cx="3905280" cy="914040"/>
          </a:xfrm>
        </p:grpSpPr>
        <p:sp>
          <p:nvSpPr>
            <p:cNvPr id="303" name=""/>
            <p:cNvSpPr/>
            <p:nvPr/>
          </p:nvSpPr>
          <p:spPr>
            <a:xfrm>
              <a:off x="6629400" y="1981080"/>
              <a:ext cx="21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Body tub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4829040" y="2209320"/>
              <a:ext cx="1800360" cy="685800"/>
              <a:chOff x="4829040" y="2209320"/>
              <a:chExt cx="1800360" cy="68580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4829040" y="2209320"/>
                <a:ext cx="1114560" cy="6858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943600" y="2209680"/>
                <a:ext cx="68580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362560" y="2406600"/>
            <a:ext cx="3247920" cy="1373760"/>
            <a:chOff x="5362560" y="2406600"/>
            <a:chExt cx="3247920" cy="1373760"/>
          </a:xfrm>
        </p:grpSpPr>
        <p:sp>
          <p:nvSpPr>
            <p:cNvPr id="308" name=""/>
            <p:cNvSpPr/>
            <p:nvPr/>
          </p:nvSpPr>
          <p:spPr>
            <a:xfrm>
              <a:off x="6629400" y="2406600"/>
              <a:ext cx="1981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Course adjust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5362560" y="2895120"/>
              <a:ext cx="1266840" cy="228600"/>
              <a:chOff x="5362560" y="2895120"/>
              <a:chExt cx="1266840" cy="228600"/>
            </a:xfrm>
          </p:grpSpPr>
          <p:sp>
            <p:nvSpPr>
              <p:cNvPr id="310" name=""/>
              <p:cNvSpPr/>
              <p:nvPr/>
            </p:nvSpPr>
            <p:spPr>
              <a:xfrm flipV="1">
                <a:off x="5362560" y="2895120"/>
                <a:ext cx="733320" cy="2286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095880" y="2895480"/>
                <a:ext cx="5335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304920" y="4662360"/>
            <a:ext cx="3809880" cy="947160"/>
            <a:chOff x="304920" y="4662360"/>
            <a:chExt cx="3809880" cy="947160"/>
          </a:xfrm>
        </p:grpSpPr>
        <p:sp>
          <p:nvSpPr>
            <p:cNvPr id="313" name=""/>
            <p:cNvSpPr/>
            <p:nvPr/>
          </p:nvSpPr>
          <p:spPr>
            <a:xfrm>
              <a:off x="2590920" y="4952880"/>
              <a:ext cx="15238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4920" y="4662360"/>
              <a:ext cx="236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Iris diaphrag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33360" y="1235160"/>
            <a:ext cx="3933720" cy="1965240"/>
            <a:chOff x="333360" y="1235160"/>
            <a:chExt cx="3933720" cy="1965240"/>
          </a:xfrm>
        </p:grpSpPr>
        <p:sp>
          <p:nvSpPr>
            <p:cNvPr id="316" name=""/>
            <p:cNvSpPr/>
            <p:nvPr/>
          </p:nvSpPr>
          <p:spPr>
            <a:xfrm>
              <a:off x="333360" y="1235160"/>
              <a:ext cx="210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Revolving nosepie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2133720" y="1676520"/>
              <a:ext cx="2133360" cy="1523880"/>
              <a:chOff x="2133720" y="1676520"/>
              <a:chExt cx="2133360" cy="1523880"/>
            </a:xfrm>
          </p:grpSpPr>
          <p:sp>
            <p:nvSpPr>
              <p:cNvPr id="318" name=""/>
              <p:cNvSpPr/>
              <p:nvPr/>
            </p:nvSpPr>
            <p:spPr>
              <a:xfrm>
                <a:off x="2590920" y="1676520"/>
                <a:ext cx="1676160" cy="15238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1676520"/>
                <a:ext cx="45720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228600" y="2286000"/>
            <a:ext cx="3733920" cy="1143000"/>
            <a:chOff x="228600" y="2286000"/>
            <a:chExt cx="3733920" cy="1143000"/>
          </a:xfrm>
        </p:grpSpPr>
        <p:sp>
          <p:nvSpPr>
            <p:cNvPr id="321" name=""/>
            <p:cNvSpPr/>
            <p:nvPr/>
          </p:nvSpPr>
          <p:spPr>
            <a:xfrm>
              <a:off x="228600" y="22860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Objecti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828800" y="2590920"/>
              <a:ext cx="2133720" cy="838080"/>
              <a:chOff x="1828800" y="2590920"/>
              <a:chExt cx="2133720" cy="838080"/>
            </a:xfrm>
          </p:grpSpPr>
          <p:sp>
            <p:nvSpPr>
              <p:cNvPr id="323" name=""/>
              <p:cNvSpPr/>
              <p:nvPr/>
            </p:nvSpPr>
            <p:spPr>
              <a:xfrm>
                <a:off x="2438280" y="2590920"/>
                <a:ext cx="1524240" cy="8380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28800" y="2590920"/>
                <a:ext cx="60948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28600" y="3200400"/>
            <a:ext cx="4038480" cy="1066680"/>
            <a:chOff x="228600" y="3200400"/>
            <a:chExt cx="4038480" cy="1066680"/>
          </a:xfrm>
        </p:grpSpPr>
        <p:sp>
          <p:nvSpPr>
            <p:cNvPr id="326" name=""/>
            <p:cNvSpPr/>
            <p:nvPr/>
          </p:nvSpPr>
          <p:spPr>
            <a:xfrm>
              <a:off x="228600" y="32004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Cli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066680" y="3429000"/>
              <a:ext cx="3200400" cy="838080"/>
              <a:chOff x="1066680" y="3429000"/>
              <a:chExt cx="320040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1676520" y="3429000"/>
                <a:ext cx="2590560" cy="8380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66680" y="3429000"/>
                <a:ext cx="60984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04920" y="4038480"/>
            <a:ext cx="3809880" cy="947160"/>
            <a:chOff x="304920" y="4038480"/>
            <a:chExt cx="3809880" cy="947160"/>
          </a:xfrm>
        </p:grpSpPr>
        <p:sp>
          <p:nvSpPr>
            <p:cNvPr id="331" name=""/>
            <p:cNvSpPr/>
            <p:nvPr/>
          </p:nvSpPr>
          <p:spPr>
            <a:xfrm>
              <a:off x="304920" y="4038480"/>
              <a:ext cx="190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Condens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2057400" y="4343400"/>
              <a:ext cx="2057400" cy="457200"/>
              <a:chOff x="2057400" y="4343400"/>
              <a:chExt cx="2057400" cy="457200"/>
            </a:xfrm>
          </p:grpSpPr>
          <p:sp>
            <p:nvSpPr>
              <p:cNvPr id="333" name=""/>
              <p:cNvSpPr/>
              <p:nvPr/>
            </p:nvSpPr>
            <p:spPr>
              <a:xfrm>
                <a:off x="2743200" y="4343400"/>
                <a:ext cx="1371600" cy="457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57400" y="4343400"/>
                <a:ext cx="68580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304920" y="5334120"/>
            <a:ext cx="3886200" cy="596520"/>
            <a:chOff x="304920" y="5334120"/>
            <a:chExt cx="3886200" cy="596520"/>
          </a:xfrm>
        </p:grpSpPr>
        <p:sp>
          <p:nvSpPr>
            <p:cNvPr id="336" name=""/>
            <p:cNvSpPr/>
            <p:nvPr/>
          </p:nvSpPr>
          <p:spPr>
            <a:xfrm>
              <a:off x="304920" y="5410080"/>
              <a:ext cx="157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Impact"/>
                </a:rPr>
                <a:t>Mirr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523880" y="5334120"/>
              <a:ext cx="2667240" cy="380880"/>
              <a:chOff x="1523880" y="5334120"/>
              <a:chExt cx="2667240" cy="380880"/>
            </a:xfrm>
          </p:grpSpPr>
          <p:sp>
            <p:nvSpPr>
              <p:cNvPr id="338" name=""/>
              <p:cNvSpPr/>
              <p:nvPr/>
            </p:nvSpPr>
            <p:spPr>
              <a:xfrm flipV="1">
                <a:off x="2209680" y="5334120"/>
                <a:ext cx="1981440" cy="3808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23880" y="5715000"/>
                <a:ext cx="7621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The cell as the basic unit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cc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cc00ff"/>
                </a:solidFill>
                <a:latin typeface="Impact"/>
              </a:rPr>
              <a:t>Cell is the smallest unit of living organis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3399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9933"/>
                </a:solidFill>
                <a:latin typeface="Impact"/>
              </a:rPr>
              <a:t>Unicellular organisms are made of one cell on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cc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cc3300"/>
                </a:solidFill>
                <a:latin typeface="Impact"/>
              </a:rPr>
              <a:t>The cells of multicellular organisms are specialized to perform different fun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cc"/>
                </a:solidFill>
                <a:latin typeface="Impact"/>
              </a:rPr>
              <a:t>e.g. mesophyll cells for photosynthesis    and root hair cells for water absorption</a:t>
            </a:r>
            <a:r>
              <a:rPr b="0" lang="zh-TW" sz="3400" spc="-1" strike="noStrike">
                <a:solidFill>
                  <a:srgbClr val="00cc99"/>
                </a:solidFill>
                <a:latin typeface="Impact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11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Impact"/>
              </a:rPr>
              <a:t>Cells are grouped together and work as a whole to perform special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1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1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2666520"/>
            <a:ext cx="5333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Made of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Impact"/>
              </a:rPr>
              <a:t>cellulose </a:t>
            </a: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which forms very thin fib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Impact"/>
              </a:rPr>
              <a:t>Strong and rig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In plant cells on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grpSp>
        <p:nvGrpSpPr>
          <p:cNvPr id="57" name=""/>
          <p:cNvGrpSpPr/>
          <p:nvPr/>
        </p:nvGrpSpPr>
        <p:grpSpPr>
          <a:xfrm>
            <a:off x="533520" y="1600200"/>
            <a:ext cx="5104800" cy="1143000"/>
            <a:chOff x="533520" y="1600200"/>
            <a:chExt cx="5104800" cy="1143000"/>
          </a:xfrm>
        </p:grpSpPr>
        <p:sp>
          <p:nvSpPr>
            <p:cNvPr id="58" name=""/>
            <p:cNvSpPr/>
            <p:nvPr/>
          </p:nvSpPr>
          <p:spPr>
            <a:xfrm>
              <a:off x="533520" y="1600200"/>
              <a:ext cx="2597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marL="209160" indent="-20916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Impac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Impact"/>
                </a:rPr>
                <a:t>Cell wal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2950920" y="1960560"/>
              <a:ext cx="2687400" cy="78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99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99ff"/>
                </a:solidFill>
                <a:latin typeface="Impact"/>
              </a:rPr>
              <a:t>A group of similar cells to perform a particular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cc"/>
                </a:solidFill>
                <a:latin typeface="Impact"/>
              </a:rPr>
              <a:t>Animals :</a:t>
            </a:r>
            <a:r>
              <a:rPr b="0" lang="zh-TW" sz="3600" spc="-1" strike="noStrike">
                <a:solidFill>
                  <a:srgbClr val="0000cc"/>
                </a:solidFill>
                <a:latin typeface="Impact"/>
              </a:rPr>
              <a:t> epithelial tissue, muscular t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cc"/>
                </a:solidFill>
                <a:latin typeface="Impact"/>
              </a:rPr>
              <a:t>Plants :</a:t>
            </a:r>
            <a:r>
              <a:rPr b="0" lang="zh-TW" sz="3600" spc="-1" strike="noStrike">
                <a:solidFill>
                  <a:srgbClr val="00cc99"/>
                </a:solidFill>
                <a:latin typeface="Impact"/>
              </a:rPr>
              <a:t>  </a:t>
            </a:r>
            <a:r>
              <a:rPr b="0" lang="zh-TW" sz="3600" spc="-1" strike="noStrike">
                <a:solidFill>
                  <a:srgbClr val="669900"/>
                </a:solidFill>
                <a:latin typeface="Impact"/>
              </a:rPr>
              <a:t>vascular tissue, mesophy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11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Org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6699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99ff"/>
                </a:solidFill>
                <a:latin typeface="Impact"/>
              </a:rPr>
              <a:t>Different  tissues group together to carry out specialized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99"/>
                </a:solidFill>
                <a:latin typeface="Impact"/>
              </a:rPr>
              <a:t>Heart :</a:t>
            </a:r>
            <a:r>
              <a:rPr b="0" lang="zh-TW" sz="3600" spc="-1" strike="noStrike">
                <a:solidFill>
                  <a:srgbClr val="00cc99"/>
                </a:solidFill>
                <a:latin typeface="Impact"/>
              </a:rPr>
              <a:t> </a:t>
            </a:r>
            <a:r>
              <a:rPr b="0" lang="zh-TW" sz="3600" spc="-1" strike="noStrike">
                <a:solidFill>
                  <a:srgbClr val="cc00ff"/>
                </a:solidFill>
                <a:latin typeface="Impact"/>
              </a:rPr>
              <a:t>consists of muscles, nervous  tissue and blood vess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99"/>
                </a:solidFill>
                <a:latin typeface="Impact"/>
              </a:rPr>
              <a:t>Leaf :</a:t>
            </a:r>
            <a:r>
              <a:rPr b="0" lang="zh-TW" sz="3600" spc="-1" strike="noStrike">
                <a:solidFill>
                  <a:srgbClr val="00cc99"/>
                </a:solidFill>
                <a:latin typeface="Impact"/>
              </a:rPr>
              <a:t> </a:t>
            </a:r>
            <a:r>
              <a:rPr b="0" lang="zh-TW" sz="3600" spc="-1" strike="noStrike">
                <a:solidFill>
                  <a:srgbClr val="0000cc"/>
                </a:solidFill>
                <a:latin typeface="Impact"/>
              </a:rPr>
              <a:t>consists of epidermis, mesophyll and vascular t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ANATM332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1133640" cy="1905120"/>
          </a:xfrm>
          <a:prstGeom prst="rect">
            <a:avLst/>
          </a:prstGeom>
          <a:ln w="0">
            <a:noFill/>
          </a:ln>
        </p:spPr>
      </p:pic>
      <p:pic>
        <p:nvPicPr>
          <p:cNvPr id="361" name="AD003069" descr=""/>
          <p:cNvPicPr/>
          <p:nvPr/>
        </p:nvPicPr>
        <p:blipFill>
          <a:blip r:embed="rId3"/>
          <a:stretch/>
        </p:blipFill>
        <p:spPr>
          <a:xfrm>
            <a:off x="7772400" y="3733920"/>
            <a:ext cx="1138320" cy="241596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4" name="11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609480" y="1676520"/>
          <a:ext cx="4515120" cy="45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6" name="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676520"/>
                    <a:ext cx="451512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 flipV="1">
            <a:off x="4572000" y="3505320"/>
            <a:ext cx="1143000" cy="3808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505320" y="4800600"/>
            <a:ext cx="2286000" cy="612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164040" y="5715000"/>
            <a:ext cx="2550960" cy="147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429000" y="1904760"/>
            <a:ext cx="2286000" cy="16002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48480" y="5486400"/>
            <a:ext cx="1746000" cy="4572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Impact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4648320"/>
            <a:ext cx="1870200" cy="4572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Impact"/>
              </a:rPr>
              <a:t>Ai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15000" y="3352680"/>
            <a:ext cx="2619360" cy="8384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00"/>
                </a:solidFill>
                <a:latin typeface="Impact"/>
              </a:rPr>
              <a:t>Spongy Mesophyl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48480" y="1676520"/>
            <a:ext cx="2057400" cy="4572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Impact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The Structures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99160" y="225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2286000"/>
            <a:ext cx="2619360" cy="838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00"/>
                </a:solidFill>
                <a:latin typeface="Impact"/>
              </a:rPr>
              <a:t>Palisade Mesophyl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876920" y="281916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7.1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The Structures of a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heartext" descr=""/>
          <p:cNvPicPr/>
          <p:nvPr/>
        </p:nvPicPr>
        <p:blipFill>
          <a:blip r:embed="rId2"/>
          <a:stretch/>
        </p:blipFill>
        <p:spPr>
          <a:xfrm>
            <a:off x="2079720" y="1981080"/>
            <a:ext cx="498456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9966ff"/>
                </a:solidFill>
                <a:latin typeface="Impact"/>
              </a:rPr>
              <a:t>Several organs and tissues work together                  to carry out a particular set of functions in a co-ordinated w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5092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Impact"/>
              </a:rPr>
              <a:t>Human :</a:t>
            </a:r>
            <a:r>
              <a:rPr b="0" lang="zh-TW" sz="3400" spc="-1" strike="noStrike">
                <a:solidFill>
                  <a:srgbClr val="00cc99"/>
                </a:solidFill>
                <a:latin typeface="Impact"/>
              </a:rPr>
              <a:t> </a:t>
            </a:r>
            <a:r>
              <a:rPr b="0" lang="zh-TW" sz="3400" spc="-1" strike="noStrike">
                <a:solidFill>
                  <a:srgbClr val="cc9900"/>
                </a:solidFill>
                <a:latin typeface="Impact"/>
              </a:rPr>
              <a:t>digestive, respiratory, excretory, circulatory and reproductive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5092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Impact"/>
              </a:rPr>
              <a:t>Plant :</a:t>
            </a:r>
            <a:r>
              <a:rPr b="0" lang="zh-TW" sz="3400" spc="-1" strike="noStrike">
                <a:solidFill>
                  <a:srgbClr val="00cc99"/>
                </a:solidFill>
                <a:latin typeface="Impact"/>
              </a:rPr>
              <a:t> </a:t>
            </a:r>
            <a:r>
              <a:rPr b="0" lang="zh-TW" sz="3400" spc="-1" strike="noStrike">
                <a:solidFill>
                  <a:srgbClr val="669900"/>
                </a:solidFill>
                <a:latin typeface="Impact"/>
              </a:rPr>
              <a:t>root and shoot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NA1252" descr=""/>
          <p:cNvPicPr/>
          <p:nvPr/>
        </p:nvPicPr>
        <p:blipFill>
          <a:blip r:embed="rId2"/>
          <a:stretch/>
        </p:blipFill>
        <p:spPr>
          <a:xfrm>
            <a:off x="1066680" y="4800600"/>
            <a:ext cx="1981440" cy="1909800"/>
          </a:xfrm>
          <a:prstGeom prst="rect">
            <a:avLst/>
          </a:prstGeom>
          <a:ln w="0">
            <a:noFill/>
          </a:ln>
        </p:spPr>
      </p:pic>
      <p:pic>
        <p:nvPicPr>
          <p:cNvPr id="387" name="NA1253" descr=""/>
          <p:cNvPicPr/>
          <p:nvPr/>
        </p:nvPicPr>
        <p:blipFill>
          <a:blip r:embed="rId3"/>
          <a:stretch/>
        </p:blipFill>
        <p:spPr>
          <a:xfrm>
            <a:off x="3505320" y="482616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388" name="NA1254" descr=""/>
          <p:cNvPicPr/>
          <p:nvPr/>
        </p:nvPicPr>
        <p:blipFill>
          <a:blip r:embed="rId4"/>
          <a:stretch/>
        </p:blipFill>
        <p:spPr>
          <a:xfrm>
            <a:off x="5943600" y="4794120"/>
            <a:ext cx="1981080" cy="1911600"/>
          </a:xfrm>
          <a:prstGeom prst="rect">
            <a:avLst/>
          </a:prstGeom>
          <a:ln w="0">
            <a:noFill/>
          </a:ln>
        </p:spPr>
      </p:pic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5" name="11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System in our bod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cc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Impact"/>
              </a:rPr>
              <a:t>examples of system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cc00"/>
              </a:buClr>
              <a:buSzPct val="85000"/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Impact"/>
              </a:rPr>
              <a:t>Digestiv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33cc"/>
              </a:buClr>
              <a:buSzPct val="85000"/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Impact"/>
              </a:rPr>
              <a:t>Respirat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99cc00"/>
              </a:buClr>
              <a:buSzPct val="85000"/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Impact"/>
              </a:rPr>
              <a:t>Circulat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6699ff"/>
              </a:buClr>
              <a:buSzPct val="85000"/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Impact"/>
              </a:rPr>
              <a:t>Nervous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9966ff"/>
              </a:buClr>
              <a:buSzPct val="85000"/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Impact"/>
              </a:rPr>
              <a:t>Reproductiv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11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digest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502920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828800" y="1219320"/>
          <a:ext cx="5486400" cy="53337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219320"/>
                    <a:ext cx="5486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</a:rPr>
              <a:t>The Circulator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cir21" descr=""/>
          <p:cNvPicPr/>
          <p:nvPr/>
        </p:nvPicPr>
        <p:blipFill>
          <a:blip r:embed="rId2"/>
          <a:stretch/>
        </p:blipFill>
        <p:spPr>
          <a:xfrm>
            <a:off x="1763640" y="1447920"/>
            <a:ext cx="561672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</a:rPr>
              <a:t>The 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722680" y="1981080"/>
          <a:ext cx="36986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2680" y="1981080"/>
                    <a:ext cx="3698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438280"/>
            <a:ext cx="4876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542880" indent="-36216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Impact"/>
              </a:rPr>
              <a:t>Protect and support the enclosed substances (protoplasm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362160">
              <a:lnSpc>
                <a:spcPct val="100000"/>
              </a:lnSpc>
              <a:spcBef>
                <a:spcPts val="850"/>
              </a:spcBef>
              <a:buClr>
                <a:srgbClr val="0066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Impact"/>
              </a:rPr>
              <a:t>Resist entry of </a:t>
            </a:r>
            <a:r>
              <a:rPr b="0" lang="en-US" sz="3400" spc="-1" strike="noStrike" u="sng">
                <a:solidFill>
                  <a:srgbClr val="0066ff"/>
                </a:solidFill>
                <a:uFillTx/>
                <a:latin typeface="Impact"/>
              </a:rPr>
              <a:t>excess </a:t>
            </a:r>
            <a:r>
              <a:rPr b="0" lang="en-US" sz="3400" spc="-1" strike="noStrike">
                <a:solidFill>
                  <a:srgbClr val="0066ff"/>
                </a:solidFill>
                <a:latin typeface="Impact"/>
              </a:rPr>
              <a:t>water into the ce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362160">
              <a:lnSpc>
                <a:spcPct val="100000"/>
              </a:lnSpc>
              <a:spcBef>
                <a:spcPts val="850"/>
              </a:spcBef>
              <a:buClr>
                <a:srgbClr val="ffcc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Impact"/>
              </a:rPr>
              <a:t>Give shape to the ce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33520" y="1600200"/>
            <a:ext cx="259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950920" y="1960560"/>
            <a:ext cx="2687400" cy="78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99ff"/>
                </a:solidFill>
                <a:latin typeface="Times New Roman"/>
              </a:rPr>
              <a:t>Male Reproductiv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male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449568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Female Reproductiv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female" descr=""/>
          <p:cNvPicPr/>
          <p:nvPr/>
        </p:nvPicPr>
        <p:blipFill>
          <a:blip r:embed="rId2"/>
          <a:stretch/>
        </p:blipFill>
        <p:spPr>
          <a:xfrm>
            <a:off x="685800" y="2195640"/>
            <a:ext cx="7772400" cy="3686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1066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Level o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Impact"/>
              </a:rPr>
              <a:t>cells  </a:t>
            </a:r>
            <a:r>
              <a:rPr b="0" lang="zh-TW" sz="3600" spc="-1" strike="noStrike">
                <a:solidFill>
                  <a:srgbClr val="ff33cc"/>
                </a:solidFill>
                <a:latin typeface="Impact"/>
              </a:rPr>
              <a:t>(e.g. muscle cells,  ner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cc"/>
                </a:solidFill>
                <a:latin typeface="Impact"/>
              </a:rPr>
              <a:t>                            </a:t>
            </a:r>
            <a:r>
              <a:rPr b="0" lang="zh-TW" sz="3600" spc="-1" strike="noStrike">
                <a:solidFill>
                  <a:srgbClr val="ff33cc"/>
                </a:solidFill>
                <a:latin typeface="Impact"/>
              </a:rPr>
              <a:t>cel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990099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99"/>
                </a:solidFill>
                <a:latin typeface="Impact"/>
              </a:rPr>
              <a:t>tissues  </a:t>
            </a:r>
            <a:r>
              <a:rPr b="0" lang="zh-TW" sz="3600" spc="-1" strike="noStrike">
                <a:solidFill>
                  <a:srgbClr val="3399ff"/>
                </a:solidFill>
                <a:latin typeface="Impact"/>
              </a:rPr>
              <a:t>(e.g. muscle, epitheli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Impact"/>
              </a:rPr>
              <a:t>organs  </a:t>
            </a:r>
            <a:r>
              <a:rPr b="0" lang="zh-TW" sz="3600" spc="-1" strike="noStrike">
                <a:solidFill>
                  <a:srgbClr val="ff33cc"/>
                </a:solidFill>
                <a:latin typeface="Impact"/>
              </a:rPr>
              <a:t>(e.g. heart, lungs, stom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990099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99"/>
                </a:solidFill>
                <a:latin typeface="Impact"/>
              </a:rPr>
              <a:t>systems  </a:t>
            </a:r>
            <a:r>
              <a:rPr b="0" lang="zh-TW" sz="3600" spc="-1" strike="noStrike">
                <a:solidFill>
                  <a:srgbClr val="3399ff"/>
                </a:solidFill>
                <a:latin typeface="Impact"/>
              </a:rPr>
              <a:t>(e.g. circulatory syste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Impact"/>
              </a:rPr>
              <a:t>organisms </a:t>
            </a:r>
            <a:r>
              <a:rPr b="0" lang="zh-TW" sz="3600" spc="-1" strike="noStrike">
                <a:solidFill>
                  <a:srgbClr val="ff33cc"/>
                </a:solidFill>
                <a:latin typeface="Impact"/>
              </a:rPr>
              <a:t> (e.g. man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11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Times New Roman"/>
              </a:rPr>
              <a:t>It’s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title" descr=""/>
          <p:cNvPicPr/>
          <p:nvPr/>
        </p:nvPicPr>
        <p:blipFill>
          <a:blip r:embed="rId2"/>
          <a:stretch/>
        </p:blipFill>
        <p:spPr>
          <a:xfrm>
            <a:off x="1809720" y="1981080"/>
            <a:ext cx="552456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181080" y="1828800"/>
            <a:ext cx="9267840" cy="4208040"/>
            <a:chOff x="181080" y="1828800"/>
            <a:chExt cx="9267840" cy="420804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181080" y="1828800"/>
              <a:ext cx="3705480" cy="34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3200760" y="2286000"/>
              <a:ext cx="624816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0" spc="-1" strike="noStrike">
                  <a:solidFill>
                    <a:srgbClr val="0000ff"/>
                  </a:solidFill>
                  <a:latin typeface="Impact"/>
                </a:rPr>
                <a:t>   </a:t>
              </a:r>
              <a:r>
                <a:rPr b="0" lang="en-GB" sz="12000" spc="-1" strike="noStrike">
                  <a:solidFill>
                    <a:srgbClr val="0000ff"/>
                  </a:solidFill>
                  <a:latin typeface="Impact"/>
                </a:rPr>
                <a:t>~ </a:t>
              </a:r>
              <a:r>
                <a:rPr b="0" lang="en-GB" sz="6000" spc="-1" strike="noStrike">
                  <a:solidFill>
                    <a:srgbClr val="0000ff"/>
                  </a:solidFill>
                  <a:latin typeface="Impact"/>
                </a:rPr>
                <a:t> </a:t>
              </a:r>
              <a:r>
                <a:rPr b="0" lang="en-GB" sz="12000" spc="-1" strike="noStrike">
                  <a:solidFill>
                    <a:srgbClr val="0000ff"/>
                  </a:solidFill>
                  <a:latin typeface="Impact"/>
                </a:rPr>
                <a:t>END</a:t>
              </a:r>
              <a:r>
                <a:rPr b="0" lang="en-GB" sz="6000" spc="-1" strike="noStrike">
                  <a:solidFill>
                    <a:srgbClr val="0000ff"/>
                  </a:solidFill>
                  <a:latin typeface="Impact"/>
                </a:rPr>
                <a:t>  </a:t>
              </a:r>
              <a:r>
                <a:rPr b="0" lang="en-GB" sz="12000" spc="-1" strike="noStrike">
                  <a:solidFill>
                    <a:srgbClr val="0000ff"/>
                  </a:solidFill>
                  <a:latin typeface="Impact"/>
                </a:rPr>
                <a:t>~</a:t>
              </a:r>
              <a:endParaRPr b="0" lang="en-US" sz="1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2514600"/>
            <a:ext cx="44193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440280" indent="-2671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ff66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Impact"/>
              </a:rPr>
              <a:t>A dead 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0280" indent="-2671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Impact"/>
              </a:rPr>
              <a:t>Large empty spaces present between cellulose fib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0280" indent="-2671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99"/>
                </a:solidFill>
                <a:latin typeface="Symbol"/>
                <a:ea typeface="Symbol"/>
              </a:rPr>
              <a:t></a:t>
            </a: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freely perme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685800" y="1600200"/>
            <a:ext cx="2519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032280" y="1960560"/>
            <a:ext cx="2606400" cy="78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71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228600" y="2819520"/>
            <a:ext cx="5257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84200" indent="-293760">
              <a:lnSpc>
                <a:spcPct val="100000"/>
              </a:lnSpc>
              <a:spcBef>
                <a:spcPts val="901"/>
              </a:spcBef>
              <a:buClr>
                <a:srgbClr val="6600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Impact"/>
              </a:rPr>
              <a:t>Lies immediately against the cell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2937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Impact"/>
              </a:rPr>
              <a:t>Made of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Impact"/>
              </a:rPr>
              <a:t>protein</a:t>
            </a:r>
            <a:r>
              <a:rPr b="0" lang="en-US" sz="3600" spc="-1" strike="noStrike">
                <a:solidFill>
                  <a:srgbClr val="ffcc00"/>
                </a:solidFill>
                <a:latin typeface="Impact"/>
              </a:rPr>
              <a:t> and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Impact"/>
              </a:rPr>
              <a:t>lipid</a:t>
            </a:r>
            <a:r>
              <a:rPr b="0" lang="en-US" sz="3600" spc="-1" strike="noStrike">
                <a:solidFill>
                  <a:srgbClr val="ffcc00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</a:t>
            </a:r>
            <a:r>
              <a:rPr b="0" lang="en-US" sz="3600" spc="-1" strike="noStrike">
                <a:solidFill>
                  <a:srgbClr val="ff66ff"/>
                </a:solidFill>
                <a:latin typeface="Impact"/>
              </a:rPr>
              <a:t>Selectively perme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0880" y="1905120"/>
            <a:ext cx="5257440" cy="914400"/>
            <a:chOff x="380880" y="1905120"/>
            <a:chExt cx="5257440" cy="914400"/>
          </a:xfrm>
        </p:grpSpPr>
        <p:sp>
          <p:nvSpPr>
            <p:cNvPr id="82" name=""/>
            <p:cNvSpPr/>
            <p:nvPr/>
          </p:nvSpPr>
          <p:spPr>
            <a:xfrm>
              <a:off x="380880" y="1905120"/>
              <a:ext cx="4038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Impac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Impact"/>
                </a:rPr>
                <a:t>Cell membran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4190760" y="2286000"/>
              <a:ext cx="1447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2743200"/>
            <a:ext cx="4572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84200" indent="-29376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Impact"/>
              </a:rPr>
              <a:t>A living 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29376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Impact"/>
              </a:rPr>
              <a:t>Can control the movement of materials into and out of th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2937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80880" y="190512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ell membr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190760" y="2286000"/>
            <a:ext cx="14475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1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28600" y="2514600"/>
            <a:ext cx="5105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537120" indent="-261000">
              <a:lnSpc>
                <a:spcPct val="100000"/>
              </a:lnSpc>
              <a:spcBef>
                <a:spcPts val="901"/>
              </a:spcBef>
              <a:buClr>
                <a:srgbClr val="6600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Impact"/>
              </a:rPr>
              <a:t>Jelly-like substance enclosed by cell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610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Impact"/>
              </a:rPr>
              <a:t>Provide a medium for chemical reactions to take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57200" y="1752480"/>
            <a:ext cx="5943240" cy="1219320"/>
            <a:chOff x="457200" y="1752480"/>
            <a:chExt cx="5943240" cy="1219320"/>
          </a:xfrm>
        </p:grpSpPr>
        <p:sp>
          <p:nvSpPr>
            <p:cNvPr id="99" name=""/>
            <p:cNvSpPr/>
            <p:nvPr/>
          </p:nvSpPr>
          <p:spPr>
            <a:xfrm>
              <a:off x="457200" y="1752480"/>
              <a:ext cx="3124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Impac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Impact"/>
                </a:rPr>
                <a:t>Cytoplas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3428640" y="2133720"/>
              <a:ext cx="29718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2895480"/>
            <a:ext cx="51051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554400" indent="-269280">
              <a:lnSpc>
                <a:spcPct val="100000"/>
              </a:lnSpc>
              <a:spcBef>
                <a:spcPts val="901"/>
              </a:spcBef>
              <a:buClr>
                <a:srgbClr val="6666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Impact"/>
              </a:rPr>
              <a:t>Contains organelles and granules 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9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e.g. chloroplast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9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Impact"/>
              </a:rPr>
              <a:t>e.g. mitochondr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lant%20cell" descr=""/>
          <p:cNvPicPr/>
          <p:nvPr/>
        </p:nvPicPr>
        <p:blipFill>
          <a:blip r:embed="rId2"/>
          <a:stretch/>
        </p:blipFill>
        <p:spPr>
          <a:xfrm>
            <a:off x="5421240" y="1752480"/>
            <a:ext cx="3417840" cy="43434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33520" y="205740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ytopla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504960" y="2437920"/>
            <a:ext cx="2971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1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11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0T01:40:41Z</dcterms:created>
  <dc:creator>Terry</dc:creator>
  <dc:description/>
  <dc:language>en-US</dc:language>
  <cp:lastModifiedBy>tc005</cp:lastModifiedBy>
  <dcterms:modified xsi:type="dcterms:W3CDTF">2000-10-11T04:16:40Z</dcterms:modified>
  <cp:revision>38</cp:revision>
  <dc:subject/>
  <dc:title>Chapter 3 The Basic Structure of a Cell</dc:title>
</cp:coreProperties>
</file>