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Gareth%20Gates%20-%20Anyone%20Of%20Us.wav" ContentType="audio/x-wav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4.png" ContentType="image/png"/>
  <Override PartName="/ppt/media/image1.png" ContentType="image/png"/>
  <Override PartName="/ppt/media/image21.gif" ContentType="image/gif"/>
  <Override PartName="/ppt/media/image2.jpeg" ContentType="image/jpe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E4B-4A2E-46A1-8D1A-7F812D81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CE2-6C3E-41F3-842A-1D61229C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CA2-A9E4-4ECA-8AEA-7F280F14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275-4526-454E-81A9-0EA30C66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5E7-AD2B-4D15-B4A4-1F78E449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2EF-165C-4121-9755-421C838F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741-49CA-4098-ABE7-7BC4B3F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BAD-FEB4-4925-AA19-2D3F3502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D1E-4757-4597-AC16-2A8BBE1B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F70-04D7-49CD-8FF1-750090D1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2F1-5741-4DF6-A2E8-BF10CBAB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EF5-AB97-4A37-87FF-92343A92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28DF-F32A-4A5A-B77C-15C395511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Gareth%20Gates%20-%20Anyone%20Of%20Us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632720" cy="143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800000"/>
                </a:solidFill>
                <a:latin typeface="Arial"/>
              </a:rPr>
              <a:t>Anyone Of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800000"/>
                </a:solidFill>
                <a:latin typeface="Arial"/>
              </a:rPr>
              <a:t>(Gareth G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-12600" y="6388200"/>
            <a:ext cx="9156600" cy="469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4360" y="2133720"/>
            <a:ext cx="777528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indefinite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Onrustig dans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een nachtvlinder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er omhee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Hoopvol wachten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tot haar blaadj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zich openvouwen in het vale morgenlicht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en de sierlijke danser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haar zoete nectar proeven k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en diepe stilte omsluiert het ogenblik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ot een innig gebeuren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waarin een bloem en een vlinde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lkaar liefhebben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oms ontmoet je een me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bij wie je mag zij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zoals je bent: onzeker en klein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Iemand bij wie je veiligheid vind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en weet, dat je, ondanks je fouten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toch wordt bemind.</a:t>
            </a: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Als het nacht wordt in je leven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   doet dat vaak heel pijn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Maar bedenk, al is het maar voor even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   ergens zal een lichtpunt zijn.</a:t>
            </a:r>
            <a:r>
              <a:rPr b="0" lang="en-US" sz="20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Kijk niet naar de teleurstellingen van gistere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Maar leef naar de dromen van mor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"Dat is het vreemde aan geluk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 je maakt het waar of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je maakt het stuk."</a:t>
            </a: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-12600" y="6388200"/>
            <a:ext cx="915660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84360" y="692280"/>
            <a:ext cx="2504880" cy="70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908000" y="566100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Wees een zonnestra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je medemensen hebben er behoefte 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Bekijk jezelf eer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oor de ogen van een ander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voordat je een and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met je eigen og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bekij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"Vriendschap ontstaat v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uit een ontmoeting waarvan niemand ver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dat er een wonder zal gebeuren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g vreemde 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k zie hem daar door de velden l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en zeg tegen mezel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"Wie is die man daar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k loop naar hem toe en vra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"Wie ben jij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Hij z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"Ik ben één van je beste vrienden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Geniet, en laat je meestromen op gel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Geniet, zelfs van de kleine 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en je dag kan niet meer st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Geniet, geef een stralende gliml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Geniet! En pluk de da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Handwriting"/>
              </a:rPr>
              <a:t>Dromen komen pas uit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Handwriting"/>
              </a:rPr>
              <a:t>als je wakker wordt!</a:t>
            </a: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De belangrijkste ingredië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om het heerlijke gere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"Liefde" te kunnen bereid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zijn achting en vriendsch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Verlangen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een bloem die langzaam  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open bloeit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naar het momen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waarop de zon haar zachtje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in het licht wieg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17:59:06Z</dcterms:created>
  <dc:creator>socool</dc:creator>
  <dc:description/>
  <dc:language>en-US</dc:language>
  <cp:lastModifiedBy>Smets</cp:lastModifiedBy>
  <dcterms:modified xsi:type="dcterms:W3CDTF">2008-08-25T19:30:48Z</dcterms:modified>
  <cp:revision>5</cp:revision>
  <dc:subject/>
  <dc:title>Dia 1</dc:title>
</cp:coreProperties>
</file>