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0A8-4F18-4017-8953-92E6198C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93D-0BFE-45C1-80F6-5082015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B72-B071-44ED-8BA8-5A3BF0A6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5ED-BF9C-44A7-B402-33BC2B1D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81E-C0DE-44FC-B0D2-40EB96F7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8C2-9EF8-4D27-8E0A-1CF09A0A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C68-6F08-47C0-B5C1-D84D78D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AD3-DD25-4A77-9702-E769164C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216-1DE0-49B8-9BAF-C651289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650-55C4-46C3-80FC-8EB784A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7AA-7515-420A-B111-306E899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F2C-78FF-4333-958C-CA353B6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66ADF-77CD-4DB9-90E8-B1FB3F32A0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DEA6B-AFB4-48B6-8EBF-2AA03E8E8BF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2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"/><Relationship Id="rId13" Type="http://schemas.openxmlformats.org/officeDocument/2006/relationships/image" Target="../media/image3.png"/><Relationship Id="rId14" Type="http://schemas.openxmlformats.org/officeDocument/2006/relationships/slide" Target="slide5.xml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59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7">
              <a:hlinkClick r:id="rId3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2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5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8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1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20" descr=""/>
          <p:cNvPicPr/>
          <p:nvPr/>
        </p:nvPicPr>
        <p:blipFill>
          <a:blip r:embed="rId15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6:41:34Z</dcterms:created>
  <dc:creator>최봉수</dc:creator>
  <dc:description/>
  <dc:language>en-US</dc:language>
  <cp:lastModifiedBy>맛있다 군만두</cp:lastModifiedBy>
  <dcterms:modified xsi:type="dcterms:W3CDTF">2023-07-13T06:55:43Z</dcterms:modified>
  <cp:revision>4</cp:revision>
  <dc:subject/>
  <dc:title>슬라이드 1</dc:title>
</cp:coreProperties>
</file>