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104-0DCC-4DC3-8166-F2CFAE34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EC2-49D2-4C4C-A8FD-815AFDC7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441-ACC9-4D56-ACCF-21ADD8F6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3D8-AEE0-44B4-B1F4-92C76162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47E-6C30-4667-B85F-2A58A7EE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CA2-09FE-4222-B329-ED152FB0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2C1-2C09-400F-8FB2-E160F240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4EE-ECCB-4573-B308-BDD9FEC8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56E-6140-4306-92B4-D5B72441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CE2-A2FB-4765-92B2-095B2F10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F4A-D6A1-4212-88AB-0FEF1A0D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BE4-6B05-426C-8DC0-D24551A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2C3EF-632E-498B-B983-DA618F9EFF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1D99E-200C-467B-8C46-63A82D8A5D4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2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"/><Relationship Id="rId13" Type="http://schemas.openxmlformats.org/officeDocument/2006/relationships/image" Target="../media/image3.png"/><Relationship Id="rId14" Type="http://schemas.openxmlformats.org/officeDocument/2006/relationships/slide" Target="slide5.xml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59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7">
              <a:hlinkClick r:id="rId3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2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5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8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1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20" descr=""/>
          <p:cNvPicPr/>
          <p:nvPr/>
        </p:nvPicPr>
        <p:blipFill>
          <a:blip r:embed="rId15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6:41:34Z</dcterms:created>
  <dc:creator>최봉수</dc:creator>
  <dc:description/>
  <dc:language>en-US</dc:language>
  <cp:lastModifiedBy>맛있다 군만두</cp:lastModifiedBy>
  <dcterms:modified xsi:type="dcterms:W3CDTF">2023-07-13T06:55:43Z</dcterms:modified>
  <cp:revision>4</cp:revision>
  <dc:subject/>
  <dc:title>슬라이드 1</dc:title>
</cp:coreProperties>
</file>