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70F1-FF8D-4CAA-AC0A-16BE5237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5FC6-AC43-46B0-B1B6-04DDD117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4EC6-019E-45D8-B301-5E82F385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D1C5-4B96-4F1F-B197-74E2E88C9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8EAC-702B-4D2F-B0BF-2C545586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C669-5484-46DB-B0D4-0E4AAB48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7574-7A33-4047-952D-3580FDD2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0D8A-D1AE-437E-85C3-EAAC3453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288F-E999-48CA-AA6F-4F2CD35F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3342-96FD-4258-8F5B-8D17065E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39E5-F341-42EC-94BB-53260081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FD79-C632-4503-8C2A-787FA9D9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7CA1-D10D-4A04-99FF-B7211245B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863640"/>
            <a:ext cx="9144000" cy="51307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68360" y="-27000"/>
            <a:ext cx="10333080" cy="68850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225440" y="0"/>
            <a:ext cx="10369440" cy="68914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6944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612720" y="-76320"/>
            <a:ext cx="10369440" cy="69105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6197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468360" y="-244440"/>
            <a:ext cx="10117080" cy="72057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541440" y="15840"/>
            <a:ext cx="10369800" cy="71024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252360" y="-17640"/>
            <a:ext cx="10260000" cy="68756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900000" y="-133200"/>
            <a:ext cx="10512360" cy="7029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197964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405080" y="3240"/>
            <a:ext cx="11449080" cy="75088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-136440"/>
            <a:ext cx="7993080" cy="69944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252360" y="98280"/>
            <a:ext cx="9864720" cy="66787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369440" cy="69454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756720" cy="70502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757080" y="0"/>
            <a:ext cx="10801080" cy="71913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181080" y="-120600"/>
            <a:ext cx="9721800" cy="75200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10872720" cy="72309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1:47:57Z</dcterms:created>
  <dc:creator>srarys</dc:creator>
  <dc:description/>
  <dc:language>en-US</dc:language>
  <cp:lastModifiedBy>Smets</cp:lastModifiedBy>
  <dcterms:modified xsi:type="dcterms:W3CDTF">2008-12-03T04:19:10Z</dcterms:modified>
  <cp:revision>3</cp:revision>
  <dc:subject/>
  <dc:title>Folie 1</dc:title>
</cp:coreProperties>
</file>