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45C-40D8-4B53-9176-5DAD4AA7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717-2F71-49C2-9383-FFD4B62A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856-7DF9-483C-AC89-C9B31592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97F-7A45-4999-9A38-C2F33E7D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C6A-DE90-4F82-8CA2-6C48FE5C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DDD-E2C4-48E5-BA64-6A16DCF4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9CE-CC61-4091-83EA-7B989515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DDF-5A45-433F-B220-6A85F739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FF2-538F-47EE-B606-3B86F78B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8FF-6F3B-451A-A833-59E2B840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8A6-A4C0-4685-AC05-71B7B46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CA1-7E82-467A-8DED-B3445FAC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C159-D81F-4F17-9497-556F0B4AA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63640"/>
            <a:ext cx="9144000" cy="51307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68360" y="-27000"/>
            <a:ext cx="10333080" cy="6885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225440" y="0"/>
            <a:ext cx="10369440" cy="68914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6944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612720" y="-76320"/>
            <a:ext cx="10369440" cy="69105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6197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68360" y="-244440"/>
            <a:ext cx="10117080" cy="72057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541440" y="15840"/>
            <a:ext cx="10369800" cy="7102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52360" y="-17640"/>
            <a:ext cx="10260000" cy="68756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900000" y="-133200"/>
            <a:ext cx="10512360" cy="7029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405080" y="3240"/>
            <a:ext cx="11449080" cy="7508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-136440"/>
            <a:ext cx="7993080" cy="6994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52360" y="98280"/>
            <a:ext cx="9864720" cy="66787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369440" cy="69454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756720" cy="70502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757080" y="0"/>
            <a:ext cx="10801080" cy="7191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81080" y="-120600"/>
            <a:ext cx="9721800" cy="75200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872720" cy="72309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47:57Z</dcterms:created>
  <dc:creator>srarys</dc:creator>
  <dc:description/>
  <dc:language>en-US</dc:language>
  <cp:lastModifiedBy>Smets</cp:lastModifiedBy>
  <dcterms:modified xsi:type="dcterms:W3CDTF">2008-12-03T04:19:10Z</dcterms:modified>
  <cp:revision>3</cp:revision>
  <dc:subject/>
  <dc:title>Folie 1</dc:title>
</cp:coreProperties>
</file>