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0E6-91E0-4783-86A1-8F5B636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7B2-2C92-4596-A039-CBB0BA55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C37-0C53-4D3A-9995-EEBA0BD2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EEF-B79D-4245-BED2-515CC0E8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E23-0BAD-44FC-A444-7133596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83D-34ED-4290-B30E-8685D6F3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327-31BD-4C35-B1B2-9292560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EE8-F56C-4DAB-A479-5EA9C3BC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3E34-A293-4D0B-828F-7749DEB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C3C-BD53-4EBA-9848-95B3C5B4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959-76B2-4D6A-AFEA-A8F373C9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DDB-228E-46A2-BA37-2D6174A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7457-E88F-4234-819F-5B229371D1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2T04:34:50Z</dcterms:modified>
  <cp:revision>22</cp:revision>
  <dc:subject/>
  <dc:title>슬라이드 1</dc:title>
</cp:coreProperties>
</file>