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905-7CE2-4E86-9471-4F50DB85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B79-78E3-4C03-9345-278C0627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51B-04A1-47EE-BDEE-21A0B51C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9E1-41B9-4530-858B-AA2DBDD7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1CA-698E-4624-81B4-6439DBA3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AB6-EB34-45C7-A862-4AD0B7FF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ADB-9A6B-4A55-8A03-C0FA5C3A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9D7-E3C2-4623-98E4-B2938552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FB8-C532-4460-A698-149E307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8B3-8C02-4B77-A21A-3E987775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6F2-6611-4696-B9A9-9958457D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2EE-29DE-4F3A-A614-2DC7AB7D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92E9-8E5A-4151-84BB-85AF41A3A0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12T04:34:50Z</dcterms:modified>
  <cp:revision>22</cp:revision>
  <dc:subject/>
  <dc:title>슬라이드 1</dc:title>
</cp:coreProperties>
</file>