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37D-EE84-4667-8BBF-616A34D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7A-F6D8-4217-8B6F-C810D5F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FDE-B723-4950-861B-9EDECBAC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792-6CF7-4431-A278-E93296DD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615-D8F6-43B5-985E-94EA053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7C7-C28B-415E-A784-5151EA3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14A-E4F0-4B26-9760-E824E9A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952-9FDC-4B4B-9AE1-BB83178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716-2C62-415C-8F56-5E73BC0E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CB7-39CC-4986-B3FE-1D6F58B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B2E-4FEE-473B-B334-ADEA5C1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696-1F5C-4A07-A786-ED1E3E0B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612DE-91BD-402E-AF39-898C39E3FC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4468E-A40E-4EC3-AD28-21B756309F4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18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21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24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27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2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5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27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8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8:09:22Z</dcterms:modified>
  <cp:revision>3</cp:revision>
  <dc:subject/>
  <dc:title>슬라이드 1</dc:title>
</cp:coreProperties>
</file>