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75B-EAAB-49D2-B6C3-E9E7D53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ECF-7172-4867-93AF-BCFCC3B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4D7-A1E7-4AD8-AFCF-8CE5B320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A5C-A0EE-4223-B9EF-792C0B93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6DD-BF36-4741-9940-E9F30D36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EA6-5950-4424-ABA1-A28DFF9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FBE-34A4-4B55-9660-8D44A09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8A7-F3FB-466A-B971-8B0A234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943-9A8E-4629-A3EC-D76B2E3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24A-75A4-49C5-B14F-4B4B947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E92-3AFF-4107-9F00-12FD903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D70-0E21-4CE9-AABE-7F26DD1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0811A-C10E-405B-9D32-3D037D41AF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CFD67-486D-4C55-BFFA-560311EDBBA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18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21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24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27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2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5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27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8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8:09:22Z</dcterms:modified>
  <cp:revision>3</cp:revision>
  <dc:subject/>
  <dc:title>슬라이드 1</dc:title>
</cp:coreProperties>
</file>