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69B8-1C2C-41E4-BBF2-409119CD5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daleSans-Bold"/>
                <a:ea typeface="Times New Roman"/>
              </a:rPr>
              <a:t>The Externa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Where do firms find growth in poor economic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daleSans-Bold"/>
                <a:ea typeface="Times New Roman"/>
              </a:rPr>
              <a:t>Example: Financial Services Industry (Bank of America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daleSans-Bold"/>
                <a:ea typeface="Times New Roman"/>
              </a:rPr>
              <a:t>NationsBa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ndaleSans-BoldItalic"/>
                <a:ea typeface="Times New Roman"/>
              </a:rPr>
              <a:t>Past Strate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In the 1990s, NationsBank and Bank of America expanded through asset gathering, diver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(i.e., inter-state banking, geographic, product, etc.). In less that ten years they w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from a roughly $8 billion to more than $620 billion on $35 billion in revenue in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ndaleSans-BoldItalic"/>
                <a:ea typeface="Times New Roman"/>
              </a:rPr>
              <a:t>M&amp;A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PS-BoldMT"/>
                <a:ea typeface="Times New Roman"/>
              </a:rPr>
              <a:t>1992 </a:t>
            </a: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NCNB and C&amp;S Sovran form Nations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PS-BoldMT"/>
                <a:ea typeface="Times New Roman"/>
              </a:rPr>
              <a:t>1994 </a:t>
            </a: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NationsBank acquires M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PS-BoldMT"/>
                <a:ea typeface="Times New Roman"/>
              </a:rPr>
              <a:t>1995 </a:t>
            </a: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NationsBank acquires Bank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PS-BoldMT"/>
                <a:ea typeface="Times New Roman"/>
              </a:rPr>
              <a:t>1996 </a:t>
            </a: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NationsBank acquires Boatman’s Bank &amp; Montgomery Secu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PS-BoldMT"/>
                <a:ea typeface="Times New Roman"/>
              </a:rPr>
              <a:t>1997 </a:t>
            </a: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NationsBank acquires Barnet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PS-BoldMT"/>
                <a:ea typeface="Times New Roman"/>
              </a:rPr>
              <a:t>1998 </a:t>
            </a: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NationsBank and Bank of America me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ndaleSans-BoldItalic"/>
                <a:ea typeface="Times New Roman"/>
              </a:rPr>
              <a:t>Major th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U.S.-based retail banking: Consumer banking accounts for over 61% of Bank of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revenue and 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(Continued next slid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20F-B3D9-43DD-89C5-84DC04A3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4B1-EF86-4EF0-9171-05BB79B7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AE3-2206-4794-838E-533783F7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847-ECF2-4C89-9606-35E4042C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1742-84A6-4B93-9DCF-697AEF60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2EF5-14DE-434A-B3F7-90955B9F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EA8E-2191-447D-B994-7E184872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5EA5-2181-46A7-8064-5E9AEED2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20BF-64EB-449B-9F3C-B1AE20D8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0631-ACEB-4E7E-A285-C5A18DDF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614A-09B4-41ED-903C-E09B1460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4047-366C-4ECF-BA73-75E25581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44AF-6D79-4248-94BF-5B85A036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9504-B3BD-4E1C-A5E1-1B653356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087B-4723-4E2B-8941-F76D4428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DA45-40ED-49ED-A6E2-9F9AA814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E031-C09F-495E-9A1E-245D2263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EE7-9C98-4D12-9864-FEA979C9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37D-80DE-45BF-AC93-6A4C9575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164-CD1F-4980-A294-150913DA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346-D9A9-466D-B64D-A6562A54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D8B-E8E1-4170-B4F5-262AB0CF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CFF-292E-483C-B214-FD7801A1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372-0DB1-4AA4-B708-4EC3B1E9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B0D6-DD40-44F6-8C0A-FB1615F22E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8F36-7BD8-42A6-9D33-6DBC76FA20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Commercial Environmen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28600" y="32000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, Concept, Significance &amp;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Compa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signing business/marketing plans, marketing management must take other company groups, such as top management, finance, research and development (R&amp;D), purchasing, manufacturing and accounting, into consid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ppl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ms and individuals that provide the resources needed by the company and its competitors to produce goods and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keting Intermedia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s that help the company to promote, sell and distribute its goods to final buyers; they include physical distribution firms, marketing-service agencies and financial intermedia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el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dividuals and organizations that buy goods and services to resell at a prof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hysical distribution fi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ehouse, transportation and other firms that help a company to stock and move goods from their point of origin to their destin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nancial intermedi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ks, credit companies and other businesses that help finance transactions or insure against the risks associated with the buying and selling of go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must study its customer markets closely and keep up to date with changing customer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must communicate with its customers, and must listen to them clos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848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mpeti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rketing concept states that, to be successful, a company must provide greater customer value and satisfaction than its competitors. Thus, marketers must do more than simply adapt to the needs of target consum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must also gain strategic advantage  by positioning their offerings strongly against competitors’ offerings in the minds of consumers. They must strive to anticipate competitor activity and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bli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group that has an actual or potential interest in or impact on an organization’s ability to achieve its objec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nancial public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fluence the company’s ability to obtain funds. Banks, investment houses and stockholders are the principal financial publ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dia public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those that carry news, features and editorial opinion. They include newspapers, magazines and radio and television st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overnment public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 must take government developments into account. Marketers must often consult the company’s lawyers on issues of product safety, truth in advertising and other mat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bl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itizen action publi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ompany’s marketing decisions may be questioned by consumer organizations, environmental groups, minority groups and other pressure gro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cal publi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ery company has local publics, such as neighborhood residents and community organiza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l publ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ompany needs to be concerned about the general public’s attitude towards its products and activities. The public image of the company affects its buy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nal publi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ompany’s internal publics include its workers, managers, volunteers and the board of direc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84582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e Company’s Macro-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rger societal forces that affect the whole microenvironment - demographic, economic, natural, technological, political and cultural fo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 rot="3654000">
            <a:off x="6071760" y="2336760"/>
            <a:ext cx="12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7899800">
            <a:off x="5576040" y="5009400"/>
            <a:ext cx="22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05360" y="62676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17280" y="109044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7990400">
            <a:off x="1760760" y="2298600"/>
            <a:ext cx="12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3636600">
            <a:off x="1272240" y="5036400"/>
            <a:ext cx="22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11160" y="1467000"/>
            <a:ext cx="5496120" cy="4862520"/>
          </a:xfrm>
          <a:prstGeom prst="hexagon">
            <a:avLst>
              <a:gd name="adj" fmla="val 28247"/>
              <a:gd name="vf" fmla="val 115470"/>
            </a:avLst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537000" y="1467000"/>
            <a:ext cx="2070000" cy="669600"/>
            <a:chOff x="3537000" y="1467000"/>
            <a:chExt cx="2070000" cy="669600"/>
          </a:xfrm>
        </p:grpSpPr>
        <p:sp>
          <p:nvSpPr>
            <p:cNvPr id="251" name=""/>
            <p:cNvSpPr/>
            <p:nvPr/>
          </p:nvSpPr>
          <p:spPr>
            <a:xfrm>
              <a:off x="3537000" y="14670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06775"/>
                </a:gs>
                <a:gs pos="100000">
                  <a:srgbClr val="afe1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19440" y="1527120"/>
              <a:ext cx="1905120" cy="54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fe1ff"/>
                </a:gs>
                <a:gs pos="100000">
                  <a:srgbClr val="506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Economi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981440" y="3885120"/>
            <a:ext cx="1618560" cy="2126520"/>
            <a:chOff x="1981440" y="3885120"/>
            <a:chExt cx="1618560" cy="2126520"/>
          </a:xfrm>
        </p:grpSpPr>
        <p:sp>
          <p:nvSpPr>
            <p:cNvPr id="254" name=""/>
            <p:cNvSpPr/>
            <p:nvPr/>
          </p:nvSpPr>
          <p:spPr>
            <a:xfrm rot="3591600">
              <a:off x="1755360" y="4613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3591600">
              <a:off x="1838160" y="46738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Political/Leg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535200" y="5661000"/>
            <a:ext cx="2070360" cy="669960"/>
            <a:chOff x="3535200" y="5661000"/>
            <a:chExt cx="2070360" cy="669960"/>
          </a:xfrm>
        </p:grpSpPr>
        <p:sp>
          <p:nvSpPr>
            <p:cNvPr id="257" name=""/>
            <p:cNvSpPr/>
            <p:nvPr/>
          </p:nvSpPr>
          <p:spPr>
            <a:xfrm>
              <a:off x="3535200" y="5661000"/>
              <a:ext cx="207036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18000" y="5721120"/>
              <a:ext cx="190476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Technolog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30320" y="3868920"/>
            <a:ext cx="1607400" cy="2130120"/>
            <a:chOff x="5530320" y="3868920"/>
            <a:chExt cx="1607400" cy="2130120"/>
          </a:xfrm>
        </p:grpSpPr>
        <p:sp>
          <p:nvSpPr>
            <p:cNvPr id="260" name=""/>
            <p:cNvSpPr/>
            <p:nvPr/>
          </p:nvSpPr>
          <p:spPr>
            <a:xfrm rot="17981400">
              <a:off x="5298840" y="459864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5"/>
                </a:gs>
                <a:gs pos="100000">
                  <a:srgbClr val="66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7981400">
              <a:off x="5380560" y="465948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Glob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972800" y="1798560"/>
            <a:ext cx="1606680" cy="2130120"/>
            <a:chOff x="1972800" y="1798560"/>
            <a:chExt cx="1606680" cy="2130120"/>
          </a:xfrm>
        </p:grpSpPr>
        <p:sp>
          <p:nvSpPr>
            <p:cNvPr id="263" name=""/>
            <p:cNvSpPr/>
            <p:nvPr/>
          </p:nvSpPr>
          <p:spPr>
            <a:xfrm rot="17980800">
              <a:off x="1740960" y="252864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73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7980800">
              <a:off x="1823040" y="258984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37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Demographi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556600" y="1812600"/>
            <a:ext cx="1592280" cy="2134440"/>
            <a:chOff x="5556600" y="1812600"/>
            <a:chExt cx="1592280" cy="2134440"/>
          </a:xfrm>
        </p:grpSpPr>
        <p:sp>
          <p:nvSpPr>
            <p:cNvPr id="266" name=""/>
            <p:cNvSpPr/>
            <p:nvPr/>
          </p:nvSpPr>
          <p:spPr>
            <a:xfrm rot="3653400">
              <a:off x="5317560" y="254484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2f50"/>
                </a:gs>
                <a:gs pos="100000">
                  <a:srgbClr val="0068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3653400">
              <a:off x="5400720" y="2605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8ae"/>
                </a:gs>
                <a:gs pos="100000">
                  <a:srgbClr val="002f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Sociocultur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e External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681280" y="2184480"/>
            <a:ext cx="3778200" cy="3424320"/>
            <a:chOff x="2681280" y="2184480"/>
            <a:chExt cx="3778200" cy="3424320"/>
          </a:xfrm>
        </p:grpSpPr>
        <p:sp>
          <p:nvSpPr>
            <p:cNvPr id="270" name=""/>
            <p:cNvSpPr/>
            <p:nvPr/>
          </p:nvSpPr>
          <p:spPr>
            <a:xfrm>
              <a:off x="2681280" y="2184480"/>
              <a:ext cx="3778200" cy="3424320"/>
            </a:xfrm>
            <a:prstGeom prst="hexagon">
              <a:avLst>
                <a:gd name="adj" fmla="val 27584"/>
                <a:gd name="vf" fmla="val 115470"/>
              </a:avLst>
            </a:prstGeom>
            <a:gradFill rotWithShape="0">
              <a:gsLst>
                <a:gs pos="0">
                  <a:srgbClr val="00070d"/>
                </a:gs>
                <a:gs pos="100000">
                  <a:srgbClr val="0088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92160" y="2283120"/>
              <a:ext cx="3566880" cy="3232440"/>
            </a:xfrm>
            <a:prstGeom prst="hexagon">
              <a:avLst>
                <a:gd name="adj" fmla="val 27587"/>
                <a:gd name="vf" fmla="val 11547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08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205080" y="4605480"/>
            <a:ext cx="2732040" cy="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3640" y="2278080"/>
            <a:ext cx="273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du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reat of new entr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ower of suppl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ower of buy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duct substit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tensity of rival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3640" y="4602240"/>
            <a:ext cx="273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mpet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eneral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72680" y="1599840"/>
            <a:ext cx="569124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ocultural Seg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42920" y="223056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90480" y="1724040"/>
            <a:ext cx="6000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conomic seg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eneral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31760" y="2246400"/>
            <a:ext cx="742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Objective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fter reading this section you should be able to describe the environmental forces that affect the company’s ability to serve its customers &amp; understand the significance of Commercial Environment in Busines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eneral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3040" y="160020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litical/Legal Se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42920" y="2292480"/>
            <a:ext cx="683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eneral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4240" y="1851120"/>
            <a:ext cx="549612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ological Seg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36800" y="23716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eneral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77360" y="159984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obal Se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7600" y="2306520"/>
            <a:ext cx="713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ly industrialize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eneral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0480" y="177156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ographic Seg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36800" y="2298600"/>
            <a:ext cx="391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ommercial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ctors and forces outside business/marketing that affect marketing management’s ability to develop and maintain successful transactions and relationships with its target custom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siness enterprises cannot function in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 systems interact with their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siness enterprises exist in and are surrounded by an ‘environment’ – the business or commercial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ciety and business enterprises are mutually depen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enterprises satisfy societal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onship between society and business enterprises takes place in a changing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0592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COMPONENTS OF THE BUSINESS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fferent environmental variables exist internally and externally to the business enterpr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vironmental variables have a positive or negative influence on the enterpr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COMPONENTS OF THE BUSINESS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siness environment consists of two sub-environ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al (micro)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ternal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cro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tual relationships exist between these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Significance of Commercial Environ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rst Mover Advan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rning Sig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tize th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is of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rce of intellectual 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age Buil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ous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e Company’s Micro -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designing business/marketing plans, marketing management must take other company groups, such as top management, finance, research and development (R&amp;D), purchasing, manufacturing and accounting, into conside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09:05:06Z</dcterms:created>
  <dc:creator>Sweeney</dc:creator>
  <dc:description/>
  <dc:language>en-US</dc:language>
  <cp:lastModifiedBy>LPU</cp:lastModifiedBy>
  <dcterms:modified xsi:type="dcterms:W3CDTF">2008-09-16T05:01:49Z</dcterms:modified>
  <cp:revision>58</cp:revision>
  <dc:subject/>
  <dc:title>marketing and law</dc:title>
</cp:coreProperties>
</file>