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63D4-5C8C-47F5-A035-330F6CAC3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daleSans-Bold"/>
                <a:ea typeface="Times New Roman"/>
              </a:rPr>
              <a:t>The Externa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Where do firms find growth in poor economic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daleSans-Bold"/>
                <a:ea typeface="Times New Roman"/>
              </a:rPr>
              <a:t>Example: Financial Services Industry (Bank of America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daleSans-Bold"/>
                <a:ea typeface="Times New Roman"/>
              </a:rPr>
              <a:t>NationsBa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ndaleSans-BoldItalic"/>
                <a:ea typeface="Times New Roman"/>
              </a:rPr>
              <a:t>Past 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In the 1990s, NationsBank and Bank of America expanded through asset gathering, diver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(i.e., inter-state banking, geographic, product, etc.). In less that ten years they w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from a roughly $8 billion to more than $620 billion on $35 billion in revenue in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ndaleSans-BoldItalic"/>
                <a:ea typeface="Times New Roman"/>
              </a:rPr>
              <a:t>M&amp;A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2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CNB and C&amp;S Sovran form Nations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4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ationsBank acquires M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5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ationsBank acquires Bank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6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ationsBank acquires Boatman’s Bank &amp; Montgomery Secu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7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ationsBank acquires Barnet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PS-BoldMT"/>
                <a:ea typeface="Times New Roman"/>
              </a:rPr>
              <a:t>1998 </a:t>
            </a: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NationsBank and Bank of America me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ndaleSans-BoldItalic"/>
                <a:ea typeface="Times New Roman"/>
              </a:rPr>
              <a:t>Major th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U.S.-based retail banking: Consumer banking accounts for over 61% of Bank of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revenue and 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(Continued next slid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7F8-2AAC-416C-8273-A3DCA1FE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7D2-2185-450B-B2F8-52EB5066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113-8BA4-4041-9131-1BB30FD6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86A-65A3-4C36-AAB5-4F748712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9C37-84EB-4F27-AB73-4F0EA905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4F66-E541-4052-A54E-A5999CCF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AA16-10D0-4C0C-AE75-5EE0E685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37FF-3600-4DD6-BF84-78325FBB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11AC-A8B8-483A-B9A8-E2FE5D5D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7159-A369-48B0-9B81-6E5B1D86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D175-50D9-4EA0-8C48-BADF591D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D12-72E7-4C73-BD05-0BB4F09A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B548-5F8D-4033-AE5E-D1D1B0AD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FB15-5A3C-4AD6-B859-C900BEF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3789-950C-496F-876D-4C03A49B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FA6C-35F0-4B66-9247-85BBE4D6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4AC1-6443-47D9-845A-9E68237B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258-E1EE-471C-B385-0A240135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DA0-1270-400E-B205-865140EC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772-3CD0-4933-B95E-83102927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C26-13FB-452B-B022-B24F02AF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5EF-335D-4A58-B822-DCF20818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EA6-8FEE-41CB-B0EC-E8E04272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A77-089A-4599-9092-444963A5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7F58-DAAC-4150-86AE-DDA00DEFF2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EC42-57F3-4C33-AFBA-F98C0B39B4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Commercial Environmen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28600" y="32000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, Concept, Significance &amp;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Comp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signing business/marketing plans, marketing management must take other company groups, such as top management, finance, research and development (R&amp;D), purchasing, manufacturing and accounting, into consid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ppl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ms and individuals that provide the resources needed by the company and its competitors to produce goods and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keting Intermedi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s that help the company to promote, sell and distribute its goods to final buyers; they include physical distribution firms, marketing-service agencies and financial intermedia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el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dividuals and organizations that buy goods and services to resell at a prof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ysical distribution fi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ehouse, transportation and other firms that help a company to stock and move goods from their point of origin to their destin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nancial intermedi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ks, credit companies and other businesses that help finance transactions or insure against the risks associated with the buying and selling of go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must study its customer markets closely and keep up to date with changing customer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must communicate with its customers, and must listen to them clos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848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peti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rketing concept states that, to be successful, a company must provide greater customer value and satisfaction than its competitors. Thus, marketers must do more than simply adapt to the needs of target consu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must also gain strategic advantage  by positioning their offerings strongly against competitors’ offerings in the minds of consumers. They must strive to anticipate competitor activity and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bl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group that has an actual or potential interest in or impact on an organization’s ability to achieve its obj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nancial public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luence the company’s ability to obtain funds. Banks, investment houses and stockholders are the principal financial publ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dia public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those that carry news, features and editorial opinion. They include newspapers, magazines and radio and television s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overnment public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must take government developments into account. Marketers must often consult the company’s lawyers on issues of product safety, truth in advertising and other ma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bl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itizen action publ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mpany’s marketing decisions may be questioned by consumer organizations, environmental groups, minority groups and other pressure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l publ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ery company has local publics, such as neighborhood residents and community organiz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l publ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mpany needs to be concerned about the general public’s attitude towards its products and activities. The public image of the company affects its buy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nal publ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mpany’s internal publics include its workers, managers, volunteers and the board of dire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4582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e Company’s Macro-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rger societal forces that affect the whole microenvironment - demographic, economic, natural, technological, political and cultural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rot="3654000">
            <a:off x="6071760" y="2336760"/>
            <a:ext cx="12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7899800">
            <a:off x="5576040" y="5009400"/>
            <a:ext cx="22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05360" y="6267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7280" y="109044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7990400">
            <a:off x="1760760" y="2298600"/>
            <a:ext cx="12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3636600">
            <a:off x="1272240" y="5036400"/>
            <a:ext cx="22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11160" y="1467000"/>
            <a:ext cx="5496120" cy="4862520"/>
          </a:xfrm>
          <a:prstGeom prst="hexagon">
            <a:avLst>
              <a:gd name="adj" fmla="val 28247"/>
              <a:gd name="vf" fmla="val 115470"/>
            </a:avLst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537000" y="1467000"/>
            <a:ext cx="2070000" cy="669600"/>
            <a:chOff x="3537000" y="1467000"/>
            <a:chExt cx="2070000" cy="669600"/>
          </a:xfrm>
        </p:grpSpPr>
        <p:sp>
          <p:nvSpPr>
            <p:cNvPr id="251" name=""/>
            <p:cNvSpPr/>
            <p:nvPr/>
          </p:nvSpPr>
          <p:spPr>
            <a:xfrm>
              <a:off x="3537000" y="14670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06775"/>
                </a:gs>
                <a:gs pos="100000">
                  <a:srgbClr val="afe1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19440" y="1527120"/>
              <a:ext cx="1905120" cy="54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fe1ff"/>
                </a:gs>
                <a:gs pos="100000">
                  <a:srgbClr val="506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Economi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981440" y="3885120"/>
            <a:ext cx="1618560" cy="2126520"/>
            <a:chOff x="1981440" y="3885120"/>
            <a:chExt cx="1618560" cy="2126520"/>
          </a:xfrm>
        </p:grpSpPr>
        <p:sp>
          <p:nvSpPr>
            <p:cNvPr id="254" name=""/>
            <p:cNvSpPr/>
            <p:nvPr/>
          </p:nvSpPr>
          <p:spPr>
            <a:xfrm rot="3591600">
              <a:off x="1755360" y="4613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3591600">
              <a:off x="1838160" y="46738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Political/Leg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535200" y="5661000"/>
            <a:ext cx="2070360" cy="669960"/>
            <a:chOff x="3535200" y="5661000"/>
            <a:chExt cx="2070360" cy="669960"/>
          </a:xfrm>
        </p:grpSpPr>
        <p:sp>
          <p:nvSpPr>
            <p:cNvPr id="257" name=""/>
            <p:cNvSpPr/>
            <p:nvPr/>
          </p:nvSpPr>
          <p:spPr>
            <a:xfrm>
              <a:off x="3535200" y="5661000"/>
              <a:ext cx="207036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18000" y="5721120"/>
              <a:ext cx="190476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Technolog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30320" y="3868920"/>
            <a:ext cx="1607400" cy="2130120"/>
            <a:chOff x="5530320" y="3868920"/>
            <a:chExt cx="1607400" cy="2130120"/>
          </a:xfrm>
        </p:grpSpPr>
        <p:sp>
          <p:nvSpPr>
            <p:cNvPr id="260" name=""/>
            <p:cNvSpPr/>
            <p:nvPr/>
          </p:nvSpPr>
          <p:spPr>
            <a:xfrm rot="17981400">
              <a:off x="5298840" y="459864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5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7981400">
              <a:off x="5380560" y="465948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Glob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972800" y="1798560"/>
            <a:ext cx="1606680" cy="2130120"/>
            <a:chOff x="1972800" y="1798560"/>
            <a:chExt cx="1606680" cy="2130120"/>
          </a:xfrm>
        </p:grpSpPr>
        <p:sp>
          <p:nvSpPr>
            <p:cNvPr id="263" name=""/>
            <p:cNvSpPr/>
            <p:nvPr/>
          </p:nvSpPr>
          <p:spPr>
            <a:xfrm rot="17980800">
              <a:off x="1740960" y="252864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73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7980800">
              <a:off x="1823040" y="258984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Demographi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556600" y="1812600"/>
            <a:ext cx="1592280" cy="2134440"/>
            <a:chOff x="5556600" y="1812600"/>
            <a:chExt cx="1592280" cy="2134440"/>
          </a:xfrm>
        </p:grpSpPr>
        <p:sp>
          <p:nvSpPr>
            <p:cNvPr id="266" name=""/>
            <p:cNvSpPr/>
            <p:nvPr/>
          </p:nvSpPr>
          <p:spPr>
            <a:xfrm rot="3653400">
              <a:off x="5317560" y="254484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2f50"/>
                </a:gs>
                <a:gs pos="100000">
                  <a:srgbClr val="0068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3653400">
              <a:off x="5400720" y="2605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8ae"/>
                </a:gs>
                <a:gs pos="100000">
                  <a:srgbClr val="002f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Sociocultur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e Extern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681280" y="2184480"/>
            <a:ext cx="3778200" cy="3424320"/>
            <a:chOff x="2681280" y="2184480"/>
            <a:chExt cx="3778200" cy="3424320"/>
          </a:xfrm>
        </p:grpSpPr>
        <p:sp>
          <p:nvSpPr>
            <p:cNvPr id="270" name=""/>
            <p:cNvSpPr/>
            <p:nvPr/>
          </p:nvSpPr>
          <p:spPr>
            <a:xfrm>
              <a:off x="2681280" y="2184480"/>
              <a:ext cx="3778200" cy="3424320"/>
            </a:xfrm>
            <a:prstGeom prst="hexagon">
              <a:avLst>
                <a:gd name="adj" fmla="val 27584"/>
                <a:gd name="vf" fmla="val 115470"/>
              </a:avLst>
            </a:prstGeom>
            <a:gradFill rotWithShape="0">
              <a:gsLst>
                <a:gs pos="0">
                  <a:srgbClr val="00070d"/>
                </a:gs>
                <a:gs pos="100000">
                  <a:srgbClr val="0088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92160" y="2283120"/>
              <a:ext cx="3566880" cy="3232440"/>
            </a:xfrm>
            <a:prstGeom prst="hexagon">
              <a:avLst>
                <a:gd name="adj" fmla="val 27587"/>
                <a:gd name="vf" fmla="val 11547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08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205080" y="4605480"/>
            <a:ext cx="2732040" cy="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3640" y="2278080"/>
            <a:ext cx="273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du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reat of new entr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ower of suppl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ower of buy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duct substit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tensity of rival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3640" y="4602240"/>
            <a:ext cx="273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mpet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72680" y="1599840"/>
            <a:ext cx="569124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ocultural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223056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90480" y="1724040"/>
            <a:ext cx="6000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conomic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31760" y="2246400"/>
            <a:ext cx="742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Objective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fter reading this section you should be able to describe the environmental forces that affect the company’s ability to serve its customers &amp; understand the significance of Commercial Environment in Busin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3040" y="160020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itical/Legal Se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229248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4240" y="1851120"/>
            <a:ext cx="54961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ological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36800" y="23716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77360" y="159984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obal Se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7600" y="2306520"/>
            <a:ext cx="713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ly industrialize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ener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0480" y="177156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ographic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36800" y="2298600"/>
            <a:ext cx="391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ommercial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ctors and forces outside business/marketing that affect marketing management’s ability to develop and maintain successful transactions and relationships with its target custom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siness enterprises cannot function in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 systems interact with their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siness enterprises exist in and are surrounded by an ‘environment’ – the business or commercial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ciety and business enterprises are mutually depen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enterprises satisfy societal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onship between society and business enterprises takes place in a changing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COMPONENTS OF THE BUSINESS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t environmental variables exist internally and externally to the business enterp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vironmental variables have a positive or negative influence on the enterp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COMPONENTS OF THE BUSINESS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siness environment consists of two sub-environ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al (micro)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terna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cro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tual relationships exist between these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Significance of Commercial Enviro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Mover Advan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rning 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ze th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s of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 of intellectual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age Buil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e Company’s Micro -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designing business/marketing plans, marketing management must take other company groups, such as top management, finance, research and development (R&amp;D), purchasing, manufacturing and accounting, into conside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09:05:06Z</dcterms:created>
  <dc:creator>Sweeney</dc:creator>
  <dc:description/>
  <dc:language>en-US</dc:language>
  <cp:lastModifiedBy>LPU</cp:lastModifiedBy>
  <dcterms:modified xsi:type="dcterms:W3CDTF">2008-09-16T05:01:49Z</dcterms:modified>
  <cp:revision>58</cp:revision>
  <dc:subject/>
  <dc:title>marketing and law</dc:title>
</cp:coreProperties>
</file>