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1,09%20Zamfir%20in%20Orkest%20van%20James%20Last.WAV" ContentType="audio/x-wav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11.gif" ContentType="image/gif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505C8-F0CB-4A74-905E-53B9746A7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B5830-FF38-4C4A-87E6-9C5F64BAE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865C2-7F16-40A5-ABF9-504662277E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B073-9972-4D04-9BBE-95BC98EA4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CA2E-078B-4BAA-870C-507478865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0AEB-3A2E-4BAD-A8BF-A6A28EC77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69ADB-EF5F-445F-BA3A-8D6EC5DC4F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C15B-388B-4AC3-8E2A-B899A52C6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DC4A-8A76-49CA-A4AB-90887D079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72351-14E7-4739-A80B-652D889C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455F-4408-4F01-951A-D93E9197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4055-E289-4327-AF5B-B13A8ECF0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1007A-25E2-4ACB-B7C2-0C6297D1B4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1,09%20Zamfir%20in%20Orkest%20van%20James%20Last.WAV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9360">
            <a:solidFill>
              <a:srgbClr val="ffcc00"/>
            </a:solidFill>
            <a:miter/>
          </a:ln>
        </p:spPr>
      </p:pic>
      <p:sp>
        <p:nvSpPr>
          <p:cNvPr id="44" name=""/>
          <p:cNvSpPr/>
          <p:nvPr/>
        </p:nvSpPr>
        <p:spPr>
          <a:xfrm>
            <a:off x="0" y="189000"/>
            <a:ext cx="9217080" cy="67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De eerste tekenen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     </a:t>
            </a: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van de Herfst 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         </a:t>
            </a:r>
            <a:r>
              <a:rPr b="0" lang="nl-BE" sz="8800" spc="-1" strike="noStrike">
                <a:solidFill>
                  <a:srgbClr val="ffcc00"/>
                </a:solidFill>
                <a:latin typeface="Edwardian Script ITC"/>
              </a:rPr>
              <a:t>over de Tuin.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11840" y="6137280"/>
            <a:ext cx="182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ffcc00"/>
                </a:solidFill>
                <a:latin typeface="Edwardian Script ITC"/>
              </a:rPr>
              <a:t>9 Oktober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244120" y="5589720"/>
            <a:ext cx="435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3600" spc="-1" strike="noStrike">
                <a:solidFill>
                  <a:srgbClr val="ffcc00"/>
                </a:solidFill>
                <a:latin typeface="Edwardian Script ITC"/>
              </a:rPr>
              <a:t>Muziek  James Las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  <p:sndAc>
      <p:stSnd>
        <p:snd r:embed="rId2" name="1,09%20Zamfir%20in%20Orkest%20van%20James%20Last.WAV"/>
      </p:stSnd>
    </p:sndAc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0" y="0"/>
            <a:ext cx="3168720" cy="3323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66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0600" spc="-1" strike="noStrike">
                <a:solidFill>
                  <a:srgbClr val="ffcc00"/>
                </a:solidFill>
                <a:latin typeface="Edwardian Script ITC"/>
              </a:rPr>
              <a:t>Einde.</a:t>
            </a:r>
            <a:endParaRPr b="0" lang="en-US" sz="10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7236000" y="1700280"/>
            <a:ext cx="1266480" cy="10666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 txBox="1"/>
          <p:nvPr/>
        </p:nvSpPr>
        <p:spPr>
          <a:xfrm>
            <a:off x="1979640" y="6021360"/>
            <a:ext cx="5388120" cy="4287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Mangal"/>
              </a:rPr>
              <a:t>more at   www.free-powerpoints.goedbegin.be</a:t>
            </a:r>
            <a:endParaRPr b="0" lang="en-US" sz="2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Mangal"/>
              <a:ea typeface="Mang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xit" presetID="31">
                                  <p:stCondLst>
                                    <p:cond delay="0"/>
                                  </p:stCondLst>
                                  <p:iterate type="lt">
                                    <p:tmAbs val="1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20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3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3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" dur="2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2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2000"/>
                            </p:stCondLst>
                            <p:childTnLst>
                              <p:par>
                                <p:cTn id="4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3000"/>
                            </p:stCondLst>
                            <p:childTnLst>
                              <p:par>
                                <p:cTn id="47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8" dur="500" fill="hold"/>
                                        <p:tgtEl>
                                          <p:spTgt spid="6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5000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9T14:20:01Z</dcterms:created>
  <dc:creator>Verbeek</dc:creator>
  <dc:description/>
  <dc:language>en-US</dc:language>
  <cp:lastModifiedBy>Smets</cp:lastModifiedBy>
  <dcterms:modified xsi:type="dcterms:W3CDTF">2008-09-16T05:08:06Z</dcterms:modified>
  <cp:revision>4</cp:revision>
  <dc:subject/>
  <dc:title>Het begin van de Herfst. In de Tuin.</dc:title>
</cp:coreProperties>
</file>