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,09%20Zamfir%20in%20Orkest%20van%20James%20Last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99E-A366-4AD9-BF7B-79D339FC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9CD-2E29-4EC7-8354-E08E8940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691-09C4-4B55-B5E4-8C056F0A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A85-B945-457C-BBF8-645E8BA7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56A-0670-4208-A1E1-35118BFC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A5B-8FAD-4E24-9CBF-DF31F4B2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842-D9A2-4420-9D52-F62FFFF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2A0-F415-4FC4-B598-CD43229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13A-0591-437A-95B8-D36E019A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01F-F4DD-4AD5-AC0F-F012330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63F-918D-4030-BE23-D645ED2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0E6-A3FF-4C8D-89EC-16A71FA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D3FF-8C98-4434-A3BE-085CE0637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,09%20Zamfir%20in%20Orkest%20van%20James%20Las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189000"/>
            <a:ext cx="92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De eerste tekene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     </a:t>
            </a: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van de Herfs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         </a:t>
            </a: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over de Tui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11840" y="6137280"/>
            <a:ext cx="18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00"/>
                </a:solidFill>
                <a:latin typeface="Edwardian Script ITC"/>
              </a:rPr>
              <a:t>9 Oktober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44120" y="558972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cc00"/>
                </a:solidFill>
                <a:latin typeface="Edwardian Script ITC"/>
              </a:rPr>
              <a:t>Muziek  James L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2" name="1,09%20Zamfir%20in%20Orkest%20van%20James%20Las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3168720" cy="33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600" spc="-1" strike="noStrike">
                <a:solidFill>
                  <a:srgbClr val="ffcc00"/>
                </a:solidFill>
                <a:latin typeface="Edwardian Script ITC"/>
              </a:rPr>
              <a:t>Einde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36000" y="1700280"/>
            <a:ext cx="126648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7964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20:01Z</dcterms:created>
  <dc:creator>Verbeek</dc:creator>
  <dc:description/>
  <dc:language>en-US</dc:language>
  <cp:lastModifiedBy>Smets</cp:lastModifiedBy>
  <dcterms:modified xsi:type="dcterms:W3CDTF">2008-09-16T05:08:06Z</dcterms:modified>
  <cp:revision>4</cp:revision>
  <dc:subject/>
  <dc:title>Het begin van de Herfst. In de Tuin.</dc:title>
</cp:coreProperties>
</file>