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9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png" ContentType="image/png"/>
  <Override PartName="/ppt/media/image11.jpeg" ContentType="image/jpeg"/>
  <Override PartName="/ppt/media/image22.wmf" ContentType="image/x-wmf"/>
  <Override PartName="/ppt/media/image19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23.wmf" ContentType="image/x-wmf"/>
  <Override PartName="/ppt/media/image9.png" ContentType="image/png"/>
  <Override PartName="/ppt/media/image1.jpeg" ContentType="image/jpeg"/>
  <Override PartName="/ppt/media/image37.png" ContentType="image/png"/>
  <Override PartName="/ppt/media/image7.png" ContentType="image/png"/>
  <Override PartName="/ppt/media/image5.png" ContentType="image/png"/>
  <Override PartName="/ppt/media/image35.png" ContentType="image/png"/>
  <Override PartName="/ppt/media/image20.wmf" ContentType="image/x-wmf"/>
  <Override PartName="/ppt/media/image31.png" ContentType="image/png"/>
  <Override PartName="/ppt/media/image12.png" ContentType="image/png"/>
  <Override PartName="/ppt/media/image36.png" ContentType="image/png"/>
  <Override PartName="/ppt/media/image30.png" ContentType="image/png"/>
  <Override PartName="/ppt/media/image28.wmf" ContentType="image/x-wmf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21.wmf" ContentType="image/x-wmf"/>
  <Override PartName="/ppt/media/image6.jpeg" ContentType="image/jpeg"/>
  <Override PartName="/ppt/media/image1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</p:sldIdLst>
  <p:sldSz cx="9902825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739E5-71B8-4A8A-94F6-CB3008DA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89DF0-8C7A-4FAF-833D-3D5BB301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743040" y="95040"/>
            <a:ext cx="84168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AAED7-7BD1-4576-9C00-8288A7F1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2F825-CBB6-4B93-A765-D5239846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F3AB6-18E2-4509-95C9-FB099783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170E3-C212-4172-8113-FEFB784A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A87D3-CD19-44CB-BFD8-3E34909E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19BBD-0C06-444C-BFC1-91F45714E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5888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43500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7430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5888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43500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4C923-B75E-4DD0-9F57-B391068FC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EC943-7F68-4093-A35B-1AE6667CE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A916B-1B24-4C3C-91E1-92C24596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E14E1-71DF-4DF6-89D5-FE91C035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D83EB2-896F-45A0-8A35-16258ADB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503D3-4CE6-48C1-A609-313B396C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743040" y="95040"/>
            <a:ext cx="84168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82F75-278F-4456-82B4-5A3B7CE5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AB9FE-1AC8-4365-AE71-9BE70710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1230E-DA53-4FB7-8011-68375ED3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A2FDA-6BED-413A-90EB-69B96897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CB725-AB74-49B3-9B84-E3431FE7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2FBE9B-FFD9-404E-B0B3-1B1159A72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88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500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30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88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500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5888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43500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7430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5888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43500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0611D-38DB-45C4-B117-4221B6BAE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56F68-D8DC-4C8B-AB45-357619A57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FB2398-7D1D-44AD-8133-EA1772AC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E9BB37-ED45-4A7C-AC1F-4D553245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8BC30C-D25E-42D6-8979-FE6D0BC8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285D6-D6AA-4C33-9F65-4C0E8350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743040" y="95040"/>
            <a:ext cx="84168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880B6F-B277-40D8-B27B-1D04BECC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3E17E0-3E49-42C7-96F9-3B16817F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059C7-AB30-4BC0-9A5C-943B4274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4BDA6D-4479-4D97-9C3B-2D7166BE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5552-B29A-4556-BD00-38F1F7FFC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08C42B-1B5F-42FD-A2FD-4593CF95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66D4A-0102-4D28-9F92-67A8C65AA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888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43500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7430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888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43500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C0AC4A-1B07-4FEB-8CB3-A0706561A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A1B5D-21EC-474B-85B2-451D7EAFF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1D1F3-0342-43C2-B188-E01A8B3E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26F9B-AD4F-4CD5-A57D-3C28B7BB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91B48-0AD9-4A93-90BC-6234F2E1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8F790C-BF1C-4921-B5F6-CCFAF6BB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743040" y="95040"/>
            <a:ext cx="84168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051BE-B5F9-4304-B8B4-39FF4D69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81A05-EC43-4ED8-B257-8A46EEAB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40B0-D2A1-4772-BE98-082CF7C2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3B2F0-551F-4ECE-A147-6262D37B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C960E-130A-4F9E-9D08-38A761D4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BC144-15BF-4A37-8811-30CA6EFF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27A42-B892-42EB-BBCF-D11A4130B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888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43500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7430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888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43500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16844-13A9-4683-9CFF-4ACDBB588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12EF2-CB2C-414B-96D7-DB3E08CE6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5F8324-65AD-4F8F-A78A-CADA7396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B1F39F-147D-4F17-A797-2C7024C3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CFD3E2-40B9-49FA-88BC-64286D13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C84F4-A3F8-4723-987C-C97A534F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7597-0C2C-4963-B7D9-95BD95B9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743040" y="95040"/>
            <a:ext cx="84168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D5342A-40A0-4C60-A722-CC6613CE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4B3DC-0C04-42C5-98EC-A5DE52E0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881D04-172C-469B-BB3C-C150590F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2C4360-5CA0-4DC1-BA51-86578E0B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279E2-1F2C-4E38-9D6B-8BDACE67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632517-4658-40D0-BA2D-5B76B6E29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5888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43500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7430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5888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43500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750DCC-5798-4013-BC04-AC95EE0CF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10FA-1990-4F2E-8D93-C96BF95B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389D-725B-407F-A453-D7FA09C8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743040" y="95040"/>
            <a:ext cx="84168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7F09-D1C1-4A61-8E82-A829417A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0D3D-068E-46F6-AD2C-528B2BDB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5468-0E6A-4E1F-A3ED-5245F8BF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59DC-E15D-4D9A-95CF-541CFEF0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F62A-88F5-4AFB-85FE-6F666E1C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9609-E0C0-4285-B192-ED06EDB3F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888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500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430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888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500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B67F-1858-4A8E-948E-F799F125F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9DE7-1154-424D-BFD9-58EE078FD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84ED-C943-477B-A45C-A9BDA7C6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2CEE-5CF0-4964-9549-DD5DE1D2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DA92-4BD5-430E-A257-D333C6E8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7E90-5C51-4F27-9D01-36916925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743040" y="95040"/>
            <a:ext cx="84168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E875-95C5-4D19-9CD7-C651049B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EE06-2366-4528-88EE-47A8860E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6931-892A-46B0-8987-87A51388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64B6-F2A7-4F73-8D50-EFF47043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3D9F-7022-4223-8622-589427A7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A8C1-D4D1-4665-8C50-2A52FBC1E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888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43500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7430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888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43500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B71C-40A5-43A9-98D7-CCCAA1D2F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29345-DB1E-4F73-A4BF-C0F626B89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35C8C-F919-4266-8CA7-E86446C6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27F20-19BA-46AF-8074-6A9CE594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9F7A9-AAFB-4207-A0E6-C62E569F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04B18-2F40-4D39-9A6B-C90DF6FA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743040" y="95040"/>
            <a:ext cx="84168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193CA-2DA6-4498-BC76-0C768625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E91E2-3EE9-4EB1-8AB8-1E8230D7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23650-6BD4-4555-99F0-68494942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F99A1-54AF-4D97-B7F5-91D39041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2E507-4ECA-49FB-9E51-C6EDC1EE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9E7D4-687A-4FF2-B06D-FC5DD76DA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888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43500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7430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888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43500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80A29-5109-4308-987B-DFAFDDAEB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D971A-60F7-4C87-B7C0-348903D9B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6D308-2EDC-4308-99E7-7E09FDC9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B4754-DF80-4DC7-92CD-A81C47DE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2D93E-E632-496B-8AFF-7B518765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32D42-A62D-444B-80AC-AE10DFE2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743040" y="95040"/>
            <a:ext cx="84168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9E0D8-21ED-43BC-8BCC-5E49B5A6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5D5DF-8F44-432E-80C9-A3F92DC1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93CDA-3A92-4225-AE59-BD576B99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F1325-C167-4B14-8EE3-007C5998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5A0D0-9A3D-4A8F-96D7-962AD072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07E04-504A-458C-86D1-7916E9E82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3040" y="95040"/>
            <a:ext cx="84168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5888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43500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7430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5888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43500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D6613-9FEA-4BC1-A499-05B1B5C4B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B74EE-E120-47EE-8C97-DAA3B5BE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B1064-9F9B-4470-90E2-04490C37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58CE2-5677-46AC-BEDA-A13A8250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1F19C-7A95-4E03-AD8B-1A616BD9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D4A2A-8809-44EB-9DD4-7E563AB4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743040" y="95040"/>
            <a:ext cx="84168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84BCE-1609-4ECF-AC0A-5766F1D9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63F3E-4F02-43B4-8027-B5C44749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6559F-EB8D-49E3-B5BF-D7CEA0BE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1492D-4490-4BD8-B480-C035A8D8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65E21-A3E0-46E6-9E1F-4B6197A7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1C828-87BB-4F53-91A5-0622AD22E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888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43500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7430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888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43500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E932B-C866-45DD-BDE1-E49E8C2C1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5FE7D-748B-4D23-8AE0-33EB860BE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E7F82-57F0-4B50-8727-6EBF4032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0FE45-DE3D-46BA-9FCD-C8936477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01A84-CD9F-4286-A967-0AAEB3D7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CE780-2AED-4AC6-91C1-6B01A48C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743040" y="95040"/>
            <a:ext cx="84168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7CA1D-4B82-4206-93F0-D745E92A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7ACF7-A244-4034-8A9E-475031C6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3BE46-C915-4CD5-9914-A1B7BBE8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2D781-5C24-4283-9A37-1803CFE4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57B73-63C4-4E29-83FC-2AC795D3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01E23-7565-45B5-B7E2-D5DAD954F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5888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43500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7430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5888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43500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24A00-E689-439E-941F-D747E771D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83A80-D66A-4B13-8E98-6C09D9B2D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DE0ED-70BA-4A10-B060-4D27BB01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7C39D-9A2B-414B-BBA8-DA6A993E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B233F-137D-443E-9D51-43F9D97C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11751-D644-4151-AC55-7D9FD141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743040" y="95040"/>
            <a:ext cx="84168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166A9-1EF7-46FA-BDD5-BD306921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E2629-EE50-439B-8AA9-BD91D0E1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3BB47-F09B-4D57-91AA-888045CA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64899-8AF9-42CF-993B-88A8DA84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743040" y="3654360"/>
            <a:ext cx="84168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C7977-2AF7-4925-9A4E-84C0A069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056200" y="98532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74304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056200" y="3654360"/>
            <a:ext cx="410724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9FC2D-CFDF-4BDC-BC0A-949945DDB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8884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435000" y="98532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7430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8884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435000" y="3654360"/>
            <a:ext cx="27100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91549-3120-4F2C-8B32-7AE96C664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E6551-6B6D-4665-80D4-B2B929293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10536-1D42-4549-A145-1CD94634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A0A85-2E6E-4089-88E3-0FF53FC1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0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0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3040" y="98532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Line 7"/>
          <p:cNvSpPr/>
          <p:nvPr/>
        </p:nvSpPr>
        <p:spPr>
          <a:xfrm>
            <a:off x="0" y="6165720"/>
            <a:ext cx="9906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17"/>
          <p:cNvSpPr/>
          <p:nvPr/>
        </p:nvSpPr>
        <p:spPr>
          <a:xfrm>
            <a:off x="8920080" y="640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8"/>
          <p:cNvSpPr/>
          <p:nvPr/>
        </p:nvSpPr>
        <p:spPr>
          <a:xfrm>
            <a:off x="8610480" y="6248520"/>
            <a:ext cx="10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FAF5776-F905-40A7-A833-EE60F82CE45E}" type="slidenum"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95360" y="148104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5"/>
          </p:nvPr>
        </p:nvSpPr>
        <p:spPr>
          <a:xfrm>
            <a:off x="728460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6"/>
          </p:nvPr>
        </p:nvSpPr>
        <p:spPr>
          <a:xfrm>
            <a:off x="47430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27"/>
          </p:nvPr>
        </p:nvSpPr>
        <p:spPr>
          <a:xfrm>
            <a:off x="936468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5BC3-6830-4830-B2EC-4EA0E47263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Freeform 12"/>
          <p:cNvSpPr/>
          <p:nvPr/>
        </p:nvSpPr>
        <p:spPr>
          <a:xfrm>
            <a:off x="776160" y="5002200"/>
            <a:ext cx="411660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Freeform 11"/>
          <p:cNvSpPr/>
          <p:nvPr/>
        </p:nvSpPr>
        <p:spPr>
          <a:xfrm>
            <a:off x="-58680" y="5784840"/>
            <a:ext cx="411804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Right Triangle 13"/>
          <p:cNvGrpSpPr/>
          <p:nvPr/>
        </p:nvGrpSpPr>
        <p:grpSpPr>
          <a:xfrm>
            <a:off x="-12600" y="5784840"/>
            <a:ext cx="3693960" cy="1092240"/>
            <a:chOff x="-12600" y="5784840"/>
            <a:chExt cx="3693960" cy="1092240"/>
          </a:xfrm>
        </p:grpSpPr>
        <p:pic>
          <p:nvPicPr>
            <p:cNvPr id="472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69396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299880" y="6421320"/>
              <a:ext cx="1843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4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700440" cy="11095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95360" y="148104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8"/>
          </p:nvPr>
        </p:nvSpPr>
        <p:spPr>
          <a:xfrm>
            <a:off x="728460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9"/>
          </p:nvPr>
        </p:nvSpPr>
        <p:spPr>
          <a:xfrm>
            <a:off x="47430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0"/>
          </p:nvPr>
        </p:nvSpPr>
        <p:spPr>
          <a:xfrm>
            <a:off x="936468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08FB-43B5-4F2D-A7B4-DD1016B46F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95360" y="148104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1"/>
          </p:nvPr>
        </p:nvSpPr>
        <p:spPr>
          <a:xfrm>
            <a:off x="728460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2"/>
          </p:nvPr>
        </p:nvSpPr>
        <p:spPr>
          <a:xfrm>
            <a:off x="47430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3"/>
          </p:nvPr>
        </p:nvSpPr>
        <p:spPr>
          <a:xfrm>
            <a:off x="936468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BBA9-BE43-4DAE-87CF-960F0CE40F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reeform 10"/>
          <p:cNvSpPr/>
          <p:nvPr/>
        </p:nvSpPr>
        <p:spPr>
          <a:xfrm>
            <a:off x="776160" y="5002200"/>
            <a:ext cx="411660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Freeform 15"/>
          <p:cNvSpPr/>
          <p:nvPr/>
        </p:nvSpPr>
        <p:spPr>
          <a:xfrm>
            <a:off x="-58680" y="5784840"/>
            <a:ext cx="411804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Right Triangle 16"/>
          <p:cNvGrpSpPr/>
          <p:nvPr/>
        </p:nvGrpSpPr>
        <p:grpSpPr>
          <a:xfrm>
            <a:off x="-12600" y="5784840"/>
            <a:ext cx="3693960" cy="1092240"/>
            <a:chOff x="-12600" y="5784840"/>
            <a:chExt cx="3693960" cy="1092240"/>
          </a:xfrm>
        </p:grpSpPr>
        <p:pic>
          <p:nvPicPr>
            <p:cNvPr id="560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69396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299880" y="6421320"/>
              <a:ext cx="1843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2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700440" cy="1109520"/>
          </a:xfrm>
          <a:prstGeom prst="rect">
            <a:avLst/>
          </a:prstGeom>
          <a:ln w="0">
            <a:noFill/>
          </a:ln>
        </p:spPr>
      </p:pic>
      <p:sp>
        <p:nvSpPr>
          <p:cNvPr id="563" name="Chevron 19"/>
          <p:cNvSpPr/>
          <p:nvPr/>
        </p:nvSpPr>
        <p:spPr>
          <a:xfrm>
            <a:off x="9383760" y="4987800"/>
            <a:ext cx="196920" cy="228600"/>
          </a:xfrm>
          <a:custGeom>
            <a:avLst/>
            <a:gdLst>
              <a:gd name="textAreaLeft" fmla="*/ 0 w 196920"/>
              <a:gd name="textAreaRight" fmla="*/ 197280 w 1969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Chevron 20"/>
          <p:cNvSpPr/>
          <p:nvPr/>
        </p:nvSpPr>
        <p:spPr>
          <a:xfrm>
            <a:off x="9180360" y="4987800"/>
            <a:ext cx="198720" cy="228600"/>
          </a:xfrm>
          <a:custGeom>
            <a:avLst/>
            <a:gdLst>
              <a:gd name="textAreaLeft" fmla="*/ 0 w 198720"/>
              <a:gd name="textAreaRight" fmla="*/ 199080 w 198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95360" y="148104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4"/>
          </p:nvPr>
        </p:nvSpPr>
        <p:spPr>
          <a:xfrm>
            <a:off x="728460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5"/>
          </p:nvPr>
        </p:nvSpPr>
        <p:spPr>
          <a:xfrm>
            <a:off x="47430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6"/>
          </p:nvPr>
        </p:nvSpPr>
        <p:spPr>
          <a:xfrm>
            <a:off x="936468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CF50-EE28-40B4-A43A-FA77EDE8A0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-9360" y="-7920"/>
            <a:ext cx="992160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4745160" y="-7920"/>
            <a:ext cx="515772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7045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95360" y="1934640"/>
            <a:ext cx="8912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2887560" y="6356520"/>
            <a:ext cx="3632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85816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8A28-8B5C-453E-B33A-8809D770D72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20520" y="203040"/>
            <a:ext cx="9942840" cy="648000"/>
            <a:chOff x="-20520" y="203040"/>
            <a:chExt cx="9942840" cy="648000"/>
          </a:xfrm>
        </p:grpSpPr>
        <p:grpSp>
          <p:nvGrpSpPr>
            <p:cNvPr id="49" name="Freeform 11"/>
            <p:cNvGrpSpPr/>
            <p:nvPr/>
          </p:nvGrpSpPr>
          <p:grpSpPr>
            <a:xfrm>
              <a:off x="-20520" y="203040"/>
              <a:ext cx="9918720" cy="648000"/>
              <a:chOff x="-20520" y="203040"/>
              <a:chExt cx="9918720" cy="648000"/>
            </a:xfrm>
          </p:grpSpPr>
          <p:pic>
            <p:nvPicPr>
              <p:cNvPr id="5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900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20160" y="491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Freeform 12"/>
            <p:cNvGrpSpPr/>
            <p:nvPr/>
          </p:nvGrpSpPr>
          <p:grpSpPr>
            <a:xfrm>
              <a:off x="-14400" y="246600"/>
              <a:ext cx="9936720" cy="564480"/>
              <a:chOff x="-14400" y="246600"/>
              <a:chExt cx="9936720" cy="564480"/>
            </a:xfrm>
          </p:grpSpPr>
          <p:pic>
            <p:nvPicPr>
              <p:cNvPr id="5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0" y="246600"/>
                <a:ext cx="992052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4040" y="5353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12"/>
          <p:cNvSpPr/>
          <p:nvPr/>
        </p:nvSpPr>
        <p:spPr>
          <a:xfrm>
            <a:off x="776160" y="5002200"/>
            <a:ext cx="411660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reeform 11"/>
          <p:cNvSpPr/>
          <p:nvPr/>
        </p:nvSpPr>
        <p:spPr>
          <a:xfrm>
            <a:off x="-58680" y="5784840"/>
            <a:ext cx="411804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Right Triangle 13"/>
          <p:cNvGrpSpPr/>
          <p:nvPr/>
        </p:nvGrpSpPr>
        <p:grpSpPr>
          <a:xfrm>
            <a:off x="-12600" y="5784840"/>
            <a:ext cx="3693960" cy="1092240"/>
            <a:chOff x="-12600" y="5784840"/>
            <a:chExt cx="3693960" cy="1092240"/>
          </a:xfrm>
        </p:grpSpPr>
        <p:pic>
          <p:nvPicPr>
            <p:cNvPr id="9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69396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99880" y="6421320"/>
              <a:ext cx="1843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700440" cy="11095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95360" y="148104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4"/>
          </p:nvPr>
        </p:nvSpPr>
        <p:spPr>
          <a:xfrm>
            <a:off x="728460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5"/>
          </p:nvPr>
        </p:nvSpPr>
        <p:spPr>
          <a:xfrm>
            <a:off x="47430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936468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2B41-6092-4C68-BCC0-EFDFF14BD2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reeform 6"/>
          <p:cNvSpPr/>
          <p:nvPr/>
        </p:nvSpPr>
        <p:spPr>
          <a:xfrm>
            <a:off x="-9360" y="-7920"/>
            <a:ext cx="992160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7"/>
          <p:cNvSpPr/>
          <p:nvPr/>
        </p:nvSpPr>
        <p:spPr>
          <a:xfrm>
            <a:off x="4745160" y="-7920"/>
            <a:ext cx="515772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-20520" y="203040"/>
            <a:ext cx="9942840" cy="648000"/>
            <a:chOff x="-20520" y="203040"/>
            <a:chExt cx="9942840" cy="648000"/>
          </a:xfrm>
        </p:grpSpPr>
        <p:grpSp>
          <p:nvGrpSpPr>
            <p:cNvPr id="141" name="Freeform 11"/>
            <p:cNvGrpSpPr/>
            <p:nvPr/>
          </p:nvGrpSpPr>
          <p:grpSpPr>
            <a:xfrm>
              <a:off x="-20520" y="203040"/>
              <a:ext cx="9918720" cy="648000"/>
              <a:chOff x="-20520" y="203040"/>
              <a:chExt cx="9918720" cy="648000"/>
            </a:xfrm>
          </p:grpSpPr>
          <p:pic>
            <p:nvPicPr>
              <p:cNvPr id="14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900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"/>
              <p:cNvSpPr/>
              <p:nvPr/>
            </p:nvSpPr>
            <p:spPr>
              <a:xfrm rot="21435600">
                <a:off x="-20160" y="491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Freeform 12"/>
            <p:cNvGrpSpPr/>
            <p:nvPr/>
          </p:nvGrpSpPr>
          <p:grpSpPr>
            <a:xfrm>
              <a:off x="-14400" y="246600"/>
              <a:ext cx="9936720" cy="564480"/>
              <a:chOff x="-14400" y="246600"/>
              <a:chExt cx="9936720" cy="564480"/>
            </a:xfrm>
          </p:grpSpPr>
          <p:pic>
            <p:nvPicPr>
              <p:cNvPr id="14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0" y="246600"/>
                <a:ext cx="992052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4040" y="5353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5360" y="7045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95360" y="1934640"/>
            <a:ext cx="8912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8"/>
          </p:nvPr>
        </p:nvSpPr>
        <p:spPr>
          <a:xfrm>
            <a:off x="2887560" y="6356520"/>
            <a:ext cx="3632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9"/>
          </p:nvPr>
        </p:nvSpPr>
        <p:spPr>
          <a:xfrm>
            <a:off x="85816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6D79-66D0-4024-9FA6-D0DD2FE47A4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reeform 6"/>
          <p:cNvSpPr/>
          <p:nvPr/>
        </p:nvSpPr>
        <p:spPr>
          <a:xfrm>
            <a:off x="-9360" y="-7920"/>
            <a:ext cx="992160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reeform 7"/>
          <p:cNvSpPr/>
          <p:nvPr/>
        </p:nvSpPr>
        <p:spPr>
          <a:xfrm>
            <a:off x="4745160" y="-7920"/>
            <a:ext cx="515772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1"/>
          <p:cNvGrpSpPr/>
          <p:nvPr/>
        </p:nvGrpSpPr>
        <p:grpSpPr>
          <a:xfrm>
            <a:off x="-20520" y="203040"/>
            <a:ext cx="9942840" cy="648000"/>
            <a:chOff x="-20520" y="203040"/>
            <a:chExt cx="9942840" cy="648000"/>
          </a:xfrm>
        </p:grpSpPr>
        <p:grpSp>
          <p:nvGrpSpPr>
            <p:cNvPr id="191" name="Freeform 11"/>
            <p:cNvGrpSpPr/>
            <p:nvPr/>
          </p:nvGrpSpPr>
          <p:grpSpPr>
            <a:xfrm>
              <a:off x="-20520" y="203040"/>
              <a:ext cx="9918720" cy="648000"/>
              <a:chOff x="-20520" y="203040"/>
              <a:chExt cx="9918720" cy="648000"/>
            </a:xfrm>
          </p:grpSpPr>
          <p:pic>
            <p:nvPicPr>
              <p:cNvPr id="19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900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 rot="21435600">
                <a:off x="-20160" y="491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Freeform 12"/>
            <p:cNvGrpSpPr/>
            <p:nvPr/>
          </p:nvGrpSpPr>
          <p:grpSpPr>
            <a:xfrm>
              <a:off x="-14400" y="246600"/>
              <a:ext cx="9936720" cy="564480"/>
              <a:chOff x="-14400" y="246600"/>
              <a:chExt cx="9936720" cy="564480"/>
            </a:xfrm>
          </p:grpSpPr>
          <p:pic>
            <p:nvPicPr>
              <p:cNvPr id="19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1800" y="246600"/>
                <a:ext cx="992052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 rot="21435600">
                <a:off x="-14040" y="5353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360" y="7045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95360" y="1934640"/>
            <a:ext cx="8912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0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1"/>
          </p:nvPr>
        </p:nvSpPr>
        <p:spPr>
          <a:xfrm>
            <a:off x="2887560" y="6356520"/>
            <a:ext cx="3632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2"/>
          </p:nvPr>
        </p:nvSpPr>
        <p:spPr>
          <a:xfrm>
            <a:off x="8581680" y="6356520"/>
            <a:ext cx="82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9D71-0409-42FA-8E99-EF5B81188D5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nip and Round Single Corner Rectangle 13"/>
          <p:cNvSpPr/>
          <p:nvPr/>
        </p:nvSpPr>
        <p:spPr>
          <a:xfrm flipV="1" rot="420000">
            <a:off x="3428640" y="1107000"/>
            <a:ext cx="569448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ight Triangle 14"/>
          <p:cNvSpPr/>
          <p:nvPr/>
        </p:nvSpPr>
        <p:spPr>
          <a:xfrm flipV="1" rot="420000">
            <a:off x="8667360" y="5358960"/>
            <a:ext cx="1684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reeform 15"/>
          <p:cNvSpPr/>
          <p:nvPr/>
        </p:nvSpPr>
        <p:spPr>
          <a:xfrm flipV="1">
            <a:off x="-9000" y="5815440"/>
            <a:ext cx="992160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Freeform 16"/>
          <p:cNvSpPr/>
          <p:nvPr/>
        </p:nvSpPr>
        <p:spPr>
          <a:xfrm flipV="1">
            <a:off x="4745160" y="6219000"/>
            <a:ext cx="515772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360" y="7045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95360" y="1934640"/>
            <a:ext cx="8912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3"/>
          </p:nvPr>
        </p:nvSpPr>
        <p:spPr>
          <a:xfrm>
            <a:off x="495360" y="6356520"/>
            <a:ext cx="23097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4"/>
          </p:nvPr>
        </p:nvSpPr>
        <p:spPr>
          <a:xfrm>
            <a:off x="2887560" y="6356520"/>
            <a:ext cx="3632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5"/>
          </p:nvPr>
        </p:nvSpPr>
        <p:spPr>
          <a:xfrm>
            <a:off x="8747280" y="6356520"/>
            <a:ext cx="6602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5108-F5DD-436D-8116-2D24B94BF81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ight Triangle 10"/>
          <p:cNvSpPr/>
          <p:nvPr/>
        </p:nvSpPr>
        <p:spPr>
          <a:xfrm>
            <a:off x="0" y="4664160"/>
            <a:ext cx="991080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Group 15"/>
          <p:cNvGrpSpPr/>
          <p:nvPr/>
        </p:nvGrpSpPr>
        <p:grpSpPr>
          <a:xfrm>
            <a:off x="-4680" y="4952880"/>
            <a:ext cx="9907560" cy="1911600"/>
            <a:chOff x="-4680" y="4952880"/>
            <a:chExt cx="9907560" cy="1911600"/>
          </a:xfrm>
        </p:grpSpPr>
        <p:sp>
          <p:nvSpPr>
            <p:cNvPr id="285" name="Freeform 16"/>
            <p:cNvSpPr/>
            <p:nvPr/>
          </p:nvSpPr>
          <p:spPr>
            <a:xfrm>
              <a:off x="1832760" y="4952880"/>
              <a:ext cx="80672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18"/>
            <p:cNvSpPr/>
            <p:nvPr/>
          </p:nvSpPr>
          <p:spPr>
            <a:xfrm>
              <a:off x="45360" y="5236200"/>
              <a:ext cx="98542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Freeform 19"/>
            <p:cNvGrpSpPr/>
            <p:nvPr/>
          </p:nvGrpSpPr>
          <p:grpSpPr>
            <a:xfrm>
              <a:off x="1080" y="4992120"/>
              <a:ext cx="9901800" cy="1872360"/>
              <a:chOff x="1080" y="4992120"/>
              <a:chExt cx="9901800" cy="1872360"/>
            </a:xfrm>
          </p:grpSpPr>
          <p:pic>
            <p:nvPicPr>
              <p:cNvPr id="288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1080" y="4992120"/>
                <a:ext cx="990180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9" name=""/>
              <p:cNvSpPr/>
              <p:nvPr/>
            </p:nvSpPr>
            <p:spPr>
              <a:xfrm>
                <a:off x="64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90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4680" y="4986000"/>
              <a:ext cx="990756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95360" y="148104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728460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47430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936468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7003-3998-47EE-86F1-E235CE1B9F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reeform 12"/>
          <p:cNvSpPr/>
          <p:nvPr/>
        </p:nvSpPr>
        <p:spPr>
          <a:xfrm>
            <a:off x="776160" y="5002200"/>
            <a:ext cx="411660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11"/>
          <p:cNvSpPr/>
          <p:nvPr/>
        </p:nvSpPr>
        <p:spPr>
          <a:xfrm>
            <a:off x="-58680" y="5784840"/>
            <a:ext cx="411804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Right Triangle 13"/>
          <p:cNvGrpSpPr/>
          <p:nvPr/>
        </p:nvGrpSpPr>
        <p:grpSpPr>
          <a:xfrm>
            <a:off x="-12600" y="5784840"/>
            <a:ext cx="3693960" cy="1092240"/>
            <a:chOff x="-12600" y="5784840"/>
            <a:chExt cx="3693960" cy="1092240"/>
          </a:xfrm>
        </p:grpSpPr>
        <p:pic>
          <p:nvPicPr>
            <p:cNvPr id="335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69396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299880" y="6421320"/>
              <a:ext cx="1843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7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700440" cy="1109520"/>
          </a:xfrm>
          <a:prstGeom prst="rect">
            <a:avLst/>
          </a:prstGeom>
          <a:ln w="0">
            <a:noFill/>
          </a:ln>
        </p:spPr>
      </p:pic>
      <p:sp>
        <p:nvSpPr>
          <p:cNvPr id="338" name="Chevron 10"/>
          <p:cNvSpPr/>
          <p:nvPr/>
        </p:nvSpPr>
        <p:spPr>
          <a:xfrm>
            <a:off x="3938760" y="3005280"/>
            <a:ext cx="198360" cy="228600"/>
          </a:xfrm>
          <a:custGeom>
            <a:avLst/>
            <a:gdLst>
              <a:gd name="textAreaLeft" fmla="*/ 0 w 198360"/>
              <a:gd name="textAreaRight" fmla="*/ 198720 w 198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Chevron 15"/>
          <p:cNvSpPr/>
          <p:nvPr/>
        </p:nvSpPr>
        <p:spPr>
          <a:xfrm>
            <a:off x="3736800" y="3005280"/>
            <a:ext cx="198720" cy="228600"/>
          </a:xfrm>
          <a:custGeom>
            <a:avLst/>
            <a:gdLst>
              <a:gd name="textAreaLeft" fmla="*/ 0 w 198720"/>
              <a:gd name="textAreaRight" fmla="*/ 199080 w 198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95360" y="148104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9"/>
          </p:nvPr>
        </p:nvSpPr>
        <p:spPr>
          <a:xfrm>
            <a:off x="728460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0"/>
          </p:nvPr>
        </p:nvSpPr>
        <p:spPr>
          <a:xfrm>
            <a:off x="47430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1"/>
          </p:nvPr>
        </p:nvSpPr>
        <p:spPr>
          <a:xfrm>
            <a:off x="936468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4823-97FB-46F3-827F-D0C4C1AA51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Freeform 12"/>
          <p:cNvSpPr/>
          <p:nvPr/>
        </p:nvSpPr>
        <p:spPr>
          <a:xfrm>
            <a:off x="776160" y="5002200"/>
            <a:ext cx="411660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Freeform 11"/>
          <p:cNvSpPr/>
          <p:nvPr/>
        </p:nvSpPr>
        <p:spPr>
          <a:xfrm>
            <a:off x="-58680" y="5784840"/>
            <a:ext cx="411804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Right Triangle 13"/>
          <p:cNvGrpSpPr/>
          <p:nvPr/>
        </p:nvGrpSpPr>
        <p:grpSpPr>
          <a:xfrm>
            <a:off x="-12600" y="5784840"/>
            <a:ext cx="3693960" cy="1092240"/>
            <a:chOff x="-12600" y="5784840"/>
            <a:chExt cx="3693960" cy="1092240"/>
          </a:xfrm>
        </p:grpSpPr>
        <p:pic>
          <p:nvPicPr>
            <p:cNvPr id="384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69396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299880" y="6421320"/>
              <a:ext cx="18432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6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700440" cy="110952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95360" y="148104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2"/>
          </p:nvPr>
        </p:nvSpPr>
        <p:spPr>
          <a:xfrm>
            <a:off x="7284600" y="6408720"/>
            <a:ext cx="2079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3"/>
          </p:nvPr>
        </p:nvSpPr>
        <p:spPr>
          <a:xfrm>
            <a:off x="4743000" y="6408720"/>
            <a:ext cx="2546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24"/>
          </p:nvPr>
        </p:nvSpPr>
        <p:spPr>
          <a:xfrm>
            <a:off x="9364680" y="6408720"/>
            <a:ext cx="39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9D9E-29B2-4DAA-BDF5-0C8BB4BAF7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3" descr="nunutjoe 3D150px.png"/>
          <p:cNvPicPr/>
          <p:nvPr/>
        </p:nvPicPr>
        <p:blipFill>
          <a:blip r:embed="rId1"/>
          <a:stretch/>
        </p:blipFill>
        <p:spPr>
          <a:xfrm>
            <a:off x="593640" y="2143080"/>
            <a:ext cx="3143160" cy="3143160"/>
          </a:xfrm>
          <a:prstGeom prst="rect">
            <a:avLst/>
          </a:prstGeom>
          <a:ln w="0">
            <a:noFill/>
          </a:ln>
        </p:spPr>
      </p:pic>
      <p:pic>
        <p:nvPicPr>
          <p:cNvPr id="607" name="Rectangle 2" descr=""/>
          <p:cNvPicPr/>
          <p:nvPr/>
        </p:nvPicPr>
        <p:blipFill>
          <a:blip r:embed="rId2"/>
          <a:stretch/>
        </p:blipFill>
        <p:spPr>
          <a:xfrm>
            <a:off x="658800" y="2206800"/>
            <a:ext cx="88390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Tag Ganti Baris (Break line)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br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tuk pindah ke baris berikutny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ntuk penulisan lain yang dianjurkan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ML sty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br /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Rectangle 4"/>
          <p:cNvSpPr/>
          <p:nvPr/>
        </p:nvSpPr>
        <p:spPr>
          <a:xfrm>
            <a:off x="4417920" y="2971800"/>
            <a:ext cx="4876920" cy="283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kenalka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a saya ..... Ini adal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epage pertama say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arena saya baru belajar tentang c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buat homepa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epage ini masih dalam tahap pengembanga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leh karena itu tampilannya masih terlalu sederha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AutoShape 5"/>
          <p:cNvSpPr/>
          <p:nvPr/>
        </p:nvSpPr>
        <p:spPr>
          <a:xfrm>
            <a:off x="8188200" y="4738680"/>
            <a:ext cx="184320" cy="792000"/>
          </a:xfrm>
          <a:custGeom>
            <a:avLst/>
            <a:gdLst>
              <a:gd name="textAreaLeft" fmla="*/ 0 w 184320"/>
              <a:gd name="textAreaRight" fmla="*/ 66600 w 1843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514"/>
                </a:lnTo>
                <a:cubicBezTo>
                  <a:pt x="10800" y="10414"/>
                  <a:pt x="16200" y="11314"/>
                  <a:pt x="21600" y="11314"/>
                </a:cubicBezTo>
                <a:cubicBezTo>
                  <a:pt x="16200" y="11314"/>
                  <a:pt x="10800" y="12214"/>
                  <a:pt x="10800" y="1311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AutoShape 6"/>
          <p:cNvSpPr/>
          <p:nvPr/>
        </p:nvSpPr>
        <p:spPr>
          <a:xfrm>
            <a:off x="8159760" y="3119400"/>
            <a:ext cx="181080" cy="1305000"/>
          </a:xfrm>
          <a:custGeom>
            <a:avLst/>
            <a:gdLst>
              <a:gd name="textAreaLeft" fmla="*/ 0 w 181080"/>
              <a:gd name="textAreaRight" fmla="*/ 65520 w 181080"/>
              <a:gd name="textAreaTop" fmla="*/ 33840 h 1305000"/>
              <a:gd name="textAreaBottom" fmla="*/ 1271160 h 130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514"/>
                </a:lnTo>
                <a:cubicBezTo>
                  <a:pt x="10800" y="10414"/>
                  <a:pt x="16200" y="11314"/>
                  <a:pt x="21600" y="11314"/>
                </a:cubicBezTo>
                <a:cubicBezTo>
                  <a:pt x="16200" y="11314"/>
                  <a:pt x="10800" y="12214"/>
                  <a:pt x="10800" y="1311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7"/>
          <p:cNvSpPr/>
          <p:nvPr/>
        </p:nvSpPr>
        <p:spPr>
          <a:xfrm>
            <a:off x="8347320" y="367668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Paragr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8"/>
          <p:cNvSpPr/>
          <p:nvPr/>
        </p:nvSpPr>
        <p:spPr>
          <a:xfrm>
            <a:off x="8398080" y="500364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Paragr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Oval 9"/>
          <p:cNvSpPr/>
          <p:nvPr/>
        </p:nvSpPr>
        <p:spPr>
          <a:xfrm>
            <a:off x="5761080" y="3164040"/>
            <a:ext cx="74520" cy="745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Oval 10"/>
          <p:cNvSpPr/>
          <p:nvPr/>
        </p:nvSpPr>
        <p:spPr>
          <a:xfrm>
            <a:off x="6885000" y="3419640"/>
            <a:ext cx="745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Oval 11"/>
          <p:cNvSpPr/>
          <p:nvPr/>
        </p:nvSpPr>
        <p:spPr>
          <a:xfrm>
            <a:off x="6885000" y="3700440"/>
            <a:ext cx="745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Oval 12"/>
          <p:cNvSpPr/>
          <p:nvPr/>
        </p:nvSpPr>
        <p:spPr>
          <a:xfrm>
            <a:off x="8004240" y="3986280"/>
            <a:ext cx="745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Line 13"/>
          <p:cNvSpPr/>
          <p:nvPr/>
        </p:nvSpPr>
        <p:spPr>
          <a:xfrm flipV="1">
            <a:off x="5783400" y="2714400"/>
            <a:ext cx="1338120" cy="476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4"/>
          <p:cNvSpPr/>
          <p:nvPr/>
        </p:nvSpPr>
        <p:spPr>
          <a:xfrm>
            <a:off x="7098480" y="2529000"/>
            <a:ext cx="96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Ganti ba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15"/>
          <p:cNvSpPr/>
          <p:nvPr/>
        </p:nvSpPr>
        <p:spPr>
          <a:xfrm>
            <a:off x="455760" y="2971800"/>
            <a:ext cx="3649680" cy="28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p&gt;Perkenalkan,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br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ama saya ..... Ini adalah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br /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omepage pertama saya,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br /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karena saya baru belajar tentang cara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br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embuat homepage.&lt;/p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p&gt;Homepage ini masih dalam tahap pengembangan, oleh karena itu tampilannya masih terlalu sederhana.&lt;/p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Tag Font</a:t>
            </a:r>
            <a:r>
              <a:rPr b="0" lang="en-US" sz="3600" spc="-1" strike="noStrike" baseline="30000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(size)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11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emformat suatu bagian kalimat dengan ukuran, jenis huruf, atau warna tertentu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ag : font    Parameter :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, face, colo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Line 4"/>
          <p:cNvSpPr/>
          <p:nvPr/>
        </p:nvSpPr>
        <p:spPr>
          <a:xfrm>
            <a:off x="912960" y="213372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5"/>
          <p:cNvSpPr/>
          <p:nvPr/>
        </p:nvSpPr>
        <p:spPr>
          <a:xfrm>
            <a:off x="3198960" y="5257800"/>
            <a:ext cx="6402240" cy="825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kuran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atu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ua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iga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at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a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a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uju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6"/>
          <p:cNvSpPr/>
          <p:nvPr/>
        </p:nvSpPr>
        <p:spPr>
          <a:xfrm>
            <a:off x="227160" y="3657600"/>
            <a:ext cx="3700440" cy="19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kur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font size="1"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atu,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/fon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font size="2"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ua,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/fon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font size="3"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ga,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/fon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font size="4"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mpat,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/fon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font size="5"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ma,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/fon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font size="6"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am,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/fon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font size="7"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ujuh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/fon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7"/>
          <p:cNvSpPr/>
          <p:nvPr/>
        </p:nvSpPr>
        <p:spPr>
          <a:xfrm>
            <a:off x="2360520" y="2286000"/>
            <a:ext cx="556740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fo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ize="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kalima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/fon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fo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ize="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kalima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/fon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= 1, 2, 3, 4, 5, 6, 7 (ukuran huruf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= -2, -1, +0, +1, +2, +3, +4 (ukuran huruf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8"/>
          <p:cNvSpPr/>
          <p:nvPr/>
        </p:nvSpPr>
        <p:spPr>
          <a:xfrm rot="7200">
            <a:off x="1017000" y="2358720"/>
            <a:ext cx="1293840" cy="885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Ukur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Tag Font</a:t>
            </a:r>
            <a:r>
              <a:rPr b="0" lang="en-US" sz="3600" spc="-1" strike="noStrike" baseline="30000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(face)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11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emformat suatu bagian kalimat dengan ukuran, jenis huruf, atau warna tertentu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ag : font    Parameter : size,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face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, colo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Line 4"/>
          <p:cNvSpPr/>
          <p:nvPr/>
        </p:nvSpPr>
        <p:spPr>
          <a:xfrm>
            <a:off x="912960" y="213372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5"/>
          <p:cNvSpPr/>
          <p:nvPr/>
        </p:nvSpPr>
        <p:spPr>
          <a:xfrm rot="7200">
            <a:off x="684360" y="2361960"/>
            <a:ext cx="1293840" cy="885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Jenis huru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6"/>
          <p:cNvSpPr/>
          <p:nvPr/>
        </p:nvSpPr>
        <p:spPr>
          <a:xfrm>
            <a:off x="2131920" y="2362320"/>
            <a:ext cx="75423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fo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face="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ama font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kalima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/fon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ama fo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imes New Rom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urier Ne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dan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dl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303120" y="4800600"/>
            <a:ext cx="9296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epage ini masih dalam tahap pengembang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page ini masih dalam tahap pengembang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mepage ini masih dalam tahap pengembang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mepage ini masih dalam tahap pengembang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8"/>
          <p:cNvSpPr/>
          <p:nvPr/>
        </p:nvSpPr>
        <p:spPr>
          <a:xfrm>
            <a:off x="303120" y="3657600"/>
            <a:ext cx="9296640" cy="90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font face="Times New Roman"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omepage ini masih dalam tahap pengembangan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font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br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font face="Arial"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omepage ini masih dalam tahap pengembangan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font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br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font face="Courier New"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omepage ini masih dalam tahap pengembangan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font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br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font face="Verdana"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omepage ini masih dalam tahap pengembangan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fo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Tag Font</a:t>
            </a:r>
            <a:r>
              <a:rPr b="0" lang="en-US" sz="3600" spc="-1" strike="noStrike" baseline="30000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(color)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11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emformat suatu bagian kalimat dengan ukuran, jenis huruf, atau warna tertentu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ag : font    Parameter : size, face,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colo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Line 4"/>
          <p:cNvSpPr/>
          <p:nvPr/>
        </p:nvSpPr>
        <p:spPr>
          <a:xfrm>
            <a:off x="912960" y="213372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5"/>
          <p:cNvSpPr/>
          <p:nvPr/>
        </p:nvSpPr>
        <p:spPr>
          <a:xfrm rot="7200">
            <a:off x="684000" y="2361960"/>
            <a:ext cx="1293840" cy="489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Warn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6"/>
          <p:cNvSpPr/>
          <p:nvPr/>
        </p:nvSpPr>
        <p:spPr>
          <a:xfrm>
            <a:off x="6189840" y="3722760"/>
            <a:ext cx="3190680" cy="2284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Maro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imes New Roman"/>
              </a:rPr>
              <a:t>L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Gr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</a:rPr>
              <a:t>Nav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Times New Roman"/>
              </a:rPr>
              <a:t>Fusch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Times New Roman"/>
              </a:rPr>
              <a:t>Aqu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7"/>
          <p:cNvSpPr/>
          <p:nvPr/>
        </p:nvSpPr>
        <p:spPr>
          <a:xfrm>
            <a:off x="214200" y="3736800"/>
            <a:ext cx="5722920" cy="19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b&gt;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font color="#FF0000"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d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font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br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font color="#800000"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roon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font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br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font color="#00FF00"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me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font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br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font color="#008000"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reen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font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br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font color="#0000FF"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lue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font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br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font color="#000080"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avy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font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br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font color="#FFFF00"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Yellow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font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br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font color="#FF00FF"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uchsia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font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br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font color="#00FFFF"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qua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font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b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8"/>
          <p:cNvSpPr/>
          <p:nvPr/>
        </p:nvSpPr>
        <p:spPr>
          <a:xfrm>
            <a:off x="2184480" y="2362320"/>
            <a:ext cx="70498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fo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color="#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RGGBB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kalima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/fon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00 .. FF (intensitas warna merah dalam heksadesim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G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00 .. FF (intensitas warna hijau dalam heksadesim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00 .. FF (intensitas warna biru dalam heksadesim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ag Enumerasi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99"/>
                </a:solidFill>
                <a:latin typeface="Tahoma"/>
              </a:rPr>
              <a:t>List, Unordered List, Ordered List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28760" y="985320"/>
            <a:ext cx="8945280" cy="19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li&gt;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tem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/li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Untuk menandai suatu item dari daftar (enumerasi), diawali dengan simbol • (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bullet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Kelompok item harus diapit oleh tag &lt;ul&gt; &lt;/ul&gt; dalam daftar bertingkat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Untuk menomori enumerasi dengan nomor urut (1,2,3), apitlah dengan tag &lt;ol&gt; &lt;/ol&gt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Rectangle 4"/>
          <p:cNvSpPr/>
          <p:nvPr/>
        </p:nvSpPr>
        <p:spPr>
          <a:xfrm>
            <a:off x="480960" y="2693880"/>
            <a:ext cx="4388040" cy="317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a beberapa sektor potensial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li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iwisata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li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li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ni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li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li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udaya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li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br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ktor tersebut merupakan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p&gt;Fasilitas penginapan di Indonesi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o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li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osmen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li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br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osmen merupakan temp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enginapan yang berskala kec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li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otel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li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u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li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otel melati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li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li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otel berbintang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li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u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o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erkembangan dalam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5"/>
          <p:cNvSpPr/>
          <p:nvPr/>
        </p:nvSpPr>
        <p:spPr>
          <a:xfrm>
            <a:off x="5205240" y="2689200"/>
            <a:ext cx="3932280" cy="337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da beberapa sektor potensial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ariwisa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n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Buday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ktor tersebut merupakan …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asilitas penginapan di Indonesia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.  Losm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Losmen merupakan tempat penginap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yang berskala keci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2.  Hot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otel melat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otel berbint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erkembangan dalam ..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Tag Garis Mendatar (</a:t>
            </a:r>
            <a:r>
              <a:rPr b="0" i="1" lang="en-US" sz="3600" spc="-1" strike="noStrike">
                <a:solidFill>
                  <a:srgbClr val="000099"/>
                </a:solidFill>
                <a:latin typeface="Tahoma"/>
              </a:rPr>
              <a:t>Horizontal Line</a:t>
            </a: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14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hr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ntuk garis pemisah mendat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Bentuk penulisan lain yang dianjurkan (</a:t>
            </a:r>
            <a:r>
              <a:rPr b="0" i="1" lang="sv-SE" sz="2400" spc="-1" strike="noStrike">
                <a:solidFill>
                  <a:srgbClr val="000000"/>
                </a:solidFill>
                <a:latin typeface="Tahoma"/>
              </a:rPr>
              <a:t>XML style</a:t>
            </a: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)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v-SE" sz="2400" spc="-1" strike="noStrike">
                <a:solidFill>
                  <a:srgbClr val="000000"/>
                </a:solidFill>
                <a:latin typeface="Courier New"/>
              </a:rPr>
              <a:t>&lt;hr /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Rectangle 4"/>
          <p:cNvSpPr/>
          <p:nvPr/>
        </p:nvSpPr>
        <p:spPr>
          <a:xfrm>
            <a:off x="468360" y="2832120"/>
            <a:ext cx="3892680" cy="269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kenalkan, nama saya ... Ini adalah homepage pertama saya, karena saya baru belajar tentang cara membuat homepage.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&lt;hr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mepage ini masih dalam tahap pengembangan, oleh karena itu tampilannya masih terlalu sederha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Group 5"/>
          <p:cNvGrpSpPr/>
          <p:nvPr/>
        </p:nvGrpSpPr>
        <p:grpSpPr>
          <a:xfrm>
            <a:off x="4732200" y="2852640"/>
            <a:ext cx="4302360" cy="2838240"/>
            <a:chOff x="4732200" y="2852640"/>
            <a:chExt cx="4302360" cy="2838240"/>
          </a:xfrm>
        </p:grpSpPr>
        <p:sp>
          <p:nvSpPr>
            <p:cNvPr id="677" name="Rectangle 6"/>
            <p:cNvSpPr/>
            <p:nvPr/>
          </p:nvSpPr>
          <p:spPr>
            <a:xfrm>
              <a:off x="4732200" y="2852640"/>
              <a:ext cx="4302360" cy="2838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erkenalkan, nama saya ... Ini adalah homepage pertama saya, karena saya baru belajar tentang cara membuat homepag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omepage ini masih dalam tahap pengembangan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leh karena itu tampilannya masih terlalu sederhan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8" name="Group 7"/>
            <p:cNvGrpSpPr/>
            <p:nvPr/>
          </p:nvGrpSpPr>
          <p:grpSpPr>
            <a:xfrm>
              <a:off x="4854600" y="4319640"/>
              <a:ext cx="3994200" cy="20520"/>
              <a:chOff x="4854600" y="4319640"/>
              <a:chExt cx="3994200" cy="20520"/>
            </a:xfrm>
          </p:grpSpPr>
          <p:sp>
            <p:nvSpPr>
              <p:cNvPr id="679" name="Line 8"/>
              <p:cNvSpPr/>
              <p:nvPr/>
            </p:nvSpPr>
            <p:spPr>
              <a:xfrm>
                <a:off x="4861080" y="4321080"/>
                <a:ext cx="3987720" cy="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9"/>
              <p:cNvSpPr/>
              <p:nvPr/>
            </p:nvSpPr>
            <p:spPr>
              <a:xfrm>
                <a:off x="4861080" y="4340160"/>
                <a:ext cx="3987720" cy="0"/>
              </a:xfrm>
              <a:prstGeom prst="line">
                <a:avLst/>
              </a:prstGeom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0"/>
              <p:cNvSpPr/>
              <p:nvPr/>
            </p:nvSpPr>
            <p:spPr>
              <a:xfrm flipH="1">
                <a:off x="4854600" y="4319640"/>
                <a:ext cx="1440" cy="2052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Tag Gambar (</a:t>
            </a:r>
            <a:r>
              <a:rPr b="0" i="1" lang="en-US" sz="3600" spc="-1" strike="noStrike">
                <a:solidFill>
                  <a:srgbClr val="000099"/>
                </a:solidFill>
                <a:latin typeface="Tahoma"/>
              </a:rPr>
              <a:t>Image</a:t>
            </a: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99960" y="985320"/>
            <a:ext cx="9245520" cy="18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&lt;img src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="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NamaFileGambar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NamaFileGambar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= file gambar yang mempunyai ekstensi .GIF, .JPG, atau .PNG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Untuk menampilkan sebuah file gambar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Bentuk penulisan lain yang dianjurkan (</a:t>
            </a: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XML style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) :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&lt;img src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="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NamaFileGambar"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 /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Rectangle 4"/>
          <p:cNvSpPr/>
          <p:nvPr/>
        </p:nvSpPr>
        <p:spPr>
          <a:xfrm>
            <a:off x="544680" y="3017880"/>
            <a:ext cx="4128840" cy="272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img src="cover.jpg" align="left" /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Perkenalkan, nama saya ... Ini adalah homepage pertama saya, karena saya baru belajar tentang cara membuat homep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omepage ini masih dalam tahap pengembangan, oleh karena itu tampilannya masih terlalu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img src="logo.gif" alt="Logo" /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sederhana. Saya akan berusaha untuk terus memperbaiki homepage saya ini, sehingga semakin lama semakin menarik untuk diliha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Group 5"/>
          <p:cNvGrpSpPr/>
          <p:nvPr/>
        </p:nvGrpSpPr>
        <p:grpSpPr>
          <a:xfrm>
            <a:off x="5275440" y="3013200"/>
            <a:ext cx="4079520" cy="2770920"/>
            <a:chOff x="5275440" y="3013200"/>
            <a:chExt cx="4079520" cy="2770920"/>
          </a:xfrm>
        </p:grpSpPr>
        <p:sp>
          <p:nvSpPr>
            <p:cNvPr id="686" name="Rectangle 6"/>
            <p:cNvSpPr/>
            <p:nvPr/>
          </p:nvSpPr>
          <p:spPr>
            <a:xfrm>
              <a:off x="5275440" y="3013200"/>
              <a:ext cx="4079520" cy="2770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erkenalkan, nama saya ... Ini adalah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omepage pertama saya, karena say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u belajar tentang cara membuat homepage. Homepage ini masih dalam tahap pengembangan, oleh karena itu tampilanny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sih terlalu               sederhana. Saya akan berusaha untuk terus memperbaiki homepage saya ini, sehingga semakin lama semakin menarik untuk diliha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7" name="Picture 7" descr="depparpostel"/>
            <p:cNvPicPr/>
            <p:nvPr/>
          </p:nvPicPr>
          <p:blipFill>
            <a:blip r:embed="rId1"/>
            <a:stretch/>
          </p:blipFill>
          <p:spPr>
            <a:xfrm>
              <a:off x="6445080" y="4349520"/>
              <a:ext cx="653760" cy="65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Picture 8" descr="cover"/>
            <p:cNvPicPr/>
            <p:nvPr/>
          </p:nvPicPr>
          <p:blipFill>
            <a:blip r:embed="rId2"/>
            <a:stretch/>
          </p:blipFill>
          <p:spPr>
            <a:xfrm>
              <a:off x="5394240" y="3098880"/>
              <a:ext cx="750600" cy="651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Tag Tabel (</a:t>
            </a:r>
            <a:r>
              <a:rPr b="0" i="1" lang="en-US" sz="3600" spc="-1" strike="noStrike">
                <a:solidFill>
                  <a:srgbClr val="000099"/>
                </a:solidFill>
                <a:latin typeface="Tahoma"/>
              </a:rPr>
              <a:t>Table</a:t>
            </a: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) - data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416800" cy="18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table&gt;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i tabel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/tabl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nampilkan data dalam bentuk t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bel didefinisikan dengan cara menyatakan baris-baris dan kolom-kolom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g untuk penanda baris adalah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&lt;tr&gt;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definisi baris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&lt;/tr&gt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g untuk penanda kolom adalah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&lt;td&gt;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ata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&lt;/td&gt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Rectangle 4"/>
          <p:cNvSpPr/>
          <p:nvPr/>
        </p:nvSpPr>
        <p:spPr>
          <a:xfrm>
            <a:off x="369720" y="3463920"/>
            <a:ext cx="5472360" cy="240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table border="1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t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td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aa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/t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td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bb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/t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td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cc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/t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/t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t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td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dd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/td&gt;&lt;td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ee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/td&gt;&lt;td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ff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/t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/t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/tabl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5"/>
          <p:cNvSpPr/>
          <p:nvPr/>
        </p:nvSpPr>
        <p:spPr>
          <a:xfrm>
            <a:off x="6129360" y="3495600"/>
            <a:ext cx="3301920" cy="2284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Picture 6" descr="del"/>
          <p:cNvPicPr/>
          <p:nvPr/>
        </p:nvPicPr>
        <p:blipFill>
          <a:blip r:embed="rId1"/>
          <a:stretch/>
        </p:blipFill>
        <p:spPr>
          <a:xfrm>
            <a:off x="6248520" y="3589200"/>
            <a:ext cx="15048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Tag Tabel (</a:t>
            </a:r>
            <a:r>
              <a:rPr b="0" i="1" lang="en-US" sz="3600" spc="-1" strike="noStrike">
                <a:solidFill>
                  <a:srgbClr val="000099"/>
                </a:solidFill>
                <a:latin typeface="Tahoma"/>
              </a:rPr>
              <a:t>Table</a:t>
            </a: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) - layout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743040" y="985320"/>
            <a:ext cx="8377200" cy="6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tuk menata letak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layout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i dokum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Rectangle 4"/>
          <p:cNvSpPr/>
          <p:nvPr/>
        </p:nvSpPr>
        <p:spPr>
          <a:xfrm>
            <a:off x="252360" y="1752480"/>
            <a:ext cx="7288200" cy="31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table border="1" width="500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t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td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eader kiri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t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td align="center" width="50%"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eader tengah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t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td align="right"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eader kanan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t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t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t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td valign="top" rowspan="2"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enu kiri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t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td align="center" colspan="2" height="200"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agian Isi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t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t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t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td align="center"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oter tengah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t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td align="right"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oter kanan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t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t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tab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5"/>
          <p:cNvSpPr/>
          <p:nvPr/>
        </p:nvSpPr>
        <p:spPr>
          <a:xfrm>
            <a:off x="5240160" y="3767040"/>
            <a:ext cx="4380120" cy="2284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8" name="Object 6"/>
          <p:cNvGraphicFramePr/>
          <p:nvPr/>
        </p:nvGraphicFramePr>
        <p:xfrm>
          <a:off x="5332320" y="3830760"/>
          <a:ext cx="413244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2320" y="3830760"/>
                    <a:ext cx="413244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Desain/Layout Halaman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701" name="Object 1024"/>
          <p:cNvGraphicFramePr/>
          <p:nvPr/>
        </p:nvGraphicFramePr>
        <p:xfrm>
          <a:off x="2841480" y="1563840"/>
          <a:ext cx="2051280" cy="27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1480" y="1563840"/>
                    <a:ext cx="2051280" cy="27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3" name="Object 1025"/>
          <p:cNvGraphicFramePr/>
          <p:nvPr/>
        </p:nvGraphicFramePr>
        <p:xfrm>
          <a:off x="4948200" y="2174760"/>
          <a:ext cx="2067120" cy="274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48200" y="2174760"/>
                    <a:ext cx="2067120" cy="27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5" name="Object 1026"/>
          <p:cNvGraphicFramePr/>
          <p:nvPr/>
        </p:nvGraphicFramePr>
        <p:xfrm>
          <a:off x="7089840" y="3009960"/>
          <a:ext cx="2090520" cy="277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6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9840" y="3009960"/>
                    <a:ext cx="2090520" cy="27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7" name="Object 1027"/>
          <p:cNvGraphicFramePr/>
          <p:nvPr/>
        </p:nvGraphicFramePr>
        <p:xfrm>
          <a:off x="760320" y="1023840"/>
          <a:ext cx="2041560" cy="2711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8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0320" y="1023840"/>
                    <a:ext cx="2041560" cy="27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495360" y="148104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TML : format standar untuk membuat dokumen web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pesifikasi HTML standar (HTML 4.01 ) : http://www.w3.org/TR/html4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TML merupakan bahasa bertanda, menggunakan rangkaian teks tertentu (tag) untuk menandai teks yang mempunyai interpretasi khusu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ile HTML berupa file teks (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plain text fil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, bukan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binary fil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 sehingga dapat dibuat menggunakan editor teks bias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09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91803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Tag Link (Anchor)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30000" y="836640"/>
            <a:ext cx="847548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 href="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in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ata yang di-clic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a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 name="#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cua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ata yang dituju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a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n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Alamat URL atau nama file dan/atau acuan yang dituj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u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Kata sembarang sebagai penanda (bookmar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ntuk link ke URL/file/bagian dokumen lai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Rectangle 5"/>
          <p:cNvSpPr/>
          <p:nvPr/>
        </p:nvSpPr>
        <p:spPr>
          <a:xfrm>
            <a:off x="198360" y="2492280"/>
            <a:ext cx="8137440" cy="137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aya ingin melihat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a href="hal2.html"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alaman selanjutnya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a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 Saya in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ngsung menuju ke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a href="#akhir"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agian akhir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a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 Saya ingin menuju 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a href="hal2.html#bawah"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agian bawah pada halaman selanjutnya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a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&lt;br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a href="http://www.detik.com"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img src="gambar.gif" /&gt;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a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Homep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tik.com.&lt;br /&gt;Ini bagian tengah.&lt;br /&gt;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a name="#akhir"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i bag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khir.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&lt;/a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7"/>
          <p:cNvSpPr/>
          <p:nvPr/>
        </p:nvSpPr>
        <p:spPr>
          <a:xfrm>
            <a:off x="8551800" y="292428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l1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Picture 9" descr=""/>
          <p:cNvPicPr/>
          <p:nvPr/>
        </p:nvPicPr>
        <p:blipFill>
          <a:blip r:embed="rId1"/>
          <a:stretch/>
        </p:blipFill>
        <p:spPr>
          <a:xfrm>
            <a:off x="271440" y="3933720"/>
            <a:ext cx="8896320" cy="2095560"/>
          </a:xfrm>
          <a:prstGeom prst="rect">
            <a:avLst/>
          </a:prstGeom>
          <a:ln w="0">
            <a:noFill/>
          </a:ln>
        </p:spPr>
      </p:pic>
      <p:sp>
        <p:nvSpPr>
          <p:cNvPr id="714" name="Freeform 10"/>
          <p:cNvSpPr/>
          <p:nvPr/>
        </p:nvSpPr>
        <p:spPr>
          <a:xfrm>
            <a:off x="3222720" y="3716280"/>
            <a:ext cx="1296720" cy="2732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Struktur Link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716" name="Object 1024"/>
          <p:cNvGraphicFramePr/>
          <p:nvPr/>
        </p:nvGraphicFramePr>
        <p:xfrm>
          <a:off x="4951440" y="4076640"/>
          <a:ext cx="3554280" cy="13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1440" y="4076640"/>
                    <a:ext cx="355428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8" name="Object 1025"/>
          <p:cNvGraphicFramePr/>
          <p:nvPr/>
        </p:nvGraphicFramePr>
        <p:xfrm>
          <a:off x="1351080" y="3284640"/>
          <a:ext cx="2381040" cy="250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9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1080" y="3284640"/>
                    <a:ext cx="2381040" cy="25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0" name="Object 1026"/>
          <p:cNvGraphicFramePr/>
          <p:nvPr/>
        </p:nvGraphicFramePr>
        <p:xfrm>
          <a:off x="876240" y="888840"/>
          <a:ext cx="3645000" cy="205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1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76240" y="888840"/>
                    <a:ext cx="36450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2" name="Object 1027"/>
          <p:cNvGraphicFramePr/>
          <p:nvPr/>
        </p:nvGraphicFramePr>
        <p:xfrm>
          <a:off x="6299280" y="880920"/>
          <a:ext cx="2500200" cy="250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3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99280" y="880920"/>
                    <a:ext cx="2500200" cy="25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frame &amp; frameset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705960" y="974520"/>
            <a:ext cx="8417160" cy="26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ebih dari satu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dokumen dapat ditampilkan secara bersamaan dalam satu tampil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tiap dokumen ditampilkan dalam sebuah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buah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frames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nentukan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ata letak, ukuran, dan banyakny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fram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ang akan ditampilk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 dalam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frameset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oleh ada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frameset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in (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eranak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butuhkan satu dokumen tersendiri yang berisi definisi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frames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 Dokumen tersebut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idak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punyai isi dokumen (tidak ada &lt;body&gt; &lt;/body&gt;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kema dasar dokumen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frames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Rectangle 4"/>
          <p:cNvSpPr/>
          <p:nvPr/>
        </p:nvSpPr>
        <p:spPr>
          <a:xfrm>
            <a:off x="743040" y="3110040"/>
            <a:ext cx="8416800" cy="29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html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title&gt;Judul dokumen&lt;/titl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frameset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frame src="namafile1"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frame src="namafile2"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...dst (atau frameset yang lain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noframes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bagian ini ditampilkan jika browser tidak mendukung fram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/noframes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/frameset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Picture 2" descr=""/>
          <p:cNvPicPr/>
          <p:nvPr/>
        </p:nvPicPr>
        <p:blipFill>
          <a:blip r:embed="rId1"/>
          <a:stretch/>
        </p:blipFill>
        <p:spPr>
          <a:xfrm>
            <a:off x="4816440" y="1614600"/>
            <a:ext cx="4846680" cy="4478400"/>
          </a:xfrm>
          <a:prstGeom prst="rect">
            <a:avLst/>
          </a:prstGeom>
          <a:ln w="0">
            <a:noFill/>
          </a:ln>
        </p:spPr>
      </p:pic>
      <p:sp>
        <p:nvSpPr>
          <p:cNvPr id="728" name="Freeform 3"/>
          <p:cNvSpPr/>
          <p:nvPr/>
        </p:nvSpPr>
        <p:spPr>
          <a:xfrm>
            <a:off x="4633920" y="1401840"/>
            <a:ext cx="3278160" cy="1197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Rectangle 4"/>
          <p:cNvSpPr/>
          <p:nvPr/>
        </p:nvSpPr>
        <p:spPr>
          <a:xfrm>
            <a:off x="0" y="260280"/>
            <a:ext cx="725328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title&gt;Document Frameset&lt;/tit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3333cc"/>
                </a:solidFill>
                <a:latin typeface="Courier New"/>
              </a:rPr>
              <a:t>&lt;frameset cols="33%,43%,23%" frameborder="1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3333cc"/>
                </a:solidFill>
                <a:latin typeface="Courier New"/>
              </a:rPr>
              <a:t>&lt;frameset rows="*,200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&lt;frame src="page1.html" name="satu" scrolling="no" frameborder="0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&lt;frame src="page2.html" name="dua" scrolling="yes" noresiz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3333cc"/>
                </a:solidFill>
                <a:latin typeface="Courier New"/>
              </a:rPr>
              <a:t>&lt;/framese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&lt;frame src="page3.html" name="tiga" frameborder="0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&lt;frame src="page4.html" name="empat" frameborder="1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8000"/>
                </a:solidFill>
                <a:latin typeface="Courier New"/>
              </a:rPr>
              <a:t>&lt;nofram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8000"/>
                </a:solidFill>
                <a:latin typeface="Courier New"/>
              </a:rPr>
              <a:t>Ada 4 halaman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8000"/>
                </a:solidFill>
                <a:latin typeface="Courier New"/>
              </a:rPr>
              <a:t>&lt;o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8000"/>
                </a:solidFill>
                <a:latin typeface="Courier New"/>
              </a:rPr>
              <a:t>&lt;li&gt;&lt;a href="page1.html"&gt;Halaman 1&lt;/a&gt;&lt;/li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8000"/>
                </a:solidFill>
                <a:latin typeface="Courier New"/>
              </a:rPr>
              <a:t>&lt;li&gt;&lt;a href="page2.html"&gt;Halaman 2&lt;/a&gt;&lt;/li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8000"/>
                </a:solidFill>
                <a:latin typeface="Courier New"/>
              </a:rPr>
              <a:t>&lt;li&gt;&lt;a href="page3.html"&gt;Halaman 3&lt;/a&gt;&lt;/li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8000"/>
                </a:solidFill>
                <a:latin typeface="Courier New"/>
              </a:rPr>
              <a:t>&lt;li&gt;&lt;a href="page4.html"&gt;Halaman 4&lt;/a&gt;&lt;/li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8000"/>
                </a:solidFill>
                <a:latin typeface="Courier New"/>
              </a:rPr>
              <a:t>&lt;/o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8000"/>
                </a:solidFill>
                <a:latin typeface="Courier New"/>
              </a:rPr>
              <a:t>&lt;/nofram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3333cc"/>
                </a:solidFill>
                <a:latin typeface="Courier New"/>
              </a:rPr>
              <a:t>&lt;/framese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224000" y="119160"/>
            <a:ext cx="84168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Contoh Dokumen </a:t>
            </a:r>
            <a:r>
              <a:rPr b="0" i="1" lang="en-US" sz="3600" spc="-1" strike="noStrike">
                <a:solidFill>
                  <a:srgbClr val="000099"/>
                </a:solidFill>
                <a:latin typeface="Tahoma"/>
              </a:rPr>
              <a:t>Frameset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iframe (inline frame)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705960" y="974880"/>
            <a:ext cx="8417160" cy="15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 dalam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ebuah dokumen (induk) dapat ditampilkan satu atau beberapa dokumen lain (anak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tiap dokumen (anak) yang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isipka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diletakkan dalam sebuah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ifr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kumen induk merupakan dokumen biasa yang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empunyai is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dokum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kema dasar dokumen dengan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ifram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Rectangle 4"/>
          <p:cNvSpPr/>
          <p:nvPr/>
        </p:nvSpPr>
        <p:spPr>
          <a:xfrm>
            <a:off x="706320" y="2405160"/>
            <a:ext cx="8417160" cy="29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html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title&gt;Judul dokumen&lt;/titl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si dokumen…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iframe src="namafile"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bagian ini ditampilkan jika browser tidak mendukung fram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/ifra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si dokumen…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224000" y="119160"/>
            <a:ext cx="84168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Contoh </a:t>
            </a:r>
            <a:r>
              <a:rPr b="0" i="1" lang="en-US" sz="3600" spc="-1" strike="noStrike">
                <a:solidFill>
                  <a:srgbClr val="000099"/>
                </a:solidFill>
                <a:latin typeface="Tahoma"/>
              </a:rPr>
              <a:t>inline frame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735" name="Picture 3" descr=""/>
          <p:cNvPicPr/>
          <p:nvPr/>
        </p:nvPicPr>
        <p:blipFill>
          <a:blip r:embed="rId1"/>
          <a:stretch/>
        </p:blipFill>
        <p:spPr>
          <a:xfrm>
            <a:off x="4140360" y="1857240"/>
            <a:ext cx="5479920" cy="4167360"/>
          </a:xfrm>
          <a:prstGeom prst="rect">
            <a:avLst/>
          </a:prstGeom>
          <a:ln w="0">
            <a:noFill/>
          </a:ln>
        </p:spPr>
      </p:pic>
      <p:sp>
        <p:nvSpPr>
          <p:cNvPr id="736" name="Rectangle 4"/>
          <p:cNvSpPr/>
          <p:nvPr/>
        </p:nvSpPr>
        <p:spPr>
          <a:xfrm>
            <a:off x="147600" y="162000"/>
            <a:ext cx="850104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title&gt;Kisah Sekolah&lt;/tit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1&gt;Kisah-kisah di sekolah&lt;/h1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asa sekolah adalah masa yang menyenangkan bagiku. Sebagian besar waktu hidupku samp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at ini dihabiskan untuk sekolah, dan aku sangat menikmati saat-saat itu. Inil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bagian kisah-kisahku di sekolah.&lt;p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&lt;iframe width='200' height='179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src='sd.html'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8000"/>
                </a:solidFill>
                <a:latin typeface="Courier New"/>
              </a:rPr>
              <a:t>&lt;a href="sd.html"&gt;Kisah SD&lt;/a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&lt;/ifr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amp;nbs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&lt;iframe width='200' height='179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src='smp.html' frameborder='0'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8000"/>
                </a:solidFill>
                <a:latin typeface="Courier New"/>
              </a:rPr>
              <a:t>&lt;a href="smp.html"&gt;Kisah SMP&lt;/a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&lt;/ifr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amp;nbs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&lt;iframe width='200' height='179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src='smu.html' scrolling='no'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8000"/>
                </a:solidFill>
                <a:latin typeface="Courier New"/>
              </a:rPr>
              <a:t>&lt;a href="smu.html"&gt;Kisah SMU&lt;/a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&lt;/ifr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p&gt;Semua pengalaman dan teman-te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yang kudapat sungguh sangat mewarn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idupku dan memberikan pengaruh bes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erhadap dirik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form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05960" y="974520"/>
            <a:ext cx="8650440" cy="46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buah dokumen interaktif dapat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enangani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dari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aloginya : bahwa dokumen adalah sebuah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rmulir isi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buah dokumen dapat mengandung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atu atau beberapa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for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tiap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form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ewakili sebuah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task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esifik (login, mengisi biodata, memilih bahasa, dll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tiap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form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dapat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enghimpu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atu atau beberapa elemen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a beberapa jenis elemen input untuk menangan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erbaga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karakteristik data inpu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 setiap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form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us ditentukan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ama program (di sisi server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ang akan menangani data isian yang dikirim (di-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submi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kema dasar dokumen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form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form method="POST" action="namaprogram"&gt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bagian ini berisi bagian dokumen HTML yang akan menggambarkan formulir isian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dengan susunan sejumlah elemen input berbagai jeni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oh sebuah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form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ederhana untuk meminta nama user 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form method="POST" action="proses.php"&gt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label for="nama"&gt;Ketikkan nama Anda:&lt;/label&gt;&lt;br&gt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input type="text" name="nama" id="nama"&gt;&lt;br&gt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input type="submit" value="Kirim"&gt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9" name="Picture 4" descr=""/>
          <p:cNvPicPr/>
          <p:nvPr/>
        </p:nvPicPr>
        <p:blipFill>
          <a:blip r:embed="rId1"/>
          <a:stretch/>
        </p:blipFill>
        <p:spPr>
          <a:xfrm>
            <a:off x="6750000" y="4535640"/>
            <a:ext cx="2578320" cy="1492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Karakteristik data input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703440" y="836280"/>
            <a:ext cx="84168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ks satu baris (single-line tex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input type="text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ks banyak baris (multi-line tex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textarea&gt;&lt;/textarea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ks rahasia (passwor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input type="password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ilihan tunggal (single selectio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input type="radio"&gt;, &lt;select&gt;&lt;/selec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ilihan majemuk (multiple selection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select multiple&gt;&lt;/selec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entang (on/off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input type="checkbox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bawaan/tersembunyi (hidde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input type="hidden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input type="file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oordinat 2D dalam sebuah bidang gamb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input type="image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ksi user melalui penekanan tomb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input type="submit"&gt;, &lt;input type="reset"&gt;, &lt;input type="button"&gt;, &lt;button&gt;&lt;/button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Tag input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61720" y="799920"/>
            <a:ext cx="9180360" cy="54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input type="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jen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 name="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am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d="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 value="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nila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 disable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ype : text, password, radio, checkbox, image, submit, reset, button, hidden,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ame : identifier untuk sisi serv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d : identifier untuk sisi brows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lue : nilai defaul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abled : jika disebutkan maka elemen tidak aktif (tidak digunaka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input type="[text|password]" name="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am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adonly size="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 maxlength="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only : jika disebutkan maka elemen tidak bisa diubah nilainy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ze : ukuran lebar dalam banyaknya karakter (bisa di-override oleh CS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xlength : banyaknya karakter maksimal yang dapat dimasukkan us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input type="[radio|checkbox]" name="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am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checke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cked : jika disebutkan maka defaultnya adalah dalam keadaan dipili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input type="image" src="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gamba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 name="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am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lt="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alternat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rc : nama file gamb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t : teks yang ditampilkan bila browser tidak dapat menampilkan gamb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Tag textarea, select, button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83840" y="887400"/>
            <a:ext cx="8823240" cy="54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extarea name="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am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ows="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 cols="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nila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extarea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ilai : nilai defaul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ws : banyaknya baris yang ditampilkan (tinggi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ls : banyaknya kolom/karakter yang ditampilkan (lebar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select name="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am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ultiple size="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&lt;option value="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ilai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electe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teks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option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&lt;option value="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ilai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&gt;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teks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option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…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selec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 : jika disebutkan maka pilihan boleh lebih dari satu (sambil menekan tombol Ctrl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ze : banyaknya baris pilihan yang ditampilkan (default=1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ed : jika disebutkan maka defaultnya dalam keadaan terpili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utton type="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jen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 name="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value="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nila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tampila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utton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ype : submit, reset, butt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mpilan : kode dalam HTML yang akan menjadi tampilan untuk tomb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Skema Dasar Dokumen HTML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743040" y="985680"/>
            <a:ext cx="8416800" cy="309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M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ITLE&gt;Judul dokumen&lt;/TITL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i dokume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743040" y="4365720"/>
            <a:ext cx="8416800" cy="17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ML: menandai awal dan akhir dokumen 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: menandai bagian header dokumen 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TLE: memberi judul pada dokumen 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: menandai awal dan akhir isi dokumen (yang ditampilka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743040" y="106200"/>
            <a:ext cx="84168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Contoh form (1)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7" name="Rectangle 3"/>
          <p:cNvSpPr/>
          <p:nvPr/>
        </p:nvSpPr>
        <p:spPr>
          <a:xfrm>
            <a:off x="122400" y="149400"/>
            <a:ext cx="8637480" cy="52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Courier New"/>
              </a:rPr>
              <a:t>&lt;form method="POST" action="proses.php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Silahkan isi data And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&lt;input type="hidden" name="halaman" value="1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table border="1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t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td&gt;&lt;label for="nama"&gt;Nama lengkap:&lt;/label&gt;&lt;/td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td&gt;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&lt;input type="text" name="nama" id="nama" maxlength="40" size="20"&gt;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/td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/t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t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td&gt;&lt;label for="pass"&gt;Password:&lt;/label&gt;&lt;/td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td&gt;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&lt;input type="password" name="pass" id="pass" maxlength="8" size="8"&gt;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/td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/t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t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td&gt;&lt;label for="jenkel"&gt;Jenis kelamin:&lt;/label&gt;&lt;/td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td&gt;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&lt;input type="radio" name="jenkel" id="jenkel" value="L"&gt;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Laki-laki&lt;b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&lt;input type="radio" name="jenkel" id="jenkel" value="P"&gt;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Perempuan&lt;/td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/t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t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td&gt;&lt;label for="alamat"&gt;Alamat:&lt;/label&gt;&lt;/td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td&gt;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&lt;textarea rows="3" cols="30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          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name="alamat" id="alamat"&gt;&lt;/textarea&gt;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/td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/t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t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td&gt;&lt;label for="bayar"&gt;Sudah bayar?&lt;/label&gt;&lt;/td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td&gt;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&lt;input type="checkbox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          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name="bayar" id="bayar"&gt;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Sudah&lt;/td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/t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/tabl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&lt;input type="submit" value=" Kirim 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&lt;input type="reset" value="Reset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Courier New"/>
              </a:rPr>
              <a:t>&lt;/form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8" name="Picture 4" descr=""/>
          <p:cNvPicPr/>
          <p:nvPr/>
        </p:nvPicPr>
        <p:blipFill>
          <a:blip r:embed="rId1"/>
          <a:stretch/>
        </p:blipFill>
        <p:spPr>
          <a:xfrm>
            <a:off x="5199120" y="3243240"/>
            <a:ext cx="4076640" cy="2666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743040" y="106200"/>
            <a:ext cx="84168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Contoh form (2)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0" name="Rectangle 3"/>
          <p:cNvSpPr/>
          <p:nvPr/>
        </p:nvSpPr>
        <p:spPr>
          <a:xfrm>
            <a:off x="198360" y="358920"/>
            <a:ext cx="8637840" cy="54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Courier New"/>
              </a:rPr>
              <a:t>&lt;form method="POST" action="proses.php" enctype="multipart/form-data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input type="hidden" name="halaman" value="2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table border="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td&gt;&lt;label for="kota"&gt;Kota:&lt;/label&gt;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td&gt;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select name="kota" id="kota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option value=""&gt;pilih kota...&lt;/option&gt;&lt;option value="bdg"&gt;Bandung&lt;/op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option value="jkt"&gt;Jakarta&lt;/option&gt;&lt;option value="sby"&gt;Surabaya&lt;/op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        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/select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td&gt;&lt;/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td&gt;&lt;label for="kerja"&gt;Pekerjaan:&lt;/label&gt;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td&gt;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select name="kerja" id="kerja" size="4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option value="a"&gt;Mahasiswa&lt;/option&gt;&lt;option value="b"&gt;Pegawai swasta&lt;/op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option value="c"&gt;Pegawai negeri&lt;/option&gt;&lt;option value="d"&gt;Wiraswasta&lt;/op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        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/select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td&gt;&lt;/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td&gt;&lt;label for="bahasa"&gt;Bahasa:&lt;/label&gt;&lt;br&gt;(bisa lebih dari satu)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td&gt;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select name="bahasa" id="bahasa" size="4" multipl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option value="id"&gt;Indonesia&lt;/op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option value="en"&gt;Inggris&lt;/op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option value="ch"&gt;Cina&lt;/op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option value="fr"&gt;Prancis&lt;/op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        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/select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td&gt;&lt;/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td&gt;Hobi:&lt;br&gt;(bisa lebih dari satu)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td&gt;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input type="checkbox" name="hobi" value="1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erenang&lt;b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Courier New"/>
              </a:rPr>
              <a:t>        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input type="checkbox" name="hobi" value="2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onton film&lt;b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Courier New"/>
              </a:rPr>
              <a:t>        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input type="checkbox" name="hobi" value="3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usik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tr&gt;&lt;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td&gt;&lt;label for="foto"&gt;Foto:&lt;/label&gt;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td&gt;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input type="file" name="foto" id="foto" size="10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td&gt;&lt;/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tabl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button type="submit"&gt;Kirim &lt;img src="smiley.gif"&gt;&lt;/butt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button type="reset"&gt;Reset &lt;img src="tanya.gif"&gt;&lt;/butt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Picture 4" descr=""/>
          <p:cNvPicPr/>
          <p:nvPr/>
        </p:nvPicPr>
        <p:blipFill>
          <a:blip r:embed="rId1"/>
          <a:stretch/>
        </p:blipFill>
        <p:spPr>
          <a:xfrm>
            <a:off x="6194520" y="2631960"/>
            <a:ext cx="3419280" cy="3400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52" name="AutoShape 5"/>
          <p:cNvSpPr/>
          <p:nvPr/>
        </p:nvSpPr>
        <p:spPr>
          <a:xfrm>
            <a:off x="8194680" y="1123920"/>
            <a:ext cx="1469880" cy="1324080"/>
          </a:xfrm>
          <a:prstGeom prst="wedgeRoundRectCallout">
            <a:avLst>
              <a:gd name="adj1" fmla="val -45462"/>
              <a:gd name="adj2" fmla="val 8585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3" name="Object 0"/>
          <p:cNvGraphicFramePr/>
          <p:nvPr/>
        </p:nvGraphicFramePr>
        <p:xfrm>
          <a:off x="8345520" y="1222200"/>
          <a:ext cx="119052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4" name="Object 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45520" y="1222200"/>
                    <a:ext cx="1190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743040" y="106200"/>
            <a:ext cx="84168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Contoh form (3)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6" name="Rectangle 3"/>
          <p:cNvSpPr/>
          <p:nvPr/>
        </p:nvSpPr>
        <p:spPr>
          <a:xfrm>
            <a:off x="222120" y="246240"/>
            <a:ext cx="89474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80"/>
                </a:solidFill>
                <a:latin typeface="Courier New"/>
              </a:rPr>
              <a:t>&lt;form method="POST" action="proses.php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table border="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td&gt;&lt;label for="kode"&gt;Kode:&lt;/label&gt;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td&gt;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input type="text" name="kode" id="kode" maxlength="3" size="3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td&gt;&lt;label for="jenis"&gt;Jenis:&lt;/label&gt;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td&gt;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select name="jenis" id="jenis" size="4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option value="pat"&gt;Kapal patroli&lt;/op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option value="per"&gt;Kapal perusak&lt;/op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option value="pud"&gt;Pangkalan udara&lt;/op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option value="mar"&gt;Markas&lt;/op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option value="log"&gt;Logistik&lt;/op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        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/select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td colspan="2"&gt;Tunjuk lokasi penempatan :&lt;b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input type="image" src="peta1.gif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tabl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8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Picture 4" descr=""/>
          <p:cNvPicPr/>
          <p:nvPr/>
        </p:nvPicPr>
        <p:blipFill>
          <a:blip r:embed="rId1"/>
          <a:stretch/>
        </p:blipFill>
        <p:spPr>
          <a:xfrm>
            <a:off x="4684680" y="2281320"/>
            <a:ext cx="4913280" cy="3747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Link pada bidang gambar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7600" y="874440"/>
            <a:ext cx="88758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k dapat didefinisikan pada satu atau beberapa area pada sebuah bidang gamb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kema 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img src="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gamba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 usemap="#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pet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map name="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pet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area shape="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bentuk1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 coords="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koordinat1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 href="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url1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 alt="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teks1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area shape="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bentuk2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 coords="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koordinat2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 href="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url2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 alt="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teks2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map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rc : nama file gamb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emap : nama definisi peta yang digunaka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pe : default, rect, circle, pol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ords : koordinat, dengan format 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ault : x1,y1,x2,y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t : x1,y1,x2,y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ircle : x,y,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ly : x1,y1,x2,y2,x3,y3,…,xn,y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ref : URL yang dituju bila area di-kli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Contoh penggunaan map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1" name="Rectangle 3"/>
          <p:cNvSpPr/>
          <p:nvPr/>
        </p:nvSpPr>
        <p:spPr>
          <a:xfrm>
            <a:off x="196920" y="552600"/>
            <a:ext cx="934236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Klik pada wajah untuk melihat biodata&lt;b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80"/>
                </a:solidFill>
                <a:latin typeface="Courier New"/>
              </a:rPr>
              <a:t>&lt;img src="aadc.jpg" usemap="#aadc" border="0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&lt;map name="aadc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&lt;area shape="circle" coords="131,82,37" href="titi.html" alt="Titi Kamal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&lt;area shape="rect" coords="172,52,238,129" href="adinia.html" alt="Adinia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&lt;area shape="poly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coords="300,85,311,103,308,137,306,172,295,198,219,259,224,239,210,224,213,161,248,127,273,86,273,86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href="dian.html" alt="Dian Sastro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&lt;area shape="rect" coords="314,105,355,170" href="ladya" alt="Ladya Cheryl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&lt;area shape="circle" coords="387,134,30" href="sissy.html" alt="Sissy Priscillia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&lt;area shape="default" nohref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&lt;/map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" name="Group 4"/>
          <p:cNvGrpSpPr/>
          <p:nvPr/>
        </p:nvGrpSpPr>
        <p:grpSpPr>
          <a:xfrm>
            <a:off x="4586400" y="2394000"/>
            <a:ext cx="5022360" cy="3587760"/>
            <a:chOff x="4586400" y="2394000"/>
            <a:chExt cx="5022360" cy="3587760"/>
          </a:xfrm>
        </p:grpSpPr>
        <p:sp>
          <p:nvSpPr>
            <p:cNvPr id="763" name="Rectangle 5"/>
            <p:cNvSpPr/>
            <p:nvPr/>
          </p:nvSpPr>
          <p:spPr>
            <a:xfrm>
              <a:off x="4586400" y="2394000"/>
              <a:ext cx="5022360" cy="35618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Klik pada wajah untuk melihat bio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4" name="Picture 6" descr=""/>
            <p:cNvPicPr/>
            <p:nvPr/>
          </p:nvPicPr>
          <p:blipFill>
            <a:blip r:embed="rId1"/>
            <a:stretch/>
          </p:blipFill>
          <p:spPr>
            <a:xfrm>
              <a:off x="4698000" y="2691000"/>
              <a:ext cx="4734720" cy="3290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Pengelompokan elemen dokumen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34520" y="789120"/>
            <a:ext cx="8417160" cy="242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berapa elemen dokumen (teks, paragraf, gambar, tabel, dll) dapat dikelompokkan untuk menambahkan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truktur lojik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ada dokum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engelompokkan ada dua jenis 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line (alur, 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flow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 :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pan&gt; &lt;/span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lock (blok) :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div&gt; &lt;/div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span&gt; dan &lt;div&gt; biasanya digunakan dengan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arameter id dan 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ruktur lojik ini dapat digunakan untuk 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empermudah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enginterpretasi isi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doku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emberikan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ampila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esuai struktur lojik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dengan memanfaatkan C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oh 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Rectangle 4"/>
          <p:cNvSpPr/>
          <p:nvPr/>
        </p:nvSpPr>
        <p:spPr>
          <a:xfrm>
            <a:off x="604800" y="3282840"/>
            <a:ext cx="4944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div id="mhs01" class="mh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span class="nama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drian Marzuki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/span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span class="alamat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Jl. Tubagus Ismail XI/5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/spa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/div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div id="mhs02" class="mh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span class="nama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wi Purnama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/span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span class="alamat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Jl. Cisitu Lama 24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/spa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/div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Rectangle 5"/>
          <p:cNvSpPr/>
          <p:nvPr/>
        </p:nvSpPr>
        <p:spPr>
          <a:xfrm>
            <a:off x="630360" y="4724280"/>
            <a:ext cx="4944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style type=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.mhs {border: black solid 1; margin-bottom: 10; padding: 10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.nama {font: bold 20 Arial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.alamat {font-style: italic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urier New"/>
              </a:rPr>
              <a:t>&lt;/styl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"mhs01" class="mh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pan class="nama"&gt;Adrian Marzuki&lt;/span&gt;&lt;b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9" name="Picture 6" descr=""/>
          <p:cNvPicPr/>
          <p:nvPr/>
        </p:nvPicPr>
        <p:blipFill>
          <a:blip r:embed="rId1"/>
          <a:stretch/>
        </p:blipFill>
        <p:spPr>
          <a:xfrm>
            <a:off x="5951520" y="3344760"/>
            <a:ext cx="2467080" cy="1629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70" name="Picture 7" descr=""/>
          <p:cNvPicPr/>
          <p:nvPr/>
        </p:nvPicPr>
        <p:blipFill>
          <a:blip r:embed="rId2"/>
          <a:stretch/>
        </p:blipFill>
        <p:spPr>
          <a:xfrm>
            <a:off x="6967440" y="4365720"/>
            <a:ext cx="2467080" cy="1628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71" name="AutoShape 8"/>
          <p:cNvSpPr/>
          <p:nvPr/>
        </p:nvSpPr>
        <p:spPr>
          <a:xfrm>
            <a:off x="5213520" y="3792600"/>
            <a:ext cx="630000" cy="407880"/>
          </a:xfrm>
          <a:prstGeom prst="rightArrow">
            <a:avLst>
              <a:gd name="adj1" fmla="val 50000"/>
              <a:gd name="adj2" fmla="val 3861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AutoShape 9"/>
          <p:cNvSpPr/>
          <p:nvPr/>
        </p:nvSpPr>
        <p:spPr>
          <a:xfrm>
            <a:off x="5918040" y="5175360"/>
            <a:ext cx="630360" cy="407880"/>
          </a:xfrm>
          <a:prstGeom prst="rightArrow">
            <a:avLst>
              <a:gd name="adj1" fmla="val 50000"/>
              <a:gd name="adj2" fmla="val 386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Contoh Isi Dokumen HTML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14" name="Rectangle 8"/>
          <p:cNvSpPr/>
          <p:nvPr/>
        </p:nvSpPr>
        <p:spPr>
          <a:xfrm>
            <a:off x="222120" y="2705040"/>
            <a:ext cx="8858520" cy="312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title&gt;Homepage saya&lt;/tit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1&gt;Saya&lt;/h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2&gt;Perkenalan&lt;/h2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p&gt;Perkenalkan, nama saya ..... Ini adalah &lt;i&gt;homepage&lt;/i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b&gt;pertama&lt;/b&gt; saya, karena saya baru belajar tent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ra membuat &lt;b&gt;&lt;i&gt;homepage&lt;/i&gt;&lt;/b&gt;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p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tml&gt;   &lt;!-- akhir dokumen HTML --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9" descr=""/>
          <p:cNvPicPr/>
          <p:nvPr/>
        </p:nvPicPr>
        <p:blipFill>
          <a:blip r:embed="rId1"/>
          <a:stretch/>
        </p:blipFill>
        <p:spPr>
          <a:xfrm>
            <a:off x="5008680" y="873000"/>
            <a:ext cx="452916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Daftar Tag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03440" y="836280"/>
            <a:ext cx="84168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html&gt;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kum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head&gt;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title&gt;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udul dokum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body&gt;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si dokum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h1&gt;…&lt;h6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udul paragra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p&gt;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agra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b&gt;,&lt;i&gt;,&lt;u&gt;,&lt;sup&gt;,&lt;sub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ribu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br&gt;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anti bari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font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li&gt;,&lt;ol&gt;,&lt;ul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umeras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hr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aris mendat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img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amb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a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k (kaitan/rujuka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table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b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!--    --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oment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frame&gt;,&lt;frameset&gt;,&lt;iframe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ame (bingkai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form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mulir isi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input&gt;,&lt;textarea&gt;,&lt;select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omponen isian pada formuli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map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k berdasar area pada gamb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span&gt;,&lt;div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ngelompokan elemen dokum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Tag Judul (</a:t>
            </a:r>
            <a:r>
              <a:rPr b="0" i="1" lang="en-US" sz="3600" spc="-1" strike="noStrike">
                <a:solidFill>
                  <a:srgbClr val="000099"/>
                </a:solidFill>
                <a:latin typeface="Tahoma"/>
              </a:rPr>
              <a:t>Heading</a:t>
            </a: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43040" y="985680"/>
            <a:ext cx="839952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h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udul paragra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/h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1,2,3,4,5,6 (tingkat judu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tuk menuliskan judul suatu paragra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Rectangle 4"/>
          <p:cNvSpPr/>
          <p:nvPr/>
        </p:nvSpPr>
        <p:spPr>
          <a:xfrm>
            <a:off x="787320" y="2857680"/>
            <a:ext cx="3784680" cy="30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Courier New"/>
              </a:rPr>
              <a:t>&lt;h1&gt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Judul Tingkat 1</a:t>
            </a:r>
            <a:r>
              <a:rPr b="0" lang="en-US" sz="1900" spc="-1" strike="noStrike">
                <a:solidFill>
                  <a:srgbClr val="ff0000"/>
                </a:solidFill>
                <a:latin typeface="Courier New"/>
              </a:rPr>
              <a:t>&lt;/h1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Courier New"/>
              </a:rPr>
              <a:t>&lt;h2&gt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Judul Tingkat 2</a:t>
            </a:r>
            <a:r>
              <a:rPr b="0" lang="en-US" sz="1900" spc="-1" strike="noStrike">
                <a:solidFill>
                  <a:srgbClr val="ff0000"/>
                </a:solidFill>
                <a:latin typeface="Courier New"/>
              </a:rPr>
              <a:t>&lt;/h2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Courier New"/>
              </a:rPr>
              <a:t>&lt;h3&gt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Judul Tingkat 3</a:t>
            </a:r>
            <a:r>
              <a:rPr b="0" lang="en-US" sz="1900" spc="-1" strike="noStrike">
                <a:solidFill>
                  <a:srgbClr val="ff0000"/>
                </a:solidFill>
                <a:latin typeface="Courier New"/>
              </a:rPr>
              <a:t>&lt;/h3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Courier New"/>
              </a:rPr>
              <a:t>&lt;h4&gt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Judul Tingkat 4</a:t>
            </a:r>
            <a:r>
              <a:rPr b="0" lang="en-US" sz="1900" spc="-1" strike="noStrike">
                <a:solidFill>
                  <a:srgbClr val="ff0000"/>
                </a:solidFill>
                <a:latin typeface="Courier New"/>
              </a:rPr>
              <a:t>&lt;/h4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Courier New"/>
              </a:rPr>
              <a:t>&lt;h5&gt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Judul Tingkat 5</a:t>
            </a:r>
            <a:r>
              <a:rPr b="0" lang="en-US" sz="1900" spc="-1" strike="noStrike">
                <a:solidFill>
                  <a:srgbClr val="ff0000"/>
                </a:solidFill>
                <a:latin typeface="Courier New"/>
              </a:rPr>
              <a:t>&lt;/h5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Courier New"/>
              </a:rPr>
              <a:t>&lt;h6&gt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Judul Tingkat 6</a:t>
            </a:r>
            <a:r>
              <a:rPr b="0" lang="en-US" sz="1900" spc="-1" strike="noStrike">
                <a:solidFill>
                  <a:srgbClr val="ff0000"/>
                </a:solidFill>
                <a:latin typeface="Courier New"/>
              </a:rPr>
              <a:t>&lt;/h6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5"/>
          <p:cNvSpPr/>
          <p:nvPr/>
        </p:nvSpPr>
        <p:spPr>
          <a:xfrm>
            <a:off x="4875120" y="2852640"/>
            <a:ext cx="3962520" cy="3048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Judul Tingkat 1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Judul Tingkat 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Judul Tingkat 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Judul Tingkat 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Judul Tingkat 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Judul Tingkat 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Tag Paragraf (</a:t>
            </a:r>
            <a:r>
              <a:rPr b="0" i="1" lang="en-US" sz="3600" spc="-1" strike="noStrike">
                <a:solidFill>
                  <a:srgbClr val="000099"/>
                </a:solidFill>
                <a:latin typeface="Tahoma"/>
              </a:rPr>
              <a:t>Paragraph</a:t>
            </a: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743040" y="985680"/>
            <a:ext cx="839952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urier New"/>
              </a:rPr>
              <a:t>&lt;p&gt;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</a:rPr>
              <a:t>paragraf</a:t>
            </a:r>
            <a:r>
              <a:rPr b="1" lang="en-US" sz="3300" spc="-1" strike="noStrike">
                <a:solidFill>
                  <a:srgbClr val="000000"/>
                </a:solidFill>
                <a:latin typeface="Courier New"/>
              </a:rPr>
              <a:t>&lt;/p&gt;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Untuk menandai suatu paragraf.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uatu paragraf akan terlihat dibatasi oleh satu baris kosong sebelum dan sesudahnya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379440" y="2819520"/>
            <a:ext cx="4343400" cy="319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p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i adalah homepage pert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aya, karena saya baru belaj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entang cara membuat homep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/p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p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omepage ini masih dalam tahap pengembangan, oleh karena i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ampilannya masih terlalu sederhana.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/p&gt;&lt;p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aya akan berusaha untuk terus memperbaiki homepage saya ini, sehingga semakin lama semakin menarik untuk dilihat.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&lt;/p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5"/>
          <p:cNvSpPr/>
          <p:nvPr/>
        </p:nvSpPr>
        <p:spPr>
          <a:xfrm>
            <a:off x="5027760" y="2819520"/>
            <a:ext cx="4419360" cy="3111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 adalah homepage pertama saya, karena saya baru belajar tentang cara membuat homepa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epage ini masih dalam tahap pengembangan, oleh karena itu tampilannya masih terlalu sederha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ya akan berusaha untuk terus memperbaiki homepage saya ini, sehingga semakin lama semakin menarik untuk dilih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Tag Atribut 1 (</a:t>
            </a:r>
            <a:r>
              <a:rPr b="0" i="1" lang="en-US" sz="3600" spc="-1" strike="noStrike">
                <a:solidFill>
                  <a:srgbClr val="000099"/>
                </a:solidFill>
                <a:latin typeface="Tahoma"/>
              </a:rPr>
              <a:t>Bold, Italic, Underline</a:t>
            </a: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742680" y="985680"/>
            <a:ext cx="847548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&lt;b&gt;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Kalimat yang dicetak tebal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&lt;/b&gt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&lt;i&gt;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Kalimat yang dicetak miring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&lt;/i&gt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&lt;u&gt;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Kalimat yang digarisbawahi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&lt;/u&gt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Untuk menandai bagian kalimat agar dicetak tebal, miring, dan/atau digarisbawahi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Rectangle 4"/>
          <p:cNvSpPr/>
          <p:nvPr/>
        </p:nvSpPr>
        <p:spPr>
          <a:xfrm>
            <a:off x="414360" y="4653000"/>
            <a:ext cx="8839080" cy="137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ta dapat dicetak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bal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i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aris bawa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bal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i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an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kombinas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 tengah huruf 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5"/>
          <p:cNvSpPr/>
          <p:nvPr/>
        </p:nvSpPr>
        <p:spPr>
          <a:xfrm>
            <a:off x="503280" y="3029040"/>
            <a:ext cx="876312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&gt;Kata dapat dicetak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b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bal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/b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i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ring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/i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u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aris bawah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/u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b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bal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i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ring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/i&gt;&lt;/b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dan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b&gt;&lt;i&gt;&lt;u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ombinasi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/u&gt;&lt;/i&gt;&lt;/b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di tengah huruf normal&lt;/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43040" y="95040"/>
            <a:ext cx="8416800" cy="68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Tag Atribut 2 (</a:t>
            </a:r>
            <a:r>
              <a:rPr b="0" i="1" lang="en-US" sz="3600" spc="-1" strike="noStrike">
                <a:solidFill>
                  <a:srgbClr val="000099"/>
                </a:solidFill>
                <a:latin typeface="Tahoma"/>
              </a:rPr>
              <a:t>Superscript, Subscript</a:t>
            </a: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742680" y="985680"/>
            <a:ext cx="847548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&lt;sup&gt;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bagian yang dicetak tinggi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&lt;/sup&gt;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&lt;sub&gt;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bagian yang dicetak rendah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&lt;/sub&gt;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Untuk menandai bagian karakter agar dicetak tinggi atau rendah, biasanya untuk rumus matematika atau kimia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684360" y="3200400"/>
            <a:ext cx="8686800" cy="138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&gt;(x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sub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/sub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x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sub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/sub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sup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/sup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x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sub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/sub&gt;&lt;sup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/sup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x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sub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/sub&gt;&lt;sup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/sup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2x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sub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/sub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sub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/sub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&gt;2H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sub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/sub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O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sub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/sub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2 H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sub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&lt;/sub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5"/>
          <p:cNvSpPr/>
          <p:nvPr/>
        </p:nvSpPr>
        <p:spPr>
          <a:xfrm>
            <a:off x="684360" y="4800600"/>
            <a:ext cx="8762760" cy="1550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0T11:20:43Z</dcterms:created>
  <dc:creator>Elfan Nofiari</dc:creator>
  <dc:description/>
  <dc:language>en-US</dc:language>
  <cp:lastModifiedBy>acer</cp:lastModifiedBy>
  <dcterms:modified xsi:type="dcterms:W3CDTF">2006-03-11T16:29:46Z</dcterms:modified>
  <cp:revision>55</cp:revision>
  <dc:subject/>
  <dc:title>HTML</dc:title>
</cp:coreProperties>
</file>