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23.wmf" ContentType="image/x-wmf"/>
  <Override PartName="/ppt/media/image9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20.wmf" ContentType="image/x-wmf"/>
  <Override PartName="/ppt/media/image31.png" ContentType="image/png"/>
  <Override PartName="/ppt/media/image12.png" ContentType="image/png"/>
  <Override PartName="/ppt/media/image36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1.wmf" ContentType="image/x-wmf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7559-B8BF-46C4-B94F-E292633B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A1EF7-ECB8-4CF0-999E-AC061DA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316D-77AE-4570-8FAA-A7632B2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76C7-D413-48F9-BC7F-E5945E4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C5F9-8AFE-4281-A0F4-058F114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1F26-15F2-4202-A6C7-05F7971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14947-37C7-4CCB-9863-2ECA2BE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9EE41-F583-4752-AD4F-55C6EB9F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0650D-F5B2-42CE-9734-44346C8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3FA25-D1FC-4E41-B73A-5149D84B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AB1A6-547C-48F2-95E6-70058D51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696D3-3B37-458A-B680-D404F977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6D4C-FB69-40D5-BE84-AFC4547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05393-71EF-4BE7-A56C-B5860DF0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FA2AD-8344-4BEE-91E0-B818EB4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7D062-9595-45A8-ABEF-45C9535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B59A5-A441-4D14-81DE-13F1C78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CA534-A1B8-47B6-B6B7-62A7D7D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7DF58-D33E-4CE5-BB9A-834B9EF0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1E63-7717-4A32-B6D8-2D0EFF93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DA63-15EC-48A4-80E0-D2D43C2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75DC6-4668-4EAE-B106-50993522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83A5-7BF7-4DA8-B835-10C1E9E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DFB50-014F-4E98-B7AB-8C82BA16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32169-A654-4D55-B187-C384208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B4B4D-C461-42B9-B7BA-4BDC28EE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9072A-73F7-462E-8EBA-9A0B9A4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E197A-5F51-471C-9CA8-174379A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9A363-2597-430B-8468-62D3DAD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B8A1-7965-409D-9234-95418BA8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244-6AD4-4510-899C-CD00D066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8977-2919-401C-83B4-3043B46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0B14C-6078-482A-88EF-87CA01C6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434C7-420F-4F68-921A-966C794B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2E566-0056-4397-A3BE-9EBFF4A2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A8712-7E4C-4A3B-B38F-18171BC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41B9-A2FC-427D-A2A8-1184A7FD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4F6C5-ED88-4F72-82DB-D75120C3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D6A19-B9AA-4C12-AB98-E60699F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D3389-9FB5-41FD-AC34-2186B171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50E64-B256-4F62-A6BC-60AB794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03D-2629-4584-8B4D-71FAE30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73876-8136-4B05-888A-B59210C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84638-45C7-4426-AB9E-923EA77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4C063-B198-4A68-9219-9CD289B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5FEAA-7F87-489F-AE3B-1991A9C7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F7285-1E8B-44D4-934A-588A781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A9355-C740-4CA3-B0FB-915A53FD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83C6A-E6AC-4123-8545-251BAC1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83528-82C0-4811-B1DE-E50EEDB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885A2-6D8F-4E04-93B2-F2735346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FBCE6-0877-4FAD-8B80-50546EC5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74B-70CF-4A49-8429-2B33325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2A21-1AFE-4AA1-BA1C-790C0E0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D0EAA-F074-4B98-8C50-AA34F8E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CA1DB-1F27-4E8E-AC06-D81DE19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AFF17-9985-4427-B1F2-15C6AAB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97764-D56E-4832-85E6-7AD68CAC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58C3D-E08C-4758-9A2E-1964A589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FD02E-D4B5-418E-B14C-28866519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3CB-33A7-44BA-A41E-7BD8083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750-3350-45FC-B6F6-96D54E91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DC4-2C5E-4BA5-945A-9A7E9353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A62-F736-4839-A14D-3643F51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C05-5834-49DC-BA08-FEE236B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B03-7D94-4092-B41F-1C47C300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031-BD9E-41BA-816B-4805301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28F-6C23-4B80-BA2A-B19EFB1D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F94-F16F-4654-A87C-74ED1895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AAB-8FD2-4A5F-97C8-7098C140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4211-DCB2-482A-AEAF-A9AB2F24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A000-1E41-4403-904A-9477E28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45F-C5F4-4988-86F6-3D345AF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C25F-C075-4D74-9E86-274FB3E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3E8A-C406-4BC3-A469-CCEB1F42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7800-E1C2-4B61-A5F3-D8FD135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B775-8BED-406B-8B25-B4390A6D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F18D-5756-41B9-8B94-0B9DF78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21B6-BFEB-446B-B674-012DE0C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DB27-03F4-470D-B253-B6F6A650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905A-9814-440C-9BCA-AEC89E46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BC47-E3F6-47FD-8054-35F478F5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AB8D-5A26-4C4D-AD30-EC250248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E100-82F5-4359-BE54-590A6F8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D9E8-3B5A-45A8-9A81-CBA8AF2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E226-FF77-4856-A10B-0CA96A9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2964-EC43-47B1-A408-57EE206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A6B7-DEFB-4B4A-B642-7AFC54D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4358-B98E-4283-B49F-6BC81AF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3FFD-36D9-45CE-87CF-BAE65B1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3726-4FA2-484E-B1F0-8637F262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615B-7264-41AC-BFA5-CD6E34DA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B147-A37B-4C13-93AC-6B46B7B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8508-1711-417C-ABAA-D420863C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0998-8430-422E-B782-F473C9BD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E736-425C-4B22-90E1-1E98034F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8E5C-CA2F-42A4-873E-AE84D40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7802-47FF-4E2D-A876-FCA07D9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BC59-A1B6-4A68-9430-A78ED3F7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4A9F-669D-42E0-B988-9FDB9C0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25B0-4D2B-42A8-8B01-9453D16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2A3E-6BD2-4057-A0EF-4CC1E0B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7F48-33B3-4917-8298-19630EA7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0862-5B43-46B8-9DBC-C75676E2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4198-76F3-4F0C-92CE-B1A32DD0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47DB2-3FF6-4B40-B86C-8258C5FB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2735-4193-4BEB-9965-E17D413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FD20-325F-4DB1-B280-82CD7BF4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61AD-ABC4-46CF-8723-D8F90024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E8DE-8C21-424F-A131-44EE545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9D7A-A4DE-4ACC-92D4-B325A02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00F7-7BD4-4819-A52A-CFFB354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F17D1-7928-4653-A4D9-7D87A8A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AC78-B100-4753-9340-3F12AAA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361B-FABC-4F2D-8D06-F66CD9E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194D-3BF9-4034-8068-795CDD5E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865D-0625-48C2-ADC0-835EC489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1031-8BB1-4D75-9823-6EC5A057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61A6-A9E0-4F95-9B40-606AC2B4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1991-FB75-4888-A296-23161B9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2BCC1-D1D8-4710-B082-CB1A8B6B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1EA2-DBC1-4700-9A38-BC196E7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81C8-DC63-4E89-9EE7-0826E3A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9378-716B-4944-95AC-1C930C6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B1079-BFE7-4414-835A-194EF80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2F06A-BBF3-476A-A5A1-2C8F9DB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DB1C-3087-4FC6-810D-9CF6049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7AED-BD19-41B3-A8D2-ADD0CDB9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5268-2FD8-45B0-AA38-57B33C7A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0B22-0BD3-4E75-9B79-86F68F45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7179-40E7-4689-8180-606B6A5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9E0E-F59F-4B64-978A-4FEDE4E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41802-076F-4C6F-851A-7032A8E8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92F2-7D2A-41F8-ABE1-D6F9DDA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5007-55D0-4A96-BD6C-FD95ACD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9A5D-BFB5-4937-829E-6805968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711E-46D9-41EB-B914-E2E7B1B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F35FD-1615-4A48-91CB-F4E8285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EA9D-5AC5-4CCF-936E-58E162C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438D-1C6E-42F7-A874-AF616D53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E912-9B95-4A3A-AFE6-337A98B0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5999-3A3E-4529-A042-E1E2737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37A1-85D3-4451-8B87-54F95A57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85F1C-4FEC-4C94-ADE2-96D25FD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7"/>
          <p:cNvSpPr/>
          <p:nvPr/>
        </p:nvSpPr>
        <p:spPr>
          <a:xfrm>
            <a:off x="0" y="6165720"/>
            <a:ext cx="9906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8920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8"/>
          <p:cNvSpPr/>
          <p:nvPr/>
        </p:nvSpPr>
        <p:spPr>
          <a:xfrm>
            <a:off x="8610480" y="6248520"/>
            <a:ext cx="10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857FFA-86B6-4BAC-9A44-7E859BA9473C}" type="slidenum"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BE8-394D-4975-B89B-97CCA53C57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47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9B2-D7A2-43EB-9C2E-EDAB5A40C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9E05-611A-49CA-B1CB-EA7658104B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10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Right Triangle 16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56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563" name="Chevron 19"/>
          <p:cNvSpPr/>
          <p:nvPr/>
        </p:nvSpPr>
        <p:spPr>
          <a:xfrm>
            <a:off x="9383760" y="498780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hevron 20"/>
          <p:cNvSpPr/>
          <p:nvPr/>
        </p:nvSpPr>
        <p:spPr>
          <a:xfrm>
            <a:off x="9180360" y="4987800"/>
            <a:ext cx="198720" cy="228600"/>
          </a:xfrm>
          <a:custGeom>
            <a:avLst/>
            <a:gdLst>
              <a:gd name="textAreaLeft" fmla="*/ 0 w 198720"/>
              <a:gd name="textAreaRight" fmla="*/ 199080 w 198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7CCC-B974-4457-8E08-FF6D439D0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CCB-3F61-4065-AF66-F18CD33E7A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5A07-8042-4A4E-9847-16A9BCC61A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141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14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14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AB2-472D-4B3D-A474-3DF2E79B68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191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19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19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84C-22A6-4DAA-B84C-C9B691B5171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nip and Round Single Corner Rectangle 13"/>
          <p:cNvSpPr/>
          <p:nvPr/>
        </p:nvSpPr>
        <p:spPr>
          <a:xfrm flipV="1" rot="420000">
            <a:off x="3428640" y="1107000"/>
            <a:ext cx="569448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ight Triangle 14"/>
          <p:cNvSpPr/>
          <p:nvPr/>
        </p:nvSpPr>
        <p:spPr>
          <a:xfrm flipV="1" rot="420000">
            <a:off x="8667360" y="5358960"/>
            <a:ext cx="1684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5"/>
          <p:cNvSpPr/>
          <p:nvPr/>
        </p:nvSpPr>
        <p:spPr>
          <a:xfrm flipV="1">
            <a:off x="-9000" y="581544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6"/>
          <p:cNvSpPr/>
          <p:nvPr/>
        </p:nvSpPr>
        <p:spPr>
          <a:xfrm flipV="1">
            <a:off x="4745160" y="621900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747280" y="63565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C724-2F33-479E-9CAD-E639D1A184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0"/>
          <p:cNvSpPr/>
          <p:nvPr/>
        </p:nvSpPr>
        <p:spPr>
          <a:xfrm>
            <a:off x="0" y="4664160"/>
            <a:ext cx="991080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-4680" y="4952880"/>
            <a:ext cx="9907560" cy="1911600"/>
            <a:chOff x="-4680" y="4952880"/>
            <a:chExt cx="9907560" cy="1911600"/>
          </a:xfrm>
        </p:grpSpPr>
        <p:sp>
          <p:nvSpPr>
            <p:cNvPr id="285" name="Freeform 16"/>
            <p:cNvSpPr/>
            <p:nvPr/>
          </p:nvSpPr>
          <p:spPr>
            <a:xfrm>
              <a:off x="1832760" y="4952880"/>
              <a:ext cx="80672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45360" y="5236200"/>
              <a:ext cx="98542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Freeform 19"/>
            <p:cNvGrpSpPr/>
            <p:nvPr/>
          </p:nvGrpSpPr>
          <p:grpSpPr>
            <a:xfrm>
              <a:off x="1080" y="4992120"/>
              <a:ext cx="9901800" cy="1872360"/>
              <a:chOff x="1080" y="4992120"/>
              <a:chExt cx="9901800" cy="1872360"/>
            </a:xfrm>
          </p:grpSpPr>
          <p:pic>
            <p:nvPicPr>
              <p:cNvPr id="288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990180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64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0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990756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5E8D-618A-4F28-85EE-6C92B0FD9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33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38" name="Chevron 10"/>
          <p:cNvSpPr/>
          <p:nvPr/>
        </p:nvSpPr>
        <p:spPr>
          <a:xfrm>
            <a:off x="393876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hevron 15"/>
          <p:cNvSpPr/>
          <p:nvPr/>
        </p:nvSpPr>
        <p:spPr>
          <a:xfrm>
            <a:off x="3736800" y="3005280"/>
            <a:ext cx="198720" cy="228600"/>
          </a:xfrm>
          <a:custGeom>
            <a:avLst/>
            <a:gdLst>
              <a:gd name="textAreaLeft" fmla="*/ 0 w 198720"/>
              <a:gd name="textAreaRight" fmla="*/ 199080 w 198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74CA-756E-46D2-972C-DA27D6880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38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590-BA3A-489A-9DA3-A75698FCF8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nunutjoe 3D150px.png"/>
          <p:cNvPicPr/>
          <p:nvPr/>
        </p:nvPicPr>
        <p:blipFill>
          <a:blip r:embed="rId1"/>
          <a:stretch/>
        </p:blipFill>
        <p:spPr>
          <a:xfrm>
            <a:off x="593640" y="21430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607" name="Rectangle 2" descr=""/>
          <p:cNvPicPr/>
          <p:nvPr/>
        </p:nvPicPr>
        <p:blipFill>
          <a:blip r:embed="rId2"/>
          <a:stretch/>
        </p:blipFill>
        <p:spPr>
          <a:xfrm>
            <a:off x="658800" y="220680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nti Baris (Break lin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uk pindah ke baris berikutny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417920" y="2971800"/>
            <a:ext cx="4876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kenalk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a saya ..... Ini ada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pertama say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ena saya baru belajar tentang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uat home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8188200" y="4738680"/>
            <a:ext cx="184320" cy="792000"/>
          </a:xfrm>
          <a:custGeom>
            <a:avLst/>
            <a:gdLst>
              <a:gd name="textAreaLeft" fmla="*/ 0 w 184320"/>
              <a:gd name="textAreaRight" fmla="*/ 66600 w 1843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8159760" y="3119400"/>
            <a:ext cx="181080" cy="1305000"/>
          </a:xfrm>
          <a:custGeom>
            <a:avLst/>
            <a:gdLst>
              <a:gd name="textAreaLeft" fmla="*/ 0 w 181080"/>
              <a:gd name="textAreaRight" fmla="*/ 65520 w 1810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8347320" y="367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Paragr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8398080" y="50036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Paragr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"/>
          <p:cNvSpPr/>
          <p:nvPr/>
        </p:nvSpPr>
        <p:spPr>
          <a:xfrm>
            <a:off x="5761080" y="3164040"/>
            <a:ext cx="7452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0"/>
          <p:cNvSpPr/>
          <p:nvPr/>
        </p:nvSpPr>
        <p:spPr>
          <a:xfrm>
            <a:off x="6885000" y="3419640"/>
            <a:ext cx="745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1"/>
          <p:cNvSpPr/>
          <p:nvPr/>
        </p:nvSpPr>
        <p:spPr>
          <a:xfrm>
            <a:off x="6885000" y="3700440"/>
            <a:ext cx="745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2"/>
          <p:cNvSpPr/>
          <p:nvPr/>
        </p:nvSpPr>
        <p:spPr>
          <a:xfrm>
            <a:off x="8004240" y="3986280"/>
            <a:ext cx="745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3"/>
          <p:cNvSpPr/>
          <p:nvPr/>
        </p:nvSpPr>
        <p:spPr>
          <a:xfrm flipV="1">
            <a:off x="5783400" y="2714400"/>
            <a:ext cx="1338120" cy="4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7098480" y="252900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Ganti b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455760" y="2971800"/>
            <a:ext cx="3649680" cy="28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Perkenalkan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a saya ..... Ini adalah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page pertama say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karena saya baru belajar tentang cara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buat homepage.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omepage ini masih dalam tahap pengembangan, oleh karena itu tampilannya masih terlalu sederhana.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siz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face, 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3198960" y="5257800"/>
            <a:ext cx="6402240" cy="82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kura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tu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g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ju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227160" y="3657600"/>
            <a:ext cx="370044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ku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1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tu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2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3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g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4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at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5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m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6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m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7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ujuh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2360520" y="2286000"/>
            <a:ext cx="55674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iz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iz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= 1, 2, 3, 4, 5, 6, 7 (ukuran huruf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= -2, -1, +0, +1, +2, +3, +4 (ukuran huruf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 rot="7200">
            <a:off x="1017000" y="2358720"/>
            <a:ext cx="1293840" cy="88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kur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fac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size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a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 rot="7200">
            <a:off x="684360" y="2361960"/>
            <a:ext cx="1293840" cy="88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Jenis hur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131920" y="2362320"/>
            <a:ext cx="7542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fac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a font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a 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rier 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dan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d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03120" y="4800600"/>
            <a:ext cx="9296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03120" y="3657600"/>
            <a:ext cx="9296640" cy="9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Times New Roman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Arial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Courier New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Verdana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color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size, face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 rot="7200">
            <a:off x="684000" y="2361960"/>
            <a:ext cx="1293840" cy="48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ar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189840" y="3722760"/>
            <a:ext cx="319068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Mar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L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Na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Fusc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Aq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214200" y="3736800"/>
            <a:ext cx="5722920" cy="19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0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800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roo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FF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m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8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00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008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v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FF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ellow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00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chsi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FF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qu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2184480" y="2362320"/>
            <a:ext cx="704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olor="#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RGGBB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00 .. FF (intensitas warna merah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00 .. FF (intensitas warna hijau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0 .. FF (intensitas warna biru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g Enumerasi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List, Unordered List, Ordered Li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28760" y="985320"/>
            <a:ext cx="89452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li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li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ntuk menandai suatu item dari daftar (enumerasi), diawali dengan simbol • (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bulle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Kelompok item harus diapit oleh tag &lt;ul&gt; &lt;/ul&gt; dalam daftar bertingka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ntuk menomori enumerasi dengan nomor urut (1,2,3), apitlah dengan tag &lt;ol&gt; &lt;/ol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480960" y="2693880"/>
            <a:ext cx="4388040" cy="317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a beberapa sektor potensi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iwisat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da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ktor tersebut merupakan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&gt;Fasilitas penginapan di Indones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o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sme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smen merupakan tem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nginapan yang berskala kec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u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 melat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 berbinta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u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o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kembangan dalam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205240" y="2689200"/>
            <a:ext cx="3932280" cy="33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da beberapa sektor potens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iwis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n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day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ktor tersebut merupakan 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silitas penginapan di Indonesi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  Los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men merupakan tempat pengin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ang berskala kec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  Hot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tel mela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tel berbint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rkembangan dalam 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ris Mendatar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Horizontal Lin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ntuk garis pemisah mend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sv-SE" sz="24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&lt;hr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68360" y="2832120"/>
            <a:ext cx="3892680" cy="26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kenalkan, nama saya ... Ini adalah homepage pertama saya, karena saya baru belajar tentang cara membuat homepage.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&lt;hr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5"/>
          <p:cNvGrpSpPr/>
          <p:nvPr/>
        </p:nvGrpSpPr>
        <p:grpSpPr>
          <a:xfrm>
            <a:off x="4732200" y="2852640"/>
            <a:ext cx="4302360" cy="2838240"/>
            <a:chOff x="4732200" y="2852640"/>
            <a:chExt cx="4302360" cy="2838240"/>
          </a:xfrm>
        </p:grpSpPr>
        <p:sp>
          <p:nvSpPr>
            <p:cNvPr id="677" name="Rectangle 6"/>
            <p:cNvSpPr/>
            <p:nvPr/>
          </p:nvSpPr>
          <p:spPr>
            <a:xfrm>
              <a:off x="4732200" y="2852640"/>
              <a:ext cx="4302360" cy="2838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kenalkan, nama saya ... Ini adalah homepage pertama saya, karena saya baru belajar tentang cara membuat homepag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page ini masih dalam tahap pengembanga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leh karena itu tampilannya masih terlalu sederhan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Group 7"/>
            <p:cNvGrpSpPr/>
            <p:nvPr/>
          </p:nvGrpSpPr>
          <p:grpSpPr>
            <a:xfrm>
              <a:off x="4854600" y="4319640"/>
              <a:ext cx="3994200" cy="20520"/>
              <a:chOff x="4854600" y="4319640"/>
              <a:chExt cx="3994200" cy="20520"/>
            </a:xfrm>
          </p:grpSpPr>
          <p:sp>
            <p:nvSpPr>
              <p:cNvPr id="679" name="Line 8"/>
              <p:cNvSpPr/>
              <p:nvPr/>
            </p:nvSpPr>
            <p:spPr>
              <a:xfrm>
                <a:off x="4861080" y="4321080"/>
                <a:ext cx="398772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9"/>
              <p:cNvSpPr/>
              <p:nvPr/>
            </p:nvSpPr>
            <p:spPr>
              <a:xfrm>
                <a:off x="4861080" y="4340160"/>
                <a:ext cx="39877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0"/>
              <p:cNvSpPr/>
              <p:nvPr/>
            </p:nvSpPr>
            <p:spPr>
              <a:xfrm flipH="1">
                <a:off x="4854600" y="4319640"/>
                <a:ext cx="1440" cy="2052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mbar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Imag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99960" y="985320"/>
            <a:ext cx="924552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img src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amaFileGambar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amaFileGamba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= file gambar yang mempunyai ekstensi .GIF, .JPG, atau .P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ntuk menampilkan sebuah file gamba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img src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amaFileGambar"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/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44680" y="3017880"/>
            <a:ext cx="4128840" cy="27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img src="cover.jpg" align="left" /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erkenalkan, nama saya ... Ini adalah homepage pertama saya, karena saya baru belajar tentang cara membuat home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 tampilannya masih terlalu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img src="logo.gif" alt="Logo" /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ederhana. Saya akan berusaha untuk terus memperbaiki homepage saya ini, sehingga semakin lama semakin menarik untuk dili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5"/>
          <p:cNvGrpSpPr/>
          <p:nvPr/>
        </p:nvGrpSpPr>
        <p:grpSpPr>
          <a:xfrm>
            <a:off x="5275440" y="3013200"/>
            <a:ext cx="4079520" cy="2770920"/>
            <a:chOff x="5275440" y="3013200"/>
            <a:chExt cx="4079520" cy="2770920"/>
          </a:xfrm>
        </p:grpSpPr>
        <p:sp>
          <p:nvSpPr>
            <p:cNvPr id="686" name="Rectangle 6"/>
            <p:cNvSpPr/>
            <p:nvPr/>
          </p:nvSpPr>
          <p:spPr>
            <a:xfrm>
              <a:off x="5275440" y="3013200"/>
              <a:ext cx="4079520" cy="2770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kenalkan, nama saya ... Ini adala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mepage pertama saya, karena sa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u belajar tentang cara membuat homepage. Homepage ini masih dalam tahap pengembangan, oleh karena itu tampilann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sih terlalu               sederhana. Saya akan berusaha untuk terus memperbaiki homepage saya ini, sehingga semakin lama semakin menarik untuk dilih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7" descr="depparpostel"/>
            <p:cNvPicPr/>
            <p:nvPr/>
          </p:nvPicPr>
          <p:blipFill>
            <a:blip r:embed="rId1"/>
            <a:stretch/>
          </p:blipFill>
          <p:spPr>
            <a:xfrm>
              <a:off x="6445080" y="4349520"/>
              <a:ext cx="65376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8" descr="cover"/>
            <p:cNvPicPr/>
            <p:nvPr/>
          </p:nvPicPr>
          <p:blipFill>
            <a:blip r:embed="rId2"/>
            <a:stretch/>
          </p:blipFill>
          <p:spPr>
            <a:xfrm>
              <a:off x="5394240" y="3098880"/>
              <a:ext cx="750600" cy="65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abe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Tabl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 - dat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i tabe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ampilkan data dalam bentuk t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bel didefinisikan dengan cara menyatakan baris-baris dan kolom-kolom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g untuk penanda baris adalah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finisi baris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g untuk penanda kolom adalah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369720" y="3463920"/>
            <a:ext cx="5472360" cy="24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able border="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a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b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cc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d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f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6129360" y="3495600"/>
            <a:ext cx="330192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6" descr="del"/>
          <p:cNvPicPr/>
          <p:nvPr/>
        </p:nvPicPr>
        <p:blipFill>
          <a:blip r:embed="rId1"/>
          <a:stretch/>
        </p:blipFill>
        <p:spPr>
          <a:xfrm>
            <a:off x="6248520" y="3589200"/>
            <a:ext cx="1504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abe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Tabl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 - layo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3772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uk menata leta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you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i doku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52360" y="1752480"/>
            <a:ext cx="7288200" cy="31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able border="1" width="5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kir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 width="50%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tengah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right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kan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valign="top" rowspan="2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nu kir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 colspan="2" height="2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Is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ter tengah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right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ter kan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5240160" y="3767040"/>
            <a:ext cx="438012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Object 6"/>
          <p:cNvGraphicFramePr/>
          <p:nvPr/>
        </p:nvGraphicFramePr>
        <p:xfrm>
          <a:off x="5332320" y="3830760"/>
          <a:ext cx="413244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2320" y="3830760"/>
                    <a:ext cx="41324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Desain/Layout Halama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701" name="Object 1024"/>
          <p:cNvGraphicFramePr/>
          <p:nvPr/>
        </p:nvGraphicFramePr>
        <p:xfrm>
          <a:off x="2841480" y="1563840"/>
          <a:ext cx="20512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1480" y="1563840"/>
                    <a:ext cx="20512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1025"/>
          <p:cNvGraphicFramePr/>
          <p:nvPr/>
        </p:nvGraphicFramePr>
        <p:xfrm>
          <a:off x="4948200" y="2174760"/>
          <a:ext cx="2067120" cy="274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8200" y="2174760"/>
                    <a:ext cx="206712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1026"/>
          <p:cNvGraphicFramePr/>
          <p:nvPr/>
        </p:nvGraphicFramePr>
        <p:xfrm>
          <a:off x="7089840" y="3009960"/>
          <a:ext cx="2090520" cy="27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9840" y="3009960"/>
                    <a:ext cx="209052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027"/>
          <p:cNvGraphicFramePr/>
          <p:nvPr/>
        </p:nvGraphicFramePr>
        <p:xfrm>
          <a:off x="760320" y="1023840"/>
          <a:ext cx="2041560" cy="271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0320" y="1023840"/>
                    <a:ext cx="204156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ML : format standar untuk membuat dokumen we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pesifikasi HTML standar (HTML 4.01 ) : http://www.w3.org/TR/html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ML merupakan bahasa bertanda, menggunakan rangkaian teks tertentu (tag) untuk menandai teks yang mempunyai interpretasi khus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 HTML berupa file teks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lain text fi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, buka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inary fi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sehingga dapat dibuat menggunakan editor teks bia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0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Link (Anchor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30000" y="836640"/>
            <a:ext cx="84754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ta yang di-cli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name="#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u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ta yang dituj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lamat URL atau nama file dan/atau acuan yang ditu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u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Kata sembarang sebagai penanda (bookmar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ntuk link ke URL/file/bagian dokumen l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198360" y="2492280"/>
            <a:ext cx="81374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ya ingin meliha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al2.html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laman selanjutn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Saya in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ngsung menuju k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#akhi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akhir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Saya ingin menuju 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al2.html#bawah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bawah pada halaman selanjutn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ttp://www.detik.com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mg src="gambar.gif" /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tik.com.&lt;br /&gt;Ini bagian tengah.&lt;br /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name="#akhi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 bag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khir.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85518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1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9" descr=""/>
          <p:cNvPicPr/>
          <p:nvPr/>
        </p:nvPicPr>
        <p:blipFill>
          <a:blip r:embed="rId1"/>
          <a:stretch/>
        </p:blipFill>
        <p:spPr>
          <a:xfrm>
            <a:off x="271440" y="3933720"/>
            <a:ext cx="8896320" cy="2095560"/>
          </a:xfrm>
          <a:prstGeom prst="rect">
            <a:avLst/>
          </a:prstGeom>
          <a:ln w="0">
            <a:noFill/>
          </a:ln>
        </p:spPr>
      </p:pic>
      <p:sp>
        <p:nvSpPr>
          <p:cNvPr id="714" name="Freeform 10"/>
          <p:cNvSpPr/>
          <p:nvPr/>
        </p:nvSpPr>
        <p:spPr>
          <a:xfrm>
            <a:off x="3222720" y="3716280"/>
            <a:ext cx="1296720" cy="2732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truktur Link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716" name="Object 1024"/>
          <p:cNvGraphicFramePr/>
          <p:nvPr/>
        </p:nvGraphicFramePr>
        <p:xfrm>
          <a:off x="4951440" y="4076640"/>
          <a:ext cx="3554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1440" y="4076640"/>
                    <a:ext cx="3554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25"/>
          <p:cNvGraphicFramePr/>
          <p:nvPr/>
        </p:nvGraphicFramePr>
        <p:xfrm>
          <a:off x="1351080" y="3284640"/>
          <a:ext cx="2381040" cy="25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3284640"/>
                    <a:ext cx="238104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026"/>
          <p:cNvGraphicFramePr/>
          <p:nvPr/>
        </p:nvGraphicFramePr>
        <p:xfrm>
          <a:off x="876240" y="888840"/>
          <a:ext cx="364500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6240" y="888840"/>
                    <a:ext cx="3645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027"/>
          <p:cNvGraphicFramePr/>
          <p:nvPr/>
        </p:nvGraphicFramePr>
        <p:xfrm>
          <a:off x="6299280" y="880920"/>
          <a:ext cx="2500200" cy="250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880920"/>
                    <a:ext cx="2500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frame &amp; framese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05960" y="974520"/>
            <a:ext cx="841716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bih dari sat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okumen dapat ditampilkan secara bersamaan dalam satu tampi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dokumen ditampilkan dalam sebuah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nentuka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ta letak, ukuran, dan banyakny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ang akan ditampilk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dala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leh ad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in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an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butuhkan satu dokumen tersendiri yang berisi definisi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Dokumen tersebu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d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punyai isi dokumen (tidak ada &lt;body&gt; &lt;/body&gt;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743040" y="3110040"/>
            <a:ext cx="841680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se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 src="namafile1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 src="namafile2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..dst (atau frameset yang lai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noframe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ditampilkan jika browser tidak mendukung fr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noframe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ramese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4816440" y="1614600"/>
            <a:ext cx="4846680" cy="4478400"/>
          </a:xfrm>
          <a:prstGeom prst="rect">
            <a:avLst/>
          </a:prstGeom>
          <a:ln w="0">
            <a:noFill/>
          </a:ln>
        </p:spPr>
      </p:pic>
      <p:sp>
        <p:nvSpPr>
          <p:cNvPr id="728" name="Freeform 3"/>
          <p:cNvSpPr/>
          <p:nvPr/>
        </p:nvSpPr>
        <p:spPr>
          <a:xfrm>
            <a:off x="4633920" y="1401840"/>
            <a:ext cx="3278160" cy="11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260280"/>
            <a:ext cx="7253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itle&gt;Document Frameset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frameset cols="33%,43%,23%" frameborder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frameset rows="*,20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1.html" name="satu" scrolling="no" frameborder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2.html" name="dua" scrolling="yes" noresiz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/fram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3.html" name="tiga" frameborder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4.html" name="empat" frameborder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nofram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Ada 4 halama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1.html"&gt;Halaman 1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2.html"&gt;Halaman 2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3.html"&gt;Halaman 3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4.html"&gt;Halaman 4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/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/nofram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/fram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24000" y="11916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Dokumen 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Framese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frame (inline fram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05960" y="974880"/>
            <a:ext cx="841716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 dal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buah dokumen (induk) dapat ditampilkan satu atau beberapa dokumen lain (ana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dokumen (anak) ya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isipka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iletakkan dalam 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kumen induk merupakan dokumen biasa ya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mpunyai i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denga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r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706320" y="2405160"/>
            <a:ext cx="841716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i dokumen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frame src="namafile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ditampilkan jika browser tidak mendukung fr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ifra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i dokumen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24000" y="11916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inline frame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4140360" y="1857240"/>
            <a:ext cx="5479920" cy="416736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4"/>
          <p:cNvSpPr/>
          <p:nvPr/>
        </p:nvSpPr>
        <p:spPr>
          <a:xfrm>
            <a:off x="147600" y="162000"/>
            <a:ext cx="85010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itle&gt;Kisah Sekolah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1&gt;Kisah-kisah di sekolah&lt;/h1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sa sekolah adalah masa yang menyenangkan bagiku. Sebagian besar waktu hidupku samp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at ini dihabiskan untuk sekolah, dan aku sangat menikmati saat-saat itu. Ini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bagian kisah-kisahku di sekolah.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d.html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d.html"&gt;Kisah SD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mp.html' frameborder='0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mp.html"&gt;Kisah SMP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mu.html' scrolling='no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mu.html"&gt;Kisah SMU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&gt;Semua pengalaman dan teman-t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ang kudapat sungguh sangat mewarn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idupku dan memberikan pengaruh b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rhadap dirik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form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05960" y="974520"/>
            <a:ext cx="8650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dokumen interaktif dapa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nangani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dari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inya : bahwa dokumen adalah sebuah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mulir is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dokumen dapat mengandu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tu atau beberapa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wakili sebuah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esifik (login, mengisi biodata, memilih bahasa, dl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apa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nghimpu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atu atau beberapa ele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a beberapa jenis elemen input untuk menangan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baga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arakteristik data in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us ditentuka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ama program (di sisi server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ang akan menangani data isian yang dikirim (di-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orm method="POST" action="namaprogram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berisi bagian dokumen HTML yang akan menggambarkan formulir isia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ngan susunan sejumlah elemen input berbagai jeni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oh 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derhana untuk meminta nama user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orm method="POST" action="proses.php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label for="nama"&gt;Ketikkan nama Anda:&lt;/label&gt;&lt;b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nput type="text" name="nama" id="nama"&gt;&lt;b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nput type="submit" value="Kirim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Picture 4" descr=""/>
          <p:cNvPicPr/>
          <p:nvPr/>
        </p:nvPicPr>
        <p:blipFill>
          <a:blip r:embed="rId1"/>
          <a:stretch/>
        </p:blipFill>
        <p:spPr>
          <a:xfrm>
            <a:off x="6750000" y="4535640"/>
            <a:ext cx="2578320" cy="149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Karakteristik data inp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03440" y="836280"/>
            <a:ext cx="841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satu baris (single-line 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tex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banyak baris (multi-line 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textarea&gt;&lt;/textarea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rahasia (passwor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passwor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lihan tunggal (single selec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radio"&gt;, &lt;select&gt;&lt;/selec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lihan majemuk (multiple selec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select multiple&gt;&lt;/selec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ntang (on/of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checkbox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bawaan/tersembunyi (hidd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hidde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fil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ordinat 2D dalam sebuah bidang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imag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ksi user melalui penekanan tomb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submit"&gt;, &lt;input type="reset"&gt;, &lt;input type="button"&gt;, &lt;button&gt;&lt;/butto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inp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61720" y="799920"/>
            <a:ext cx="918036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en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d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disabl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: text, password, radio, checkbox, image, submit, reset, button, hidden,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 : identifier untuk sisi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 : identifier untuk sisi brow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 : nilai defa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abled : jika disebutkan maka elemen tidak aktif (tidak digunak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[text|password]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adonly siz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maxlength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only : jika disebutkan maka elemen tidak bisa diubah nilainy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 : ukuran lebar dalam banyaknya karakter (bisa di-override oleh CS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length : banyaknya karakter maksimal yang dapat dimasukkan 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[radio|checkbox]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check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ed : jika disebutkan maka defaultnya adalah dalam keadaan dipili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image" src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gamb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lt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lternat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rc : nama file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 : teks yang ditampilkan bila browser tidak dapat menampilkan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extarea, select, butto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83840" y="887400"/>
            <a:ext cx="882324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extarea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ws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cols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extarea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lai : nilai defa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: banyaknya baris yang ditampilkan (tingg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s : banyaknya kolom/karakter yang ditampilkan (leba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elect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ltiple siz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&lt;option valu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ilai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l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eks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&lt;option valu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ilai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eks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: jika disebutkan maka pilihan boleh lebih dari satu (sambil menekan tombol Ctr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 : banyaknya baris pilihan yang ditampilkan (default=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ed : jika disebutkan maka defaultnya dalam keadaan terpili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utton typ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en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lu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ampil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utto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: submit, reset, 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pilan : kode dalam HTML yang akan menjadi tampilan untuk tomb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kema Dasar Dokumen HTML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416800" cy="30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i dokum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743040" y="4365720"/>
            <a:ext cx="84168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: menandai awal dan akhir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: menandai bagian header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TLE: memberi judul pada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: menandai awal dan akhir isi dokumen (yang ditampilk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122400" y="149400"/>
            <a:ext cx="86374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&lt;form method="POST" action="proses.php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ilahkan isi data 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hidden" name="halaman" value="1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nama"&gt;Nama lengkap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text" name="nama" id="nama" maxlength="40" size="20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pass"&gt;Password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password" name="pass" id="pass" maxlength="8" size="8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jenkel"&gt;Jenis kelamin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adio" name="jenkel" id="jenkel" value="L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aki-laki&lt;b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adio" name="jenkel" id="jenkel" value="P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erempuan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alamat"&gt;Alamat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textarea rows="3" cols="30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name="alamat" id="alamat"&gt;&lt;/textarea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bayar"&gt;Sudah bayar?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checkbo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name="bayar" id="bayar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udah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submit" value=" Kirim 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eset" value="Rese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"/>
          <p:cNvPicPr/>
          <p:nvPr/>
        </p:nvPicPr>
        <p:blipFill>
          <a:blip r:embed="rId1"/>
          <a:stretch/>
        </p:blipFill>
        <p:spPr>
          <a:xfrm>
            <a:off x="5199120" y="3243240"/>
            <a:ext cx="407664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98360" y="358920"/>
            <a:ext cx="863784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&lt;form method="POST" action="proses.php" enctype="multipart/form-dat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hidden" name="halaman" value="2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ota"&gt;Kota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kota" id="kot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"&gt;pilih kota...&lt;/option&gt;&lt;option value="bdg"&gt;Bandung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jkt"&gt;Jakarta&lt;/option&gt;&lt;option value="sby"&gt;Surabay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erja"&gt;Pekerjaan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kerja" id="kerja" size="4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a"&gt;Mahasiswa&lt;/option&gt;&lt;option value="b"&gt;Pegawai swast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c"&gt;Pegawai negeri&lt;/option&gt;&lt;option value="d"&gt;Wiraswast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bahasa"&gt;Bahasa:&lt;/label&gt;&lt;br&gt;(bisa lebih dari satu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bahasa" id="bahasa" size="4" multip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id"&gt;Indonesi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en"&gt;Inggri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ch"&gt;Cin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fr"&gt;Pranci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Hobi:&lt;br&gt;(bisa lebih dari satu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1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renang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2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nton film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3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sik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foto"&gt;Foto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file" name="foto" id="foto" size="10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button type="submit"&gt;Kirim &lt;img src="smiley.gif"&gt;&lt;/butt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button type="reset"&gt;Reset &lt;img src="tanya.gif"&gt;&lt;/butt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6194520" y="2631960"/>
            <a:ext cx="34192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2" name="AutoShape 5"/>
          <p:cNvSpPr/>
          <p:nvPr/>
        </p:nvSpPr>
        <p:spPr>
          <a:xfrm>
            <a:off x="8194680" y="1123920"/>
            <a:ext cx="1469880" cy="1324080"/>
          </a:xfrm>
          <a:prstGeom prst="wedgeRoundRectCallout">
            <a:avLst>
              <a:gd name="adj1" fmla="val -45462"/>
              <a:gd name="adj2" fmla="val 85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Object 0"/>
          <p:cNvGraphicFramePr/>
          <p:nvPr/>
        </p:nvGraphicFramePr>
        <p:xfrm>
          <a:off x="8345520" y="1222200"/>
          <a:ext cx="1190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45520" y="1222200"/>
                    <a:ext cx="1190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3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222120" y="246240"/>
            <a:ext cx="8947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Courier New"/>
              </a:rPr>
              <a:t>&lt;form method="POST" action="proses.php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ode"&gt;Kode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text" name="kode" id="kode" maxlength="3" size="3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jenis"&gt;Jenis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jenis" id="jenis" size="4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at"&gt;Kapal patroli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er"&gt;Kapal perusak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ud"&gt;Pangkalan udar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mar"&gt;Marka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log"&gt;Logistik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 colspan="2"&gt;Tunjuk lokasi penempatan :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image" src="peta1.gif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4684680" y="2281320"/>
            <a:ext cx="4913280" cy="37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Link pada bidang gambar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7600" y="874440"/>
            <a:ext cx="88758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dapat didefinisikan pada satu atau beberapa area pada sebuah bidang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mg src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amba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usemap="#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ap nam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rea shap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entuk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coords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koordinat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href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rl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alt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eks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rea shap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entuk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coords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koordinat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href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rl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alt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eks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ap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rc : nama file gamb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map : nama definisi peta yang digunak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pe : default, rect, circle, po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ords : koordinat, dengan format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ault : x1,y1,x2,y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t : x1,y1,x2,y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rcle : x,y,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 : x1,y1,x2,y2,x3,y3,…,xn,y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ref : URL yang dituju bila area di-kl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penggunaan map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96920" y="552600"/>
            <a:ext cx="9342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Klik pada wajah untuk melihat biodata&lt;b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Courier New"/>
              </a:rPr>
              <a:t>&lt;img src="aadc.jpg" usemap="#aadc" border="0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map name="aadc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circle" coords="131,82,37" href="titi.html" alt="Titi Kamal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rect" coords="172,52,238,129" href="adinia.html" alt="Adini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poly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coords="300,85,311,103,308,137,306,172,295,198,219,259,224,239,210,224,213,161,248,127,273,86,273,86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href="dian.html" alt="Dian Sastro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rect" coords="314,105,355,170" href="ladya" alt="Ladya Cheryl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circle" coords="387,134,30" href="sissy.html" alt="Sissy Priscilli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default" nohre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/map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Group 4"/>
          <p:cNvGrpSpPr/>
          <p:nvPr/>
        </p:nvGrpSpPr>
        <p:grpSpPr>
          <a:xfrm>
            <a:off x="4586400" y="2394000"/>
            <a:ext cx="5022360" cy="3587760"/>
            <a:chOff x="4586400" y="2394000"/>
            <a:chExt cx="5022360" cy="3587760"/>
          </a:xfrm>
        </p:grpSpPr>
        <p:sp>
          <p:nvSpPr>
            <p:cNvPr id="763" name="Rectangle 5"/>
            <p:cNvSpPr/>
            <p:nvPr/>
          </p:nvSpPr>
          <p:spPr>
            <a:xfrm>
              <a:off x="4586400" y="2394000"/>
              <a:ext cx="5022360" cy="3561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lik pada wajah untuk melihat bio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Picture 6" descr=""/>
            <p:cNvPicPr/>
            <p:nvPr/>
          </p:nvPicPr>
          <p:blipFill>
            <a:blip r:embed="rId1"/>
            <a:stretch/>
          </p:blipFill>
          <p:spPr>
            <a:xfrm>
              <a:off x="4698000" y="2691000"/>
              <a:ext cx="4734720" cy="32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engelompokan elemen dokume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34520" y="789120"/>
            <a:ext cx="841716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berapa elemen dokumen (teks, paragraf, gambar, tabel, dll) dapat dikelompokkan untuk menambahkan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ruktur lojik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da doku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ngelompokkan ada dua jenis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line (alur,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low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 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pan&gt; &lt;/spa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ock (blok) 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iv&gt; &lt;/div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pan&gt; dan &lt;div&gt; biasanya digunakan dengan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ameter id dan 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ruktur lojik ini dapat digunakan untuk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mpermudah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nginterpretasi is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doku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mberikan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mpila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suai struktur loji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dengan memanfaatkan C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oh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604800" y="3282840"/>
            <a:ext cx="4944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div id="mhs01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nama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rian Marzuki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alamat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l. Tubagus Ismail XI/5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div id="mhs02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nama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wi Purnama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alamat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l. Cisitu Lama 24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30360" y="4724280"/>
            <a:ext cx="4944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tyle type=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mhs {border: black solid 1; margin-bottom: 10; padding: 10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nama {font: bold 20 Arial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alamat {font-style: italic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ty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"mhs01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pan class="nama"&gt;Adrian Marzuki&lt;/span&gt;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6" descr=""/>
          <p:cNvPicPr/>
          <p:nvPr/>
        </p:nvPicPr>
        <p:blipFill>
          <a:blip r:embed="rId1"/>
          <a:stretch/>
        </p:blipFill>
        <p:spPr>
          <a:xfrm>
            <a:off x="5951520" y="3344760"/>
            <a:ext cx="2467080" cy="16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0" name="Picture 7" descr=""/>
          <p:cNvPicPr/>
          <p:nvPr/>
        </p:nvPicPr>
        <p:blipFill>
          <a:blip r:embed="rId2"/>
          <a:stretch/>
        </p:blipFill>
        <p:spPr>
          <a:xfrm>
            <a:off x="6967440" y="4365720"/>
            <a:ext cx="2467080" cy="162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1" name="AutoShape 8"/>
          <p:cNvSpPr/>
          <p:nvPr/>
        </p:nvSpPr>
        <p:spPr>
          <a:xfrm>
            <a:off x="5213520" y="3792600"/>
            <a:ext cx="630000" cy="407880"/>
          </a:xfrm>
          <a:prstGeom prst="rightArrow">
            <a:avLst>
              <a:gd name="adj1" fmla="val 50000"/>
              <a:gd name="adj2" fmla="val 38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5918040" y="5175360"/>
            <a:ext cx="630360" cy="407880"/>
          </a:xfrm>
          <a:prstGeom prst="rightArrow">
            <a:avLst>
              <a:gd name="adj1" fmla="val 50000"/>
              <a:gd name="adj2" fmla="val 38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Isi Dokumen HTML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222120" y="2705040"/>
            <a:ext cx="8858520" cy="312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Homepage saya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1&gt;Saya&lt;/h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2&gt;Perkenalan&lt;/h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&gt;Perkenalkan, nama saya ..... Ini adalah &lt;i&gt;homepage&lt;/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&gt;pertama&lt;/b&gt; saya, karena saya baru belajar tent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a membuat &lt;b&gt;&lt;i&gt;homepage&lt;/i&gt;&lt;/b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   &lt;!-- akhir dokumen HTML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5008680" y="873000"/>
            <a:ext cx="45291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Daftar Ta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3440" y="83628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tml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ead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itle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dul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ody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i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1&gt;…&lt;h6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dul paragra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p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gra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&gt;,&lt;i&gt;,&lt;u&gt;,&lt;sup&gt;,&lt;sub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r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nti bar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on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li&gt;,&lt;ol&gt;,&lt;ul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umera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r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ris menda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(kaitan/rujuk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abl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   --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men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rame&gt;,&lt;frameset&gt;,&lt;ifram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ame (bingka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ulir is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input&gt;,&lt;textarea&gt;,&lt;selec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mponen isian pada formul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ap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berdasar area pada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span&gt;,&lt;div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gelompokan elemen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Judu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Heading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3995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dul paragra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1,2,3,4,5,6 (tingkat jud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uk menuliskan judul suatu paragr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787320" y="2857680"/>
            <a:ext cx="3784680" cy="30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1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1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1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2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2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2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3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3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3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4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4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4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5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5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5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6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6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6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875120" y="2852640"/>
            <a:ext cx="396252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Judul Tingkat 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dul Tingkat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udul Tingkat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dul Tingkat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Judul Tingkat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Judul Tingkat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Paragraf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Paragraph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3995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urier New"/>
              </a:rPr>
              <a:t>&lt;p&gt;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paragraf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Untuk menandai suatu paragraf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atu paragraf akan terlihat dibatasi oleh satu baris kosong sebelum dan sesudahnya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79440" y="2819520"/>
            <a:ext cx="4343400" cy="31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 adalah homepage per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ya, karena saya baru belaj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ntang cara membuat home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mpilannya masih terlalu sederhana.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&lt;p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ya akan berusaha untuk terus memperbaiki homepage saya ini, sehingga semakin lama semakin menarik untuk dilihat.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5027760" y="2819520"/>
            <a:ext cx="4419360" cy="311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 adalah homepage pertama saya, karena saya baru belajar tentang cara membuat home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, 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ya akan berusaha untuk terus memperbaiki homepage saya ini, sehingga semakin lama semakin menarik untuk dilih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Atribut 1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Bold, Italic, Underlin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42680" y="985680"/>
            <a:ext cx="847548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cetak teb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cetak mi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i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garisbawahi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u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ntuk menandai bagian kalimat agar dicetak tebal, miring, dan/atau digarisbawahi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14360" y="4653000"/>
            <a:ext cx="883908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ta dapat diceta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ba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ris baw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ba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mbin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tengah huruf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503280" y="3029040"/>
            <a:ext cx="8763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Kata dapat dicetak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ba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ring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aris bawa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bal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ring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i&gt;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dan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&lt;i&gt;&lt;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ombinasi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u&gt;&lt;/i&gt;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i tengah huruf normal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Atribut 2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Superscript, Subscript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985680"/>
            <a:ext cx="84754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sup&gt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agian yang dicetak tinggi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/sup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sub&gt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agian yang dicetak rendah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/sub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ntuk menandai bagian karakter agar dicetak tinggi atau rendah, biasanya untuk rumus matematika atau kimia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684360" y="3200400"/>
            <a:ext cx="8686800" cy="138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(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2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O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2 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684360" y="4800600"/>
            <a:ext cx="8762760" cy="155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1:20:43Z</dcterms:created>
  <dc:creator>Elfan Nofiari</dc:creator>
  <dc:description/>
  <dc:language>en-US</dc:language>
  <cp:lastModifiedBy>acer</cp:lastModifiedBy>
  <dcterms:modified xsi:type="dcterms:W3CDTF">2006-03-11T16:29:46Z</dcterms:modified>
  <cp:revision>55</cp:revision>
  <dc:subject/>
  <dc:title>HTML</dc:title>
</cp:coreProperties>
</file>