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5E4F-31ED-4A54-85C9-72F1A69BB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84BC-2410-4717-8509-8C8597395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5B28-C36D-40C6-B40A-664C904BD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D38B-8022-485A-B9CB-3C0A95646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6204-589A-4154-A1A2-B733366BA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F5F3-672E-4135-9914-7FA297F02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D847-DB90-4F32-B553-9EA2B97A7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EDB6-E04D-4EDD-A565-B14950EFF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F0A2-AD63-4607-841B-66490407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7F9E-DED7-4C78-812E-3027AA13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CB68-8282-4E9B-A3B5-E9E461F5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55B0-A4E4-4D31-B6AD-7D2BAFD9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153C1-A17B-4183-9663-E70EA035AB7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>
            <a:off x="0" y="2033640"/>
            <a:ext cx="1523880" cy="1523880"/>
          </a:xfrm>
          <a:custGeom>
            <a:avLst/>
            <a:gdLst>
              <a:gd name="textAreaLeft" fmla="*/ 223200 w 1523880"/>
              <a:gd name="textAreaRight" fmla="*/ 1300680 w 1523880"/>
              <a:gd name="textAreaTop" fmla="*/ 223200 h 1523880"/>
              <a:gd name="textAreaBottom" fmla="*/ 13006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305" y="10800"/>
                </a:moveTo>
                <a:cubicBezTo>
                  <a:pt x="1305" y="16044"/>
                  <a:pt x="5556" y="20295"/>
                  <a:pt x="10800" y="20295"/>
                </a:cubicBezTo>
                <a:cubicBezTo>
                  <a:pt x="16044" y="20295"/>
                  <a:pt x="20295" y="16044"/>
                  <a:pt x="20295" y="10800"/>
                </a:cubicBezTo>
                <a:cubicBezTo>
                  <a:pt x="20295" y="5556"/>
                  <a:pt x="16044" y="1305"/>
                  <a:pt x="10800" y="1305"/>
                </a:cubicBezTo>
                <a:cubicBezTo>
                  <a:pt x="5556" y="1305"/>
                  <a:pt x="1305" y="5556"/>
                  <a:pt x="1305" y="10800"/>
                </a:cubicBezTo>
                <a:close/>
              </a:path>
            </a:pathLst>
          </a:custGeom>
          <a:gradFill rotWithShape="0">
            <a:gsLst>
              <a:gs pos="0">
                <a:srgbClr val="4f81bd"/>
              </a:gs>
              <a:gs pos="100000">
                <a:srgbClr val="eeece1"/>
              </a:gs>
            </a:gsLst>
            <a:lin ang="18900000"/>
          </a:gradFill>
          <a:ln w="0">
            <a:noFill/>
          </a:ln>
          <a:effectLst>
            <a:outerShdw dist="36147" dir="2700000" blurRad="0" rotWithShape="0">
              <a:srgbClr val="0a005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0" y="700200"/>
            <a:ext cx="1523880" cy="1523880"/>
          </a:xfrm>
          <a:custGeom>
            <a:avLst/>
            <a:gdLst>
              <a:gd name="textAreaLeft" fmla="*/ 223200 w 1523880"/>
              <a:gd name="textAreaRight" fmla="*/ 1300680 w 1523880"/>
              <a:gd name="textAreaTop" fmla="*/ 223200 h 1523880"/>
              <a:gd name="textAreaBottom" fmla="*/ 13006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305" y="10800"/>
                </a:moveTo>
                <a:cubicBezTo>
                  <a:pt x="1305" y="16044"/>
                  <a:pt x="5556" y="20295"/>
                  <a:pt x="10800" y="20295"/>
                </a:cubicBezTo>
                <a:cubicBezTo>
                  <a:pt x="16044" y="20295"/>
                  <a:pt x="20295" y="16044"/>
                  <a:pt x="20295" y="10800"/>
                </a:cubicBezTo>
                <a:cubicBezTo>
                  <a:pt x="20295" y="5556"/>
                  <a:pt x="16044" y="1305"/>
                  <a:pt x="10800" y="1305"/>
                </a:cubicBezTo>
                <a:cubicBezTo>
                  <a:pt x="5556" y="1305"/>
                  <a:pt x="1305" y="5556"/>
                  <a:pt x="1305" y="10800"/>
                </a:cubicBezTo>
                <a:close/>
              </a:path>
            </a:pathLst>
          </a:custGeom>
          <a:gradFill rotWithShape="0">
            <a:gsLst>
              <a:gs pos="0">
                <a:srgbClr val="4f81bd"/>
              </a:gs>
              <a:gs pos="100000">
                <a:srgbClr val="eeece1"/>
              </a:gs>
            </a:gsLst>
            <a:lin ang="18900000"/>
          </a:gradFill>
          <a:ln w="0">
            <a:noFill/>
          </a:ln>
          <a:effectLst>
            <a:outerShdw dist="36147" dir="2700000" blurRad="0" rotWithShape="0">
              <a:srgbClr val="0a005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0" y="3367080"/>
            <a:ext cx="1523880" cy="1523880"/>
          </a:xfrm>
          <a:custGeom>
            <a:avLst/>
            <a:gdLst>
              <a:gd name="textAreaLeft" fmla="*/ 223200 w 1523880"/>
              <a:gd name="textAreaRight" fmla="*/ 1300680 w 1523880"/>
              <a:gd name="textAreaTop" fmla="*/ 223200 h 1523880"/>
              <a:gd name="textAreaBottom" fmla="*/ 13006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305" y="10800"/>
                </a:moveTo>
                <a:cubicBezTo>
                  <a:pt x="1305" y="16044"/>
                  <a:pt x="5556" y="20295"/>
                  <a:pt x="10800" y="20295"/>
                </a:cubicBezTo>
                <a:cubicBezTo>
                  <a:pt x="16044" y="20295"/>
                  <a:pt x="20295" y="16044"/>
                  <a:pt x="20295" y="10800"/>
                </a:cubicBezTo>
                <a:cubicBezTo>
                  <a:pt x="20295" y="5556"/>
                  <a:pt x="16044" y="1305"/>
                  <a:pt x="10800" y="1305"/>
                </a:cubicBezTo>
                <a:cubicBezTo>
                  <a:pt x="5556" y="1305"/>
                  <a:pt x="1305" y="5556"/>
                  <a:pt x="1305" y="10800"/>
                </a:cubicBezTo>
                <a:close/>
              </a:path>
            </a:pathLst>
          </a:custGeom>
          <a:gradFill rotWithShape="0">
            <a:gsLst>
              <a:gs pos="0">
                <a:srgbClr val="4f81bd"/>
              </a:gs>
              <a:gs pos="100000">
                <a:srgbClr val="eeece1"/>
              </a:gs>
            </a:gsLst>
            <a:lin ang="18900000"/>
          </a:gradFill>
          <a:ln w="0">
            <a:noFill/>
          </a:ln>
          <a:effectLst>
            <a:outerShdw dist="36147" dir="2700000" blurRad="0" rotWithShape="0">
              <a:srgbClr val="0a005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0" y="4700520"/>
            <a:ext cx="1523880" cy="1524240"/>
          </a:xfrm>
          <a:custGeom>
            <a:avLst/>
            <a:gdLst>
              <a:gd name="textAreaLeft" fmla="*/ 223200 w 1523880"/>
              <a:gd name="textAreaRight" fmla="*/ 1300680 w 1523880"/>
              <a:gd name="textAreaTop" fmla="*/ 223200 h 1524240"/>
              <a:gd name="textAreaBottom" fmla="*/ 13010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305" y="10800"/>
                </a:moveTo>
                <a:cubicBezTo>
                  <a:pt x="1305" y="16044"/>
                  <a:pt x="5556" y="20295"/>
                  <a:pt x="10800" y="20295"/>
                </a:cubicBezTo>
                <a:cubicBezTo>
                  <a:pt x="16044" y="20295"/>
                  <a:pt x="20295" y="16044"/>
                  <a:pt x="20295" y="10800"/>
                </a:cubicBezTo>
                <a:cubicBezTo>
                  <a:pt x="20295" y="5556"/>
                  <a:pt x="16044" y="1305"/>
                  <a:pt x="10800" y="1305"/>
                </a:cubicBezTo>
                <a:cubicBezTo>
                  <a:pt x="5556" y="1305"/>
                  <a:pt x="1305" y="5556"/>
                  <a:pt x="1305" y="10800"/>
                </a:cubicBezTo>
                <a:close/>
              </a:path>
            </a:pathLst>
          </a:custGeom>
          <a:gradFill rotWithShape="0">
            <a:gsLst>
              <a:gs pos="0">
                <a:srgbClr val="4f81bd"/>
              </a:gs>
              <a:gs pos="100000">
                <a:srgbClr val="eeece1"/>
              </a:gs>
            </a:gsLst>
            <a:lin ang="18900000"/>
          </a:gradFill>
          <a:ln w="0">
            <a:noFill/>
          </a:ln>
          <a:effectLst>
            <a:outerShdw dist="36147" dir="2700000" blurRad="0" rotWithShape="0">
              <a:srgbClr val="0a005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0" y="1652760"/>
            <a:ext cx="1523880" cy="1523880"/>
          </a:xfrm>
          <a:custGeom>
            <a:avLst/>
            <a:gdLst>
              <a:gd name="textAreaLeft" fmla="*/ 223200 w 1523880"/>
              <a:gd name="textAreaRight" fmla="*/ 1300680 w 1523880"/>
              <a:gd name="textAreaTop" fmla="*/ 223200 h 1523880"/>
              <a:gd name="textAreaBottom" fmla="*/ 13006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305" y="10800"/>
                </a:moveTo>
                <a:cubicBezTo>
                  <a:pt x="1305" y="16044"/>
                  <a:pt x="5556" y="20295"/>
                  <a:pt x="10800" y="20295"/>
                </a:cubicBezTo>
                <a:cubicBezTo>
                  <a:pt x="16044" y="20295"/>
                  <a:pt x="20295" y="16044"/>
                  <a:pt x="20295" y="10800"/>
                </a:cubicBezTo>
                <a:cubicBezTo>
                  <a:pt x="20295" y="5556"/>
                  <a:pt x="16044" y="1305"/>
                  <a:pt x="10800" y="1305"/>
                </a:cubicBezTo>
                <a:cubicBezTo>
                  <a:pt x="5556" y="1305"/>
                  <a:pt x="1305" y="5556"/>
                  <a:pt x="1305" y="10800"/>
                </a:cubicBezTo>
                <a:close/>
              </a:path>
            </a:pathLst>
          </a:cu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18900000"/>
          </a:gradFill>
          <a:ln w="0">
            <a:noFill/>
          </a:ln>
          <a:effectLst>
            <a:outerShdw dist="36147" dir="2700000" blurRad="0" rotWithShape="0">
              <a:srgbClr val="0a005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0" y="2986200"/>
            <a:ext cx="1523880" cy="1523880"/>
          </a:xfrm>
          <a:custGeom>
            <a:avLst/>
            <a:gdLst>
              <a:gd name="textAreaLeft" fmla="*/ 223200 w 1523880"/>
              <a:gd name="textAreaRight" fmla="*/ 1300680 w 1523880"/>
              <a:gd name="textAreaTop" fmla="*/ 223200 h 1523880"/>
              <a:gd name="textAreaBottom" fmla="*/ 13006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305" y="10800"/>
                </a:moveTo>
                <a:cubicBezTo>
                  <a:pt x="1305" y="16044"/>
                  <a:pt x="5556" y="20295"/>
                  <a:pt x="10800" y="20295"/>
                </a:cubicBezTo>
                <a:cubicBezTo>
                  <a:pt x="16044" y="20295"/>
                  <a:pt x="20295" y="16044"/>
                  <a:pt x="20295" y="10800"/>
                </a:cubicBezTo>
                <a:cubicBezTo>
                  <a:pt x="20295" y="5556"/>
                  <a:pt x="16044" y="1305"/>
                  <a:pt x="10800" y="1305"/>
                </a:cubicBezTo>
                <a:cubicBezTo>
                  <a:pt x="5556" y="1305"/>
                  <a:pt x="1305" y="5556"/>
                  <a:pt x="1305" y="10800"/>
                </a:cubicBezTo>
                <a:close/>
              </a:path>
            </a:pathLst>
          </a:cu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18900000"/>
          </a:gradFill>
          <a:ln w="0">
            <a:noFill/>
          </a:ln>
          <a:effectLst>
            <a:outerShdw dist="36147" dir="2700000" blurRad="0" rotWithShape="0">
              <a:srgbClr val="0a005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8"/>
          <p:cNvSpPr/>
          <p:nvPr/>
        </p:nvSpPr>
        <p:spPr>
          <a:xfrm>
            <a:off x="0" y="318960"/>
            <a:ext cx="1523880" cy="1524240"/>
          </a:xfrm>
          <a:custGeom>
            <a:avLst/>
            <a:gdLst>
              <a:gd name="textAreaLeft" fmla="*/ 223200 w 1523880"/>
              <a:gd name="textAreaRight" fmla="*/ 1300680 w 1523880"/>
              <a:gd name="textAreaTop" fmla="*/ 223200 h 1524240"/>
              <a:gd name="textAreaBottom" fmla="*/ 13010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305" y="10800"/>
                </a:moveTo>
                <a:cubicBezTo>
                  <a:pt x="1305" y="16044"/>
                  <a:pt x="5556" y="20295"/>
                  <a:pt x="10800" y="20295"/>
                </a:cubicBezTo>
                <a:cubicBezTo>
                  <a:pt x="16044" y="20295"/>
                  <a:pt x="20295" y="16044"/>
                  <a:pt x="20295" y="10800"/>
                </a:cubicBezTo>
                <a:cubicBezTo>
                  <a:pt x="20295" y="5556"/>
                  <a:pt x="16044" y="1305"/>
                  <a:pt x="10800" y="1305"/>
                </a:cubicBezTo>
                <a:cubicBezTo>
                  <a:pt x="5556" y="1305"/>
                  <a:pt x="1305" y="5556"/>
                  <a:pt x="1305" y="10800"/>
                </a:cubicBezTo>
                <a:close/>
              </a:path>
            </a:pathLst>
          </a:cu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18900000"/>
          </a:gradFill>
          <a:ln w="0">
            <a:noFill/>
          </a:ln>
          <a:effectLst>
            <a:outerShdw dist="36147" dir="2700000" blurRad="0" rotWithShape="0">
              <a:srgbClr val="0a005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9"/>
          <p:cNvSpPr/>
          <p:nvPr/>
        </p:nvSpPr>
        <p:spPr>
          <a:xfrm>
            <a:off x="0" y="4319640"/>
            <a:ext cx="1523880" cy="1523880"/>
          </a:xfrm>
          <a:custGeom>
            <a:avLst/>
            <a:gdLst>
              <a:gd name="textAreaLeft" fmla="*/ 223200 w 1523880"/>
              <a:gd name="textAreaRight" fmla="*/ 1300680 w 1523880"/>
              <a:gd name="textAreaTop" fmla="*/ 223200 h 1523880"/>
              <a:gd name="textAreaBottom" fmla="*/ 13006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305" y="10800"/>
                </a:moveTo>
                <a:cubicBezTo>
                  <a:pt x="1305" y="16044"/>
                  <a:pt x="5556" y="20295"/>
                  <a:pt x="10800" y="20295"/>
                </a:cubicBezTo>
                <a:cubicBezTo>
                  <a:pt x="16044" y="20295"/>
                  <a:pt x="20295" y="16044"/>
                  <a:pt x="20295" y="10800"/>
                </a:cubicBezTo>
                <a:cubicBezTo>
                  <a:pt x="20295" y="5556"/>
                  <a:pt x="16044" y="1305"/>
                  <a:pt x="10800" y="1305"/>
                </a:cubicBezTo>
                <a:cubicBezTo>
                  <a:pt x="5556" y="1305"/>
                  <a:pt x="1305" y="5556"/>
                  <a:pt x="1305" y="10800"/>
                </a:cubicBezTo>
                <a:close/>
              </a:path>
            </a:pathLst>
          </a:cu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18900000"/>
          </a:gradFill>
          <a:ln w="0">
            <a:noFill/>
          </a:ln>
          <a:effectLst>
            <a:outerShdw dist="36147" dir="2700000" blurRad="0" rotWithShape="0">
              <a:srgbClr val="0a005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1685880" y="399960"/>
            <a:ext cx="61740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652760" y="2075040"/>
            <a:ext cx="5945040" cy="23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a87c00"/>
                </a:solidFill>
                <a:latin typeface="Arial"/>
              </a:rPr>
              <a:t>MANAGING SERVICE PROMIS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3540240" y="2516040"/>
            <a:ext cx="2919240" cy="3113280"/>
          </a:xfrm>
          <a:prstGeom prst="rect">
            <a:avLst/>
          </a:prstGeom>
          <a:solidFill>
            <a:srgbClr val="ffd5a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3"/>
          <p:cNvSpPr/>
          <p:nvPr/>
        </p:nvSpPr>
        <p:spPr>
          <a:xfrm>
            <a:off x="1006560" y="2514600"/>
            <a:ext cx="2533680" cy="3887640"/>
          </a:xfrm>
          <a:custGeom>
            <a:avLst/>
            <a:gdLst/>
            <a:ahLst/>
            <a:rect l="l" t="t" r="r" b="b"/>
            <a:pathLst>
              <a:path w="656" h="1145">
                <a:moveTo>
                  <a:pt x="655" y="0"/>
                </a:moveTo>
                <a:lnTo>
                  <a:pt x="0" y="1144"/>
                </a:lnTo>
                <a:lnTo>
                  <a:pt x="655" y="653"/>
                </a:lnTo>
                <a:lnTo>
                  <a:pt x="655" y="0"/>
                </a:lnTo>
              </a:path>
            </a:pathLst>
          </a:custGeom>
          <a:solidFill>
            <a:srgbClr val="ffd5ab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3559320" y="2793960"/>
            <a:ext cx="2841480" cy="1139760"/>
          </a:xfrm>
          <a:prstGeom prst="rect">
            <a:avLst/>
          </a:prstGeom>
          <a:solidFill>
            <a:srgbClr val="ffd5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Value is everyth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I want in a servic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3642480" y="3987720"/>
            <a:ext cx="2470320" cy="698760"/>
          </a:xfrm>
          <a:prstGeom prst="rect">
            <a:avLst/>
          </a:prstGeom>
          <a:solidFill>
            <a:srgbClr val="ffd5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stige pri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kimming pri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"/>
          <p:cNvSpPr/>
          <p:nvPr/>
        </p:nvSpPr>
        <p:spPr>
          <a:xfrm flipV="1">
            <a:off x="1000080" y="5627520"/>
            <a:ext cx="2522520" cy="758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cing Strategies When the Customer Defines Value as Everything Wanted in a Serv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Line 8"/>
          <p:cNvSpPr/>
          <p:nvPr/>
        </p:nvSpPr>
        <p:spPr>
          <a:xfrm flipV="1">
            <a:off x="998640" y="5629320"/>
            <a:ext cx="5460840" cy="77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1812960" y="3182760"/>
            <a:ext cx="3446280" cy="3036960"/>
          </a:xfrm>
          <a:prstGeom prst="rect">
            <a:avLst/>
          </a:prstGeom>
          <a:solidFill>
            <a:srgbClr val="fdc0e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3"/>
          <p:cNvSpPr/>
          <p:nvPr/>
        </p:nvSpPr>
        <p:spPr>
          <a:xfrm>
            <a:off x="5261040" y="2062080"/>
            <a:ext cx="1392120" cy="2616120"/>
          </a:xfrm>
          <a:custGeom>
            <a:avLst/>
            <a:gdLst/>
            <a:ahLst/>
            <a:rect l="l" t="t" r="r" b="b"/>
            <a:pathLst>
              <a:path w="657" h="1143">
                <a:moveTo>
                  <a:pt x="0" y="1142"/>
                </a:moveTo>
                <a:lnTo>
                  <a:pt x="0" y="489"/>
                </a:lnTo>
                <a:lnTo>
                  <a:pt x="656" y="0"/>
                </a:lnTo>
                <a:lnTo>
                  <a:pt x="0" y="1142"/>
                </a:lnTo>
              </a:path>
            </a:pathLst>
          </a:custGeom>
          <a:solidFill>
            <a:srgbClr val="fdc0e5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1901880" y="3241800"/>
            <a:ext cx="3205080" cy="1139760"/>
          </a:xfrm>
          <a:prstGeom prst="rect">
            <a:avLst/>
          </a:prstGeom>
          <a:solidFill>
            <a:srgbClr val="fdc0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Value is the quality I get for the price I pay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1886040" y="4481640"/>
            <a:ext cx="2987640" cy="1003680"/>
          </a:xfrm>
          <a:prstGeom prst="rect">
            <a:avLst/>
          </a:prstGeom>
          <a:solidFill>
            <a:srgbClr val="fdc0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58840" indent="-258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 pri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 segmentation pri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6"/>
          <p:cNvSpPr/>
          <p:nvPr/>
        </p:nvSpPr>
        <p:spPr>
          <a:xfrm flipV="1">
            <a:off x="5254560" y="2057040"/>
            <a:ext cx="1417680" cy="415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7"/>
          <p:cNvSpPr/>
          <p:nvPr/>
        </p:nvSpPr>
        <p:spPr>
          <a:xfrm flipV="1">
            <a:off x="1825560" y="2058480"/>
            <a:ext cx="4845240" cy="1103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cing Strategies When the Customer Defines Value as Quality for the Price Pa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3629160" y="3132000"/>
            <a:ext cx="3533760" cy="27133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3"/>
          <p:cNvSpPr/>
          <p:nvPr/>
        </p:nvSpPr>
        <p:spPr>
          <a:xfrm>
            <a:off x="2209680" y="2133720"/>
            <a:ext cx="1425600" cy="2334960"/>
          </a:xfrm>
          <a:custGeom>
            <a:avLst/>
            <a:gdLst/>
            <a:ahLst/>
            <a:rect l="l" t="t" r="r" b="b"/>
            <a:pathLst>
              <a:path w="656" h="1143">
                <a:moveTo>
                  <a:pt x="655" y="1142"/>
                </a:moveTo>
                <a:lnTo>
                  <a:pt x="655" y="489"/>
                </a:lnTo>
                <a:lnTo>
                  <a:pt x="0" y="0"/>
                </a:lnTo>
                <a:lnTo>
                  <a:pt x="655" y="1142"/>
                </a:lnTo>
              </a:path>
            </a:pathLst>
          </a:custGeom>
          <a:solidFill>
            <a:srgbClr val="ccffcc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3809880" y="3368520"/>
            <a:ext cx="3200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Value is all that I get for all that I giv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3729960" y="4267080"/>
            <a:ext cx="341964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ce fra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ce bund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lementary pri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ults-based pricing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6"/>
          <p:cNvSpPr/>
          <p:nvPr/>
        </p:nvSpPr>
        <p:spPr>
          <a:xfrm>
            <a:off x="2209680" y="2133720"/>
            <a:ext cx="1414440" cy="3713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7"/>
          <p:cNvSpPr/>
          <p:nvPr/>
        </p:nvSpPr>
        <p:spPr>
          <a:xfrm>
            <a:off x="2209680" y="2133720"/>
            <a:ext cx="4950000" cy="987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2106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cing Strategies When the Customer Defines Value as All That Is Received for All That Is Giv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892080" y="1778040"/>
            <a:ext cx="2745000" cy="2260440"/>
          </a:xfrm>
          <a:prstGeom prst="rect">
            <a:avLst/>
          </a:prstGeom>
          <a:solidFill>
            <a:srgbClr val="c1ce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3"/>
          <p:cNvSpPr/>
          <p:nvPr/>
        </p:nvSpPr>
        <p:spPr>
          <a:xfrm>
            <a:off x="3654360" y="1763640"/>
            <a:ext cx="1042920" cy="1817640"/>
          </a:xfrm>
          <a:custGeom>
            <a:avLst/>
            <a:gdLst/>
            <a:ahLst/>
            <a:rect l="l" t="t" r="r" b="b"/>
            <a:pathLst>
              <a:path w="657" h="1145">
                <a:moveTo>
                  <a:pt x="0" y="0"/>
                </a:moveTo>
                <a:lnTo>
                  <a:pt x="656" y="1144"/>
                </a:lnTo>
                <a:lnTo>
                  <a:pt x="0" y="653"/>
                </a:lnTo>
                <a:lnTo>
                  <a:pt x="0" y="0"/>
                </a:lnTo>
              </a:path>
            </a:pathLst>
          </a:custGeom>
          <a:solidFill>
            <a:srgbClr val="6880c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892080" y="4346640"/>
            <a:ext cx="2745000" cy="2106720"/>
          </a:xfrm>
          <a:prstGeom prst="rect">
            <a:avLst/>
          </a:prstGeom>
          <a:solidFill>
            <a:srgbClr val="fdc0e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5"/>
          <p:cNvSpPr/>
          <p:nvPr/>
        </p:nvSpPr>
        <p:spPr>
          <a:xfrm>
            <a:off x="3654360" y="3568680"/>
            <a:ext cx="1042920" cy="1814400"/>
          </a:xfrm>
          <a:custGeom>
            <a:avLst/>
            <a:gdLst/>
            <a:ahLst/>
            <a:rect l="l" t="t" r="r" b="b"/>
            <a:pathLst>
              <a:path w="657" h="1143">
                <a:moveTo>
                  <a:pt x="0" y="1142"/>
                </a:moveTo>
                <a:lnTo>
                  <a:pt x="0" y="489"/>
                </a:lnTo>
                <a:lnTo>
                  <a:pt x="656" y="0"/>
                </a:lnTo>
                <a:lnTo>
                  <a:pt x="0" y="1142"/>
                </a:lnTo>
              </a:path>
            </a:pathLst>
          </a:custGeom>
          <a:solidFill>
            <a:srgbClr val="c000c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5737320" y="1754280"/>
            <a:ext cx="2698560" cy="2273040"/>
          </a:xfrm>
          <a:prstGeom prst="rect">
            <a:avLst/>
          </a:prstGeom>
          <a:solidFill>
            <a:srgbClr val="ffdf9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7"/>
          <p:cNvSpPr/>
          <p:nvPr/>
        </p:nvSpPr>
        <p:spPr>
          <a:xfrm>
            <a:off x="4695840" y="1752480"/>
            <a:ext cx="1041480" cy="1817640"/>
          </a:xfrm>
          <a:custGeom>
            <a:avLst/>
            <a:gdLst/>
            <a:ahLst/>
            <a:rect l="l" t="t" r="r" b="b"/>
            <a:pathLst>
              <a:path w="656" h="1145">
                <a:moveTo>
                  <a:pt x="655" y="0"/>
                </a:moveTo>
                <a:lnTo>
                  <a:pt x="0" y="1144"/>
                </a:lnTo>
                <a:lnTo>
                  <a:pt x="655" y="653"/>
                </a:lnTo>
                <a:lnTo>
                  <a:pt x="655" y="0"/>
                </a:lnTo>
              </a:path>
            </a:pathLst>
          </a:custGeom>
          <a:solidFill>
            <a:srgbClr val="804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5715000" y="4346640"/>
            <a:ext cx="2698920" cy="21067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>
            <a:off x="4673520" y="3568680"/>
            <a:ext cx="1041480" cy="1814400"/>
          </a:xfrm>
          <a:custGeom>
            <a:avLst/>
            <a:gdLst/>
            <a:ahLst/>
            <a:rect l="l" t="t" r="r" b="b"/>
            <a:pathLst>
              <a:path w="656" h="1143">
                <a:moveTo>
                  <a:pt x="655" y="1142"/>
                </a:moveTo>
                <a:lnTo>
                  <a:pt x="655" y="489"/>
                </a:lnTo>
                <a:lnTo>
                  <a:pt x="0" y="0"/>
                </a:lnTo>
                <a:lnTo>
                  <a:pt x="655" y="1142"/>
                </a:lnTo>
              </a:path>
            </a:pathLst>
          </a:custGeom>
          <a:solidFill>
            <a:srgbClr val="99cc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1188720" y="1893960"/>
            <a:ext cx="2165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alue is low pr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5803920" y="1817640"/>
            <a:ext cx="2502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alue is every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 want in a serv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893520" y="4386240"/>
            <a:ext cx="2687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alue is the qua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 get for the price I p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5616720" y="4402080"/>
            <a:ext cx="2971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alue is all that I 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or all that I gi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4"/>
          <p:cNvSpPr/>
          <p:nvPr/>
        </p:nvSpPr>
        <p:spPr>
          <a:xfrm>
            <a:off x="938520" y="2352600"/>
            <a:ext cx="222084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193680" indent="-193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coun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dd pr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nchro-pr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netration pr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5"/>
          <p:cNvSpPr/>
          <p:nvPr/>
        </p:nvSpPr>
        <p:spPr>
          <a:xfrm>
            <a:off x="5743080" y="2503440"/>
            <a:ext cx="20743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193680" indent="-193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tige pr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kimming pr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6"/>
          <p:cNvSpPr/>
          <p:nvPr/>
        </p:nvSpPr>
        <p:spPr>
          <a:xfrm>
            <a:off x="968400" y="5094360"/>
            <a:ext cx="25257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93680" indent="-193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ue pr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et segmentation pr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7"/>
          <p:cNvSpPr/>
          <p:nvPr/>
        </p:nvSpPr>
        <p:spPr>
          <a:xfrm>
            <a:off x="5733360" y="5105520"/>
            <a:ext cx="274968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193680" indent="-193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ce fra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ce bund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lementary pricing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ults-based pr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8"/>
          <p:cNvSpPr/>
          <p:nvPr/>
        </p:nvSpPr>
        <p:spPr>
          <a:xfrm flipV="1">
            <a:off x="3657600" y="3581280"/>
            <a:ext cx="106668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9"/>
          <p:cNvSpPr/>
          <p:nvPr/>
        </p:nvSpPr>
        <p:spPr>
          <a:xfrm>
            <a:off x="4708440" y="3594240"/>
            <a:ext cx="1054080" cy="44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0"/>
          <p:cNvSpPr/>
          <p:nvPr/>
        </p:nvSpPr>
        <p:spPr>
          <a:xfrm flipV="1">
            <a:off x="892080" y="4021200"/>
            <a:ext cx="1974960" cy="31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1"/>
          <p:cNvSpPr/>
          <p:nvPr/>
        </p:nvSpPr>
        <p:spPr>
          <a:xfrm flipH="1" flipV="1">
            <a:off x="6759720" y="4026960"/>
            <a:ext cx="1606320" cy="311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2"/>
          <p:cNvSpPr/>
          <p:nvPr/>
        </p:nvSpPr>
        <p:spPr>
          <a:xfrm>
            <a:off x="4724280" y="3581280"/>
            <a:ext cx="990720" cy="289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3"/>
          <p:cNvSpPr/>
          <p:nvPr/>
        </p:nvSpPr>
        <p:spPr>
          <a:xfrm flipV="1">
            <a:off x="3641760" y="3564000"/>
            <a:ext cx="1054080" cy="290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mmary of Service Pricing Strategies f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 Customer Definitions of Val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Integrated marketing commun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grated Services Marketing Communic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59984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00160" indent="-200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rvice communication challeng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0160" indent="-200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grated service marketing communi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0160" indent="-200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sent four ways to integrate marketing communications in service organiz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0160" indent="-200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sent specific strategies for managing promises, managing customer expectations, educating customers, and managing internal communica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unications and the Servic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rketing Triang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Freeform 3"/>
          <p:cNvSpPr/>
          <p:nvPr/>
        </p:nvSpPr>
        <p:spPr>
          <a:xfrm>
            <a:off x="2298600" y="2190600"/>
            <a:ext cx="2244960" cy="2508480"/>
          </a:xfrm>
          <a:custGeom>
            <a:avLst/>
            <a:gdLst/>
            <a:ahLst/>
            <a:rect l="l" t="t" r="r" b="b"/>
            <a:pathLst>
              <a:path w="2829" h="3161">
                <a:moveTo>
                  <a:pt x="943" y="2709"/>
                </a:moveTo>
                <a:lnTo>
                  <a:pt x="0" y="3161"/>
                </a:lnTo>
                <a:lnTo>
                  <a:pt x="2829" y="0"/>
                </a:lnTo>
                <a:lnTo>
                  <a:pt x="2829" y="631"/>
                </a:lnTo>
                <a:lnTo>
                  <a:pt x="943" y="2709"/>
                </a:lnTo>
                <a:close/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4"/>
          <p:cNvSpPr/>
          <p:nvPr/>
        </p:nvSpPr>
        <p:spPr>
          <a:xfrm>
            <a:off x="2371680" y="4413240"/>
            <a:ext cx="4417920" cy="357120"/>
          </a:xfrm>
          <a:custGeom>
            <a:avLst/>
            <a:gdLst/>
            <a:ahLst/>
            <a:rect l="l" t="t" r="r" b="b"/>
            <a:pathLst>
              <a:path w="5564" h="451">
                <a:moveTo>
                  <a:pt x="944" y="0"/>
                </a:moveTo>
                <a:lnTo>
                  <a:pt x="4620" y="0"/>
                </a:lnTo>
                <a:lnTo>
                  <a:pt x="5564" y="451"/>
                </a:lnTo>
                <a:lnTo>
                  <a:pt x="0" y="451"/>
                </a:lnTo>
                <a:lnTo>
                  <a:pt x="944" y="0"/>
                </a:lnTo>
                <a:close/>
              </a:path>
            </a:pathLst>
          </a:custGeom>
          <a:solidFill>
            <a:srgbClr val="996633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5"/>
          <p:cNvSpPr/>
          <p:nvPr/>
        </p:nvSpPr>
        <p:spPr>
          <a:xfrm>
            <a:off x="4618080" y="2190600"/>
            <a:ext cx="2244600" cy="2508480"/>
          </a:xfrm>
          <a:custGeom>
            <a:avLst/>
            <a:gdLst/>
            <a:ahLst/>
            <a:rect l="l" t="t" r="r" b="b"/>
            <a:pathLst>
              <a:path w="2829" h="3161">
                <a:moveTo>
                  <a:pt x="1887" y="2709"/>
                </a:moveTo>
                <a:lnTo>
                  <a:pt x="2829" y="3161"/>
                </a:lnTo>
                <a:lnTo>
                  <a:pt x="0" y="0"/>
                </a:lnTo>
                <a:lnTo>
                  <a:pt x="0" y="631"/>
                </a:lnTo>
                <a:lnTo>
                  <a:pt x="1887" y="2709"/>
                </a:lnTo>
                <a:close/>
              </a:path>
            </a:pathLst>
          </a:custGeom>
          <a:solidFill>
            <a:srgbClr val="0099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609480" y="2406600"/>
            <a:ext cx="310212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Internal Marke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ertical communications Horizontal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2749680" y="4876920"/>
            <a:ext cx="342252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Interactive Marketing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al selling           Customer service center  Service encounters          Servicesca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6172200" y="2406600"/>
            <a:ext cx="2743200" cy="16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00"/>
                </a:solidFill>
                <a:latin typeface="Arial"/>
              </a:rPr>
              <a:t>External Marketing     Communicatio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ertising                    Sales promotion           Public relations        Direct 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9"/>
          <p:cNvSpPr/>
          <p:nvPr/>
        </p:nvSpPr>
        <p:spPr>
          <a:xfrm>
            <a:off x="3885480" y="1722600"/>
            <a:ext cx="1568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0"/>
          <p:cNvSpPr/>
          <p:nvPr/>
        </p:nvSpPr>
        <p:spPr>
          <a:xfrm>
            <a:off x="6451200" y="4815000"/>
            <a:ext cx="17726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1"/>
          <p:cNvSpPr/>
          <p:nvPr/>
        </p:nvSpPr>
        <p:spPr>
          <a:xfrm>
            <a:off x="827280" y="4818240"/>
            <a:ext cx="17892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2"/>
          <p:cNvSpPr/>
          <p:nvPr/>
        </p:nvSpPr>
        <p:spPr>
          <a:xfrm>
            <a:off x="1189080" y="6381720"/>
            <a:ext cx="6778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Kotler, Philip,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Marketing Management: Analysis, Planning, Implementation, and Control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th Edition, © 199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3"/>
          <p:cNvSpPr/>
          <p:nvPr/>
        </p:nvSpPr>
        <p:spPr>
          <a:xfrm>
            <a:off x="5759280" y="6670800"/>
            <a:ext cx="3224520" cy="1760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proaches for Integrating Services Marketing Commun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4" name="Group 3"/>
          <p:cNvGrpSpPr/>
          <p:nvPr/>
        </p:nvGrpSpPr>
        <p:grpSpPr>
          <a:xfrm>
            <a:off x="4950000" y="3286080"/>
            <a:ext cx="3353400" cy="1851840"/>
            <a:chOff x="4950000" y="3286080"/>
            <a:chExt cx="3353400" cy="1851840"/>
          </a:xfrm>
        </p:grpSpPr>
        <p:grpSp>
          <p:nvGrpSpPr>
            <p:cNvPr id="185" name="Group 4"/>
            <p:cNvGrpSpPr/>
            <p:nvPr/>
          </p:nvGrpSpPr>
          <p:grpSpPr>
            <a:xfrm>
              <a:off x="4950000" y="3286080"/>
              <a:ext cx="3353400" cy="1851840"/>
              <a:chOff x="4950000" y="3286080"/>
              <a:chExt cx="3353400" cy="1851840"/>
            </a:xfrm>
          </p:grpSpPr>
          <p:sp>
            <p:nvSpPr>
              <p:cNvPr id="186" name="Freeform 5"/>
              <p:cNvSpPr/>
              <p:nvPr/>
            </p:nvSpPr>
            <p:spPr>
              <a:xfrm>
                <a:off x="4950000" y="3286080"/>
                <a:ext cx="3203280" cy="1749240"/>
              </a:xfrm>
              <a:custGeom>
                <a:avLst/>
                <a:gdLst/>
                <a:ahLst/>
                <a:rect l="l" t="t" r="r" b="b"/>
                <a:pathLst>
                  <a:path w="2018" h="1102">
                    <a:moveTo>
                      <a:pt x="2017" y="244"/>
                    </a:moveTo>
                    <a:lnTo>
                      <a:pt x="2017" y="863"/>
                    </a:lnTo>
                    <a:lnTo>
                      <a:pt x="760" y="863"/>
                    </a:lnTo>
                    <a:lnTo>
                      <a:pt x="760" y="1101"/>
                    </a:lnTo>
                    <a:lnTo>
                      <a:pt x="0" y="551"/>
                    </a:lnTo>
                    <a:lnTo>
                      <a:pt x="760" y="0"/>
                    </a:lnTo>
                    <a:lnTo>
                      <a:pt x="760" y="244"/>
                    </a:lnTo>
                    <a:lnTo>
                      <a:pt x="2017" y="244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6"/>
              <p:cNvSpPr/>
              <p:nvPr/>
            </p:nvSpPr>
            <p:spPr>
              <a:xfrm>
                <a:off x="6156000" y="4654080"/>
                <a:ext cx="2145960" cy="109440"/>
              </a:xfrm>
              <a:custGeom>
                <a:avLst/>
                <a:gdLst/>
                <a:ahLst/>
                <a:rect l="l" t="t" r="r" b="b"/>
                <a:pathLst>
                  <a:path w="1352" h="69">
                    <a:moveTo>
                      <a:pt x="91" y="67"/>
                    </a:moveTo>
                    <a:lnTo>
                      <a:pt x="0" y="0"/>
                    </a:lnTo>
                    <a:lnTo>
                      <a:pt x="1262" y="0"/>
                    </a:lnTo>
                    <a:lnTo>
                      <a:pt x="1351" y="68"/>
                    </a:lnTo>
                    <a:lnTo>
                      <a:pt x="91" y="67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7"/>
              <p:cNvSpPr/>
              <p:nvPr/>
            </p:nvSpPr>
            <p:spPr>
              <a:xfrm>
                <a:off x="6157800" y="4650840"/>
                <a:ext cx="144000" cy="487080"/>
              </a:xfrm>
              <a:custGeom>
                <a:avLst/>
                <a:gdLst/>
                <a:ahLst/>
                <a:rect l="l" t="t" r="r" b="b"/>
                <a:pathLst>
                  <a:path w="91" h="307">
                    <a:moveTo>
                      <a:pt x="90" y="69"/>
                    </a:moveTo>
                    <a:lnTo>
                      <a:pt x="0" y="0"/>
                    </a:lnTo>
                    <a:lnTo>
                      <a:pt x="0" y="241"/>
                    </a:lnTo>
                    <a:lnTo>
                      <a:pt x="90" y="306"/>
                    </a:lnTo>
                    <a:lnTo>
                      <a:pt x="90" y="69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8"/>
              <p:cNvSpPr/>
              <p:nvPr/>
            </p:nvSpPr>
            <p:spPr>
              <a:xfrm>
                <a:off x="8151480" y="3674520"/>
                <a:ext cx="151920" cy="1089000"/>
              </a:xfrm>
              <a:custGeom>
                <a:avLst/>
                <a:gdLst/>
                <a:ahLst/>
                <a:rect l="l" t="t" r="r" b="b"/>
                <a:pathLst>
                  <a:path w="96" h="686">
                    <a:moveTo>
                      <a:pt x="95" y="72"/>
                    </a:moveTo>
                    <a:lnTo>
                      <a:pt x="0" y="0"/>
                    </a:lnTo>
                    <a:lnTo>
                      <a:pt x="0" y="616"/>
                    </a:lnTo>
                    <a:lnTo>
                      <a:pt x="95" y="685"/>
                    </a:lnTo>
                    <a:lnTo>
                      <a:pt x="95" y="72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9"/>
              <p:cNvSpPr/>
              <p:nvPr/>
            </p:nvSpPr>
            <p:spPr>
              <a:xfrm>
                <a:off x="6157800" y="3286080"/>
                <a:ext cx="144000" cy="390240"/>
              </a:xfrm>
              <a:custGeom>
                <a:avLst/>
                <a:gdLst/>
                <a:ahLst/>
                <a:rect l="l" t="t" r="r" b="b"/>
                <a:pathLst>
                  <a:path w="91" h="246">
                    <a:moveTo>
                      <a:pt x="90" y="245"/>
                    </a:moveTo>
                    <a:lnTo>
                      <a:pt x="0" y="245"/>
                    </a:lnTo>
                    <a:lnTo>
                      <a:pt x="0" y="0"/>
                    </a:lnTo>
                    <a:lnTo>
                      <a:pt x="90" y="66"/>
                    </a:lnTo>
                    <a:lnTo>
                      <a:pt x="90" y="245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Rectangle 10"/>
            <p:cNvSpPr/>
            <p:nvPr/>
          </p:nvSpPr>
          <p:spPr>
            <a:xfrm>
              <a:off x="6395400" y="3774960"/>
              <a:ext cx="1136880" cy="7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06480"/>
                  <a:tab algn="l" pos="1812960"/>
                  <a:tab algn="l" pos="2719440"/>
                  <a:tab algn="l" pos="3625920"/>
                  <a:tab algn="l" pos="4532400"/>
                  <a:tab algn="l" pos="5438880"/>
                  <a:tab algn="l" pos="6345360"/>
                  <a:tab algn="l" pos="7251840"/>
                  <a:tab algn="l" pos="8158320"/>
                  <a:tab algn="l" pos="9064800"/>
                  <a:tab algn="l" pos="9970920"/>
                  <a:tab algn="l" pos="10877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mprov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06480"/>
                  <a:tab algn="l" pos="1812960"/>
                  <a:tab algn="l" pos="2719440"/>
                  <a:tab algn="l" pos="3625920"/>
                  <a:tab algn="l" pos="4532400"/>
                  <a:tab algn="l" pos="5438880"/>
                  <a:tab algn="l" pos="6345360"/>
                  <a:tab algn="l" pos="7251840"/>
                  <a:tab algn="l" pos="8158320"/>
                  <a:tab algn="l" pos="9064800"/>
                  <a:tab algn="l" pos="9970920"/>
                  <a:tab algn="l" pos="10877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06480"/>
                  <a:tab algn="l" pos="1812960"/>
                  <a:tab algn="l" pos="2719440"/>
                  <a:tab algn="l" pos="3625920"/>
                  <a:tab algn="l" pos="4532400"/>
                  <a:tab algn="l" pos="5438880"/>
                  <a:tab algn="l" pos="6345360"/>
                  <a:tab algn="l" pos="7251840"/>
                  <a:tab algn="l" pos="8158320"/>
                  <a:tab algn="l" pos="9064800"/>
                  <a:tab algn="l" pos="9970920"/>
                  <a:tab algn="l" pos="10877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du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Group 11"/>
          <p:cNvGrpSpPr/>
          <p:nvPr/>
        </p:nvGrpSpPr>
        <p:grpSpPr>
          <a:xfrm>
            <a:off x="993600" y="3286080"/>
            <a:ext cx="3352320" cy="1851840"/>
            <a:chOff x="993600" y="3286080"/>
            <a:chExt cx="3352320" cy="1851840"/>
          </a:xfrm>
        </p:grpSpPr>
        <p:grpSp>
          <p:nvGrpSpPr>
            <p:cNvPr id="193" name="Group 12"/>
            <p:cNvGrpSpPr/>
            <p:nvPr/>
          </p:nvGrpSpPr>
          <p:grpSpPr>
            <a:xfrm>
              <a:off x="993600" y="3286080"/>
              <a:ext cx="3352320" cy="1851840"/>
              <a:chOff x="993600" y="3286080"/>
              <a:chExt cx="3352320" cy="1851840"/>
            </a:xfrm>
          </p:grpSpPr>
          <p:sp>
            <p:nvSpPr>
              <p:cNvPr id="194" name="Freeform 13"/>
              <p:cNvSpPr/>
              <p:nvPr/>
            </p:nvSpPr>
            <p:spPr>
              <a:xfrm>
                <a:off x="1145160" y="3286080"/>
                <a:ext cx="3200760" cy="1749240"/>
              </a:xfrm>
              <a:custGeom>
                <a:avLst/>
                <a:gdLst/>
                <a:ahLst/>
                <a:rect l="l" t="t" r="r" b="b"/>
                <a:pathLst>
                  <a:path w="2017" h="1102">
                    <a:moveTo>
                      <a:pt x="0" y="244"/>
                    </a:moveTo>
                    <a:lnTo>
                      <a:pt x="0" y="863"/>
                    </a:lnTo>
                    <a:lnTo>
                      <a:pt x="1256" y="863"/>
                    </a:lnTo>
                    <a:lnTo>
                      <a:pt x="1256" y="1101"/>
                    </a:lnTo>
                    <a:lnTo>
                      <a:pt x="2016" y="551"/>
                    </a:lnTo>
                    <a:lnTo>
                      <a:pt x="1256" y="0"/>
                    </a:lnTo>
                    <a:lnTo>
                      <a:pt x="1256" y="244"/>
                    </a:lnTo>
                    <a:lnTo>
                      <a:pt x="0" y="244"/>
                    </a:lnTo>
                  </a:path>
                </a:pathLst>
              </a:custGeom>
              <a:solidFill>
                <a:srgbClr val="fafd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4"/>
              <p:cNvSpPr/>
              <p:nvPr/>
            </p:nvSpPr>
            <p:spPr>
              <a:xfrm>
                <a:off x="995040" y="4654440"/>
                <a:ext cx="2146320" cy="109800"/>
              </a:xfrm>
              <a:custGeom>
                <a:avLst/>
                <a:gdLst/>
                <a:ahLst/>
                <a:rect l="l" t="t" r="r" b="b"/>
                <a:pathLst>
                  <a:path w="1352" h="69">
                    <a:moveTo>
                      <a:pt x="1260" y="67"/>
                    </a:moveTo>
                    <a:lnTo>
                      <a:pt x="1351" y="0"/>
                    </a:lnTo>
                    <a:lnTo>
                      <a:pt x="89" y="0"/>
                    </a:lnTo>
                    <a:lnTo>
                      <a:pt x="0" y="68"/>
                    </a:lnTo>
                    <a:lnTo>
                      <a:pt x="1260" y="67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15"/>
              <p:cNvSpPr/>
              <p:nvPr/>
            </p:nvSpPr>
            <p:spPr>
              <a:xfrm>
                <a:off x="2995200" y="4650840"/>
                <a:ext cx="144360" cy="487080"/>
              </a:xfrm>
              <a:custGeom>
                <a:avLst/>
                <a:gdLst/>
                <a:ahLst/>
                <a:rect l="l" t="t" r="r" b="b"/>
                <a:pathLst>
                  <a:path w="91" h="307">
                    <a:moveTo>
                      <a:pt x="0" y="69"/>
                    </a:moveTo>
                    <a:lnTo>
                      <a:pt x="90" y="0"/>
                    </a:lnTo>
                    <a:lnTo>
                      <a:pt x="90" y="241"/>
                    </a:lnTo>
                    <a:lnTo>
                      <a:pt x="0" y="306"/>
                    </a:lnTo>
                    <a:lnTo>
                      <a:pt x="0" y="69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6"/>
              <p:cNvSpPr/>
              <p:nvPr/>
            </p:nvSpPr>
            <p:spPr>
              <a:xfrm>
                <a:off x="993600" y="3674520"/>
                <a:ext cx="151560" cy="1090080"/>
              </a:xfrm>
              <a:custGeom>
                <a:avLst/>
                <a:gdLst/>
                <a:ahLst/>
                <a:rect l="l" t="t" r="r" b="b"/>
                <a:pathLst>
                  <a:path w="96" h="686">
                    <a:moveTo>
                      <a:pt x="0" y="72"/>
                    </a:moveTo>
                    <a:lnTo>
                      <a:pt x="95" y="0"/>
                    </a:lnTo>
                    <a:lnTo>
                      <a:pt x="95" y="616"/>
                    </a:lnTo>
                    <a:lnTo>
                      <a:pt x="0" y="685"/>
                    </a:lnTo>
                    <a:lnTo>
                      <a:pt x="0" y="7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17"/>
              <p:cNvSpPr/>
              <p:nvPr/>
            </p:nvSpPr>
            <p:spPr>
              <a:xfrm>
                <a:off x="2995200" y="3286080"/>
                <a:ext cx="144360" cy="389880"/>
              </a:xfrm>
              <a:custGeom>
                <a:avLst/>
                <a:gdLst/>
                <a:ahLst/>
                <a:rect l="l" t="t" r="r" b="b"/>
                <a:pathLst>
                  <a:path w="91" h="246">
                    <a:moveTo>
                      <a:pt x="0" y="245"/>
                    </a:moveTo>
                    <a:lnTo>
                      <a:pt x="90" y="245"/>
                    </a:lnTo>
                    <a:lnTo>
                      <a:pt x="90" y="0"/>
                    </a:lnTo>
                    <a:lnTo>
                      <a:pt x="0" y="66"/>
                    </a:lnTo>
                    <a:lnTo>
                      <a:pt x="0" y="245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" name="Rectangle 18"/>
            <p:cNvSpPr/>
            <p:nvPr/>
          </p:nvSpPr>
          <p:spPr>
            <a:xfrm>
              <a:off x="1708920" y="3767760"/>
              <a:ext cx="1082160" cy="7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06480"/>
                  <a:tab algn="l" pos="1812960"/>
                  <a:tab algn="l" pos="2719440"/>
                  <a:tab algn="l" pos="3625920"/>
                  <a:tab algn="l" pos="4532400"/>
                  <a:tab algn="l" pos="5438880"/>
                  <a:tab algn="l" pos="6345360"/>
                  <a:tab algn="l" pos="7251840"/>
                  <a:tab algn="l" pos="8158320"/>
                  <a:tab algn="l" pos="9064800"/>
                  <a:tab algn="l" pos="9970920"/>
                  <a:tab algn="l" pos="10877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ana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06480"/>
                  <a:tab algn="l" pos="1812960"/>
                  <a:tab algn="l" pos="2719440"/>
                  <a:tab algn="l" pos="3625920"/>
                  <a:tab algn="l" pos="4532400"/>
                  <a:tab algn="l" pos="5438880"/>
                  <a:tab algn="l" pos="6345360"/>
                  <a:tab algn="l" pos="7251840"/>
                  <a:tab algn="l" pos="8158320"/>
                  <a:tab algn="l" pos="9064800"/>
                  <a:tab algn="l" pos="9970920"/>
                  <a:tab algn="l" pos="10877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06480"/>
                  <a:tab algn="l" pos="1812960"/>
                  <a:tab algn="l" pos="2719440"/>
                  <a:tab algn="l" pos="3625920"/>
                  <a:tab algn="l" pos="4532400"/>
                  <a:tab algn="l" pos="5438880"/>
                  <a:tab algn="l" pos="6345360"/>
                  <a:tab algn="l" pos="7251840"/>
                  <a:tab algn="l" pos="8158320"/>
                  <a:tab algn="l" pos="9064800"/>
                  <a:tab algn="l" pos="9970920"/>
                  <a:tab algn="l" pos="10877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mis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19"/>
          <p:cNvGrpSpPr/>
          <p:nvPr/>
        </p:nvGrpSpPr>
        <p:grpSpPr>
          <a:xfrm>
            <a:off x="3427560" y="1400040"/>
            <a:ext cx="2419920" cy="2417040"/>
            <a:chOff x="3427560" y="1400040"/>
            <a:chExt cx="2419920" cy="2417040"/>
          </a:xfrm>
        </p:grpSpPr>
        <p:grpSp>
          <p:nvGrpSpPr>
            <p:cNvPr id="201" name="Group 20"/>
            <p:cNvGrpSpPr/>
            <p:nvPr/>
          </p:nvGrpSpPr>
          <p:grpSpPr>
            <a:xfrm>
              <a:off x="3427560" y="1400040"/>
              <a:ext cx="2419920" cy="2417040"/>
              <a:chOff x="3427560" y="1400040"/>
              <a:chExt cx="2419920" cy="2417040"/>
            </a:xfrm>
          </p:grpSpPr>
          <p:sp>
            <p:nvSpPr>
              <p:cNvPr id="202" name="Freeform 21"/>
              <p:cNvSpPr/>
              <p:nvPr/>
            </p:nvSpPr>
            <p:spPr>
              <a:xfrm>
                <a:off x="3433680" y="1488600"/>
                <a:ext cx="2409120" cy="2328480"/>
              </a:xfrm>
              <a:custGeom>
                <a:avLst/>
                <a:gdLst/>
                <a:ahLst/>
                <a:rect l="l" t="t" r="r" b="b"/>
                <a:pathLst>
                  <a:path w="1518" h="1467">
                    <a:moveTo>
                      <a:pt x="1181" y="0"/>
                    </a:moveTo>
                    <a:lnTo>
                      <a:pt x="332" y="0"/>
                    </a:lnTo>
                    <a:lnTo>
                      <a:pt x="332" y="916"/>
                    </a:lnTo>
                    <a:lnTo>
                      <a:pt x="0" y="916"/>
                    </a:lnTo>
                    <a:lnTo>
                      <a:pt x="759" y="1466"/>
                    </a:lnTo>
                    <a:lnTo>
                      <a:pt x="1517" y="916"/>
                    </a:lnTo>
                    <a:lnTo>
                      <a:pt x="1181" y="916"/>
                    </a:lnTo>
                    <a:lnTo>
                      <a:pt x="1181" y="0"/>
                    </a:lnTo>
                  </a:path>
                </a:pathLst>
              </a:custGeom>
              <a:solidFill>
                <a:srgbClr val="ff99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22"/>
              <p:cNvSpPr/>
              <p:nvPr/>
            </p:nvSpPr>
            <p:spPr>
              <a:xfrm>
                <a:off x="3958920" y="1400040"/>
                <a:ext cx="1350360" cy="95040"/>
              </a:xfrm>
              <a:custGeom>
                <a:avLst/>
                <a:gdLst/>
                <a:ahLst/>
                <a:rect l="l" t="t" r="r" b="b"/>
                <a:pathLst>
                  <a:path w="851" h="60">
                    <a:moveTo>
                      <a:pt x="0" y="59"/>
                    </a:moveTo>
                    <a:lnTo>
                      <a:pt x="850" y="59"/>
                    </a:lnTo>
                    <a:lnTo>
                      <a:pt x="850" y="0"/>
                    </a:lnTo>
                    <a:lnTo>
                      <a:pt x="0" y="0"/>
                    </a:lnTo>
                    <a:lnTo>
                      <a:pt x="0" y="59"/>
                    </a:lnTo>
                  </a:path>
                </a:pathLst>
              </a:custGeom>
              <a:solidFill>
                <a:srgbClr val="ff99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23"/>
              <p:cNvSpPr/>
              <p:nvPr/>
            </p:nvSpPr>
            <p:spPr>
              <a:xfrm>
                <a:off x="3427560" y="2809440"/>
                <a:ext cx="529920" cy="134640"/>
              </a:xfrm>
              <a:custGeom>
                <a:avLst/>
                <a:gdLst/>
                <a:ahLst/>
                <a:rect l="l" t="t" r="r" b="b"/>
                <a:pathLst>
                  <a:path w="334" h="85">
                    <a:moveTo>
                      <a:pt x="333" y="0"/>
                    </a:moveTo>
                    <a:lnTo>
                      <a:pt x="333" y="84"/>
                    </a:lnTo>
                    <a:lnTo>
                      <a:pt x="0" y="84"/>
                    </a:lnTo>
                    <a:lnTo>
                      <a:pt x="2" y="0"/>
                    </a:lnTo>
                    <a:lnTo>
                      <a:pt x="333" y="0"/>
                    </a:lnTo>
                  </a:path>
                </a:pathLst>
              </a:custGeom>
              <a:solidFill>
                <a:srgbClr val="ff99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24"/>
              <p:cNvSpPr/>
              <p:nvPr/>
            </p:nvSpPr>
            <p:spPr>
              <a:xfrm>
                <a:off x="5308200" y="2809440"/>
                <a:ext cx="539280" cy="134640"/>
              </a:xfrm>
              <a:custGeom>
                <a:avLst/>
                <a:gdLst/>
                <a:ahLst/>
                <a:rect l="l" t="t" r="r" b="b"/>
                <a:pathLst>
                  <a:path w="340" h="85">
                    <a:moveTo>
                      <a:pt x="339" y="0"/>
                    </a:moveTo>
                    <a:lnTo>
                      <a:pt x="338" y="84"/>
                    </a:lnTo>
                    <a:lnTo>
                      <a:pt x="0" y="84"/>
                    </a:lnTo>
                    <a:lnTo>
                      <a:pt x="0" y="0"/>
                    </a:lnTo>
                    <a:lnTo>
                      <a:pt x="339" y="0"/>
                    </a:lnTo>
                  </a:path>
                </a:pathLst>
              </a:custGeom>
              <a:solidFill>
                <a:srgbClr val="ff99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Rectangle 25"/>
            <p:cNvSpPr/>
            <p:nvPr/>
          </p:nvSpPr>
          <p:spPr>
            <a:xfrm>
              <a:off x="3922920" y="2035440"/>
              <a:ext cx="1418760" cy="11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06480"/>
                  <a:tab algn="l" pos="1812960"/>
                  <a:tab algn="l" pos="2719440"/>
                  <a:tab algn="l" pos="3625920"/>
                  <a:tab algn="l" pos="4532400"/>
                  <a:tab algn="l" pos="5438880"/>
                  <a:tab algn="l" pos="6345360"/>
                  <a:tab algn="l" pos="7251840"/>
                  <a:tab algn="l" pos="8158320"/>
                  <a:tab algn="l" pos="9064800"/>
                  <a:tab algn="l" pos="9970920"/>
                  <a:tab algn="l" pos="10877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ana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06480"/>
                  <a:tab algn="l" pos="1812960"/>
                  <a:tab algn="l" pos="2719440"/>
                  <a:tab algn="l" pos="3625920"/>
                  <a:tab algn="l" pos="4532400"/>
                  <a:tab algn="l" pos="5438880"/>
                  <a:tab algn="l" pos="6345360"/>
                  <a:tab algn="l" pos="7251840"/>
                  <a:tab algn="l" pos="8158320"/>
                  <a:tab algn="l" pos="9064800"/>
                  <a:tab algn="l" pos="9970920"/>
                  <a:tab algn="l" pos="10877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06480"/>
                  <a:tab algn="l" pos="1812960"/>
                  <a:tab algn="l" pos="2719440"/>
                  <a:tab algn="l" pos="3625920"/>
                  <a:tab algn="l" pos="4532400"/>
                  <a:tab algn="l" pos="5438880"/>
                  <a:tab algn="l" pos="6345360"/>
                  <a:tab algn="l" pos="7251840"/>
                  <a:tab algn="l" pos="8158320"/>
                  <a:tab algn="l" pos="9064800"/>
                  <a:tab algn="l" pos="9970920"/>
                  <a:tab algn="l" pos="10877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xpect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06480"/>
                  <a:tab algn="l" pos="1812960"/>
                  <a:tab algn="l" pos="2719440"/>
                  <a:tab algn="l" pos="3625920"/>
                  <a:tab algn="l" pos="4532400"/>
                  <a:tab algn="l" pos="5438880"/>
                  <a:tab algn="l" pos="6345360"/>
                  <a:tab algn="l" pos="7251840"/>
                  <a:tab algn="l" pos="8158320"/>
                  <a:tab algn="l" pos="9064800"/>
                  <a:tab algn="l" pos="9970920"/>
                  <a:tab algn="l" pos="10877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06480"/>
                  <a:tab algn="l" pos="1812960"/>
                  <a:tab algn="l" pos="2719440"/>
                  <a:tab algn="l" pos="3625920"/>
                  <a:tab algn="l" pos="4532400"/>
                  <a:tab algn="l" pos="5438880"/>
                  <a:tab algn="l" pos="6345360"/>
                  <a:tab algn="l" pos="7251840"/>
                  <a:tab algn="l" pos="8158320"/>
                  <a:tab algn="l" pos="9064800"/>
                  <a:tab algn="l" pos="9970920"/>
                  <a:tab algn="l" pos="10877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26"/>
          <p:cNvGrpSpPr/>
          <p:nvPr/>
        </p:nvGrpSpPr>
        <p:grpSpPr>
          <a:xfrm>
            <a:off x="3343320" y="4440240"/>
            <a:ext cx="2665800" cy="2417040"/>
            <a:chOff x="3343320" y="4440240"/>
            <a:chExt cx="2665800" cy="2417040"/>
          </a:xfrm>
        </p:grpSpPr>
        <p:grpSp>
          <p:nvGrpSpPr>
            <p:cNvPr id="208" name="Group 27"/>
            <p:cNvGrpSpPr/>
            <p:nvPr/>
          </p:nvGrpSpPr>
          <p:grpSpPr>
            <a:xfrm>
              <a:off x="3343320" y="4440240"/>
              <a:ext cx="2665800" cy="2417040"/>
              <a:chOff x="3343320" y="4440240"/>
              <a:chExt cx="2665800" cy="2417040"/>
            </a:xfrm>
          </p:grpSpPr>
          <p:sp>
            <p:nvSpPr>
              <p:cNvPr id="209" name="Freeform 28"/>
              <p:cNvSpPr/>
              <p:nvPr/>
            </p:nvSpPr>
            <p:spPr>
              <a:xfrm>
                <a:off x="3350160" y="4440240"/>
                <a:ext cx="2653920" cy="2330280"/>
              </a:xfrm>
              <a:custGeom>
                <a:avLst/>
                <a:gdLst/>
                <a:ahLst/>
                <a:rect l="l" t="t" r="r" b="b"/>
                <a:pathLst>
                  <a:path w="1518" h="1468">
                    <a:moveTo>
                      <a:pt x="1181" y="1467"/>
                    </a:moveTo>
                    <a:lnTo>
                      <a:pt x="332" y="1467"/>
                    </a:lnTo>
                    <a:lnTo>
                      <a:pt x="332" y="550"/>
                    </a:lnTo>
                    <a:lnTo>
                      <a:pt x="0" y="550"/>
                    </a:lnTo>
                    <a:lnTo>
                      <a:pt x="759" y="0"/>
                    </a:lnTo>
                    <a:lnTo>
                      <a:pt x="1517" y="550"/>
                    </a:lnTo>
                    <a:lnTo>
                      <a:pt x="1181" y="550"/>
                    </a:lnTo>
                    <a:lnTo>
                      <a:pt x="1181" y="1467"/>
                    </a:lnTo>
                  </a:path>
                </a:pathLst>
              </a:custGeom>
              <a:solidFill>
                <a:srgbClr val="cc99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29"/>
              <p:cNvSpPr/>
              <p:nvPr/>
            </p:nvSpPr>
            <p:spPr>
              <a:xfrm>
                <a:off x="3928680" y="6762600"/>
                <a:ext cx="1487880" cy="94680"/>
              </a:xfrm>
              <a:custGeom>
                <a:avLst/>
                <a:gdLst/>
                <a:ahLst/>
                <a:rect l="l" t="t" r="r" b="b"/>
                <a:pathLst>
                  <a:path w="851" h="60">
                    <a:moveTo>
                      <a:pt x="0" y="0"/>
                    </a:moveTo>
                    <a:lnTo>
                      <a:pt x="850" y="0"/>
                    </a:lnTo>
                    <a:lnTo>
                      <a:pt x="850" y="59"/>
                    </a:lnTo>
                    <a:lnTo>
                      <a:pt x="0" y="5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99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30"/>
              <p:cNvSpPr/>
              <p:nvPr/>
            </p:nvSpPr>
            <p:spPr>
              <a:xfrm>
                <a:off x="3343320" y="5313240"/>
                <a:ext cx="583920" cy="132840"/>
              </a:xfrm>
              <a:custGeom>
                <a:avLst/>
                <a:gdLst/>
                <a:ahLst/>
                <a:rect l="l" t="t" r="r" b="b"/>
                <a:pathLst>
                  <a:path w="334" h="84">
                    <a:moveTo>
                      <a:pt x="333" y="83"/>
                    </a:moveTo>
                    <a:lnTo>
                      <a:pt x="333" y="0"/>
                    </a:lnTo>
                    <a:lnTo>
                      <a:pt x="0" y="0"/>
                    </a:lnTo>
                    <a:lnTo>
                      <a:pt x="2" y="83"/>
                    </a:lnTo>
                    <a:lnTo>
                      <a:pt x="333" y="83"/>
                    </a:lnTo>
                  </a:path>
                </a:pathLst>
              </a:custGeom>
              <a:solidFill>
                <a:srgbClr val="cc99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31"/>
              <p:cNvSpPr/>
              <p:nvPr/>
            </p:nvSpPr>
            <p:spPr>
              <a:xfrm>
                <a:off x="5415120" y="5313240"/>
                <a:ext cx="594000" cy="132840"/>
              </a:xfrm>
              <a:custGeom>
                <a:avLst/>
                <a:gdLst/>
                <a:ahLst/>
                <a:rect l="l" t="t" r="r" b="b"/>
                <a:pathLst>
                  <a:path w="340" h="84">
                    <a:moveTo>
                      <a:pt x="339" y="83"/>
                    </a:moveTo>
                    <a:lnTo>
                      <a:pt x="338" y="0"/>
                    </a:lnTo>
                    <a:lnTo>
                      <a:pt x="0" y="0"/>
                    </a:lnTo>
                    <a:lnTo>
                      <a:pt x="0" y="83"/>
                    </a:lnTo>
                    <a:lnTo>
                      <a:pt x="339" y="83"/>
                    </a:lnTo>
                  </a:path>
                </a:pathLst>
              </a:custGeom>
              <a:solidFill>
                <a:srgbClr val="cc99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3" name="Rectangle 32"/>
            <p:cNvSpPr/>
            <p:nvPr/>
          </p:nvSpPr>
          <p:spPr>
            <a:xfrm>
              <a:off x="3837240" y="5397840"/>
              <a:ext cx="1676520" cy="96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06480"/>
                  <a:tab algn="l" pos="1812960"/>
                  <a:tab algn="l" pos="2719440"/>
                  <a:tab algn="l" pos="3625920"/>
                  <a:tab algn="l" pos="4532400"/>
                  <a:tab algn="l" pos="5438880"/>
                  <a:tab algn="l" pos="6345360"/>
                  <a:tab algn="l" pos="7251840"/>
                  <a:tab algn="l" pos="8158320"/>
                  <a:tab algn="l" pos="9064800"/>
                  <a:tab algn="l" pos="9970920"/>
                  <a:tab algn="l" pos="10877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ana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06480"/>
                  <a:tab algn="l" pos="1812960"/>
                  <a:tab algn="l" pos="2719440"/>
                  <a:tab algn="l" pos="3625920"/>
                  <a:tab algn="l" pos="4532400"/>
                  <a:tab algn="l" pos="5438880"/>
                  <a:tab algn="l" pos="6345360"/>
                  <a:tab algn="l" pos="7251840"/>
                  <a:tab algn="l" pos="8158320"/>
                  <a:tab algn="l" pos="9064800"/>
                  <a:tab algn="l" pos="9970920"/>
                  <a:tab algn="l" pos="10877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terna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06480"/>
                  <a:tab algn="l" pos="1812960"/>
                  <a:tab algn="l" pos="2719440"/>
                  <a:tab algn="l" pos="3625920"/>
                  <a:tab algn="l" pos="4532400"/>
                  <a:tab algn="l" pos="5438880"/>
                  <a:tab algn="l" pos="6345360"/>
                  <a:tab algn="l" pos="7251840"/>
                  <a:tab algn="l" pos="8158320"/>
                  <a:tab algn="l" pos="9064800"/>
                  <a:tab algn="l" pos="9970920"/>
                  <a:tab algn="l" pos="10877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arket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06480"/>
                  <a:tab algn="l" pos="1812960"/>
                  <a:tab algn="l" pos="2719440"/>
                  <a:tab algn="l" pos="3625920"/>
                  <a:tab algn="l" pos="4532400"/>
                  <a:tab algn="l" pos="5438880"/>
                  <a:tab algn="l" pos="6345360"/>
                  <a:tab algn="l" pos="7251840"/>
                  <a:tab algn="l" pos="8158320"/>
                  <a:tab algn="l" pos="9064800"/>
                  <a:tab algn="l" pos="9970920"/>
                  <a:tab algn="l" pos="10877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mmun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33"/>
          <p:cNvGrpSpPr/>
          <p:nvPr/>
        </p:nvGrpSpPr>
        <p:grpSpPr>
          <a:xfrm>
            <a:off x="3406680" y="3314880"/>
            <a:ext cx="2484000" cy="1729800"/>
            <a:chOff x="3406680" y="3314880"/>
            <a:chExt cx="2484000" cy="1729800"/>
          </a:xfrm>
        </p:grpSpPr>
        <p:sp>
          <p:nvSpPr>
            <p:cNvPr id="215" name="AutoShape 34"/>
            <p:cNvSpPr/>
            <p:nvPr/>
          </p:nvSpPr>
          <p:spPr>
            <a:xfrm>
              <a:off x="3406680" y="3314880"/>
              <a:ext cx="2484000" cy="1729800"/>
            </a:xfrm>
            <a:prstGeom prst="diamond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35"/>
            <p:cNvSpPr/>
            <p:nvPr/>
          </p:nvSpPr>
          <p:spPr>
            <a:xfrm>
              <a:off x="3954240" y="3567600"/>
              <a:ext cx="1408320" cy="11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06480"/>
                  <a:tab algn="l" pos="1812960"/>
                  <a:tab algn="l" pos="2719440"/>
                  <a:tab algn="l" pos="3625920"/>
                  <a:tab algn="l" pos="4532400"/>
                  <a:tab algn="l" pos="5438880"/>
                  <a:tab algn="l" pos="6345360"/>
                  <a:tab algn="l" pos="7251840"/>
                  <a:tab algn="l" pos="8158320"/>
                  <a:tab algn="l" pos="9064800"/>
                  <a:tab algn="l" pos="9970920"/>
                  <a:tab algn="l" pos="10877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oal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06480"/>
                  <a:tab algn="l" pos="1812960"/>
                  <a:tab algn="l" pos="2719440"/>
                  <a:tab algn="l" pos="3625920"/>
                  <a:tab algn="l" pos="4532400"/>
                  <a:tab algn="l" pos="5438880"/>
                  <a:tab algn="l" pos="6345360"/>
                  <a:tab algn="l" pos="7251840"/>
                  <a:tab algn="l" pos="8158320"/>
                  <a:tab algn="l" pos="9064800"/>
                  <a:tab algn="l" pos="9970920"/>
                  <a:tab algn="l" pos="10877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livery i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06480"/>
                  <a:tab algn="l" pos="1812960"/>
                  <a:tab algn="l" pos="2719440"/>
                  <a:tab algn="l" pos="3625920"/>
                  <a:tab algn="l" pos="4532400"/>
                  <a:tab algn="l" pos="5438880"/>
                  <a:tab algn="l" pos="6345360"/>
                  <a:tab algn="l" pos="7251840"/>
                  <a:tab algn="l" pos="8158320"/>
                  <a:tab algn="l" pos="9064800"/>
                  <a:tab algn="l" pos="9970920"/>
                  <a:tab algn="l" pos="10877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reater tha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06480"/>
                  <a:tab algn="l" pos="1812960"/>
                  <a:tab algn="l" pos="2719440"/>
                  <a:tab algn="l" pos="3625920"/>
                  <a:tab algn="l" pos="4532400"/>
                  <a:tab algn="l" pos="5438880"/>
                  <a:tab algn="l" pos="6345360"/>
                  <a:tab algn="l" pos="7251840"/>
                  <a:tab algn="l" pos="8158320"/>
                  <a:tab algn="l" pos="9064800"/>
                  <a:tab algn="l" pos="9970920"/>
                  <a:tab algn="l" pos="10877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r equal 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06480"/>
                  <a:tab algn="l" pos="1812960"/>
                  <a:tab algn="l" pos="2719440"/>
                  <a:tab algn="l" pos="3625920"/>
                  <a:tab algn="l" pos="4532400"/>
                  <a:tab algn="l" pos="5438880"/>
                  <a:tab algn="l" pos="6345360"/>
                  <a:tab algn="l" pos="7251840"/>
                  <a:tab algn="l" pos="8158320"/>
                  <a:tab algn="l" pos="9064800"/>
                  <a:tab algn="l" pos="9970920"/>
                  <a:tab algn="l" pos="10877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mis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reeform 2"/>
          <p:cNvSpPr/>
          <p:nvPr/>
        </p:nvSpPr>
        <p:spPr>
          <a:xfrm>
            <a:off x="5291280" y="2635200"/>
            <a:ext cx="1614240" cy="2486160"/>
          </a:xfrm>
          <a:custGeom>
            <a:avLst/>
            <a:gdLst/>
            <a:ahLst/>
            <a:rect l="l" t="t" r="r" b="b"/>
            <a:pathLst>
              <a:path w="1017" h="1566">
                <a:moveTo>
                  <a:pt x="0" y="0"/>
                </a:moveTo>
                <a:lnTo>
                  <a:pt x="0" y="1565"/>
                </a:lnTo>
                <a:lnTo>
                  <a:pt x="1016" y="783"/>
                </a:lnTo>
                <a:lnTo>
                  <a:pt x="0" y="0"/>
                </a:lnTo>
              </a:path>
            </a:pathLst>
          </a:custGeom>
          <a:solidFill>
            <a:srgbClr val="fcfeb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3"/>
          <p:cNvSpPr/>
          <p:nvPr/>
        </p:nvSpPr>
        <p:spPr>
          <a:xfrm>
            <a:off x="6400800" y="3032280"/>
            <a:ext cx="2486160" cy="1730160"/>
          </a:xfrm>
          <a:prstGeom prst="diamond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1338120" y="2487600"/>
            <a:ext cx="800280" cy="2766960"/>
          </a:xfrm>
          <a:prstGeom prst="rect">
            <a:avLst/>
          </a:prstGeom>
          <a:solidFill>
            <a:srgbClr val="b3b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228600" y="2487600"/>
            <a:ext cx="1177920" cy="2766960"/>
          </a:xfrm>
          <a:prstGeom prst="rect">
            <a:avLst/>
          </a:prstGeom>
          <a:solidFill>
            <a:srgbClr val="b3b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3032280" y="2484360"/>
            <a:ext cx="930240" cy="276696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2100240" y="2484360"/>
            <a:ext cx="933480" cy="276696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8"/>
          <p:cNvGrpSpPr/>
          <p:nvPr/>
        </p:nvGrpSpPr>
        <p:grpSpPr>
          <a:xfrm>
            <a:off x="3886200" y="1965240"/>
            <a:ext cx="1406160" cy="3826080"/>
            <a:chOff x="3886200" y="1965240"/>
            <a:chExt cx="1406160" cy="3826080"/>
          </a:xfrm>
        </p:grpSpPr>
        <p:sp>
          <p:nvSpPr>
            <p:cNvPr id="224" name="Freeform 9"/>
            <p:cNvSpPr/>
            <p:nvPr/>
          </p:nvSpPr>
          <p:spPr>
            <a:xfrm>
              <a:off x="4578120" y="1965240"/>
              <a:ext cx="714240" cy="3826080"/>
            </a:xfrm>
            <a:custGeom>
              <a:avLst/>
              <a:gdLst/>
              <a:ahLst/>
              <a:rect l="l" t="t" r="r" b="b"/>
              <a:pathLst>
                <a:path w="509" h="2410">
                  <a:moveTo>
                    <a:pt x="508" y="422"/>
                  </a:moveTo>
                  <a:lnTo>
                    <a:pt x="0" y="0"/>
                  </a:lnTo>
                  <a:lnTo>
                    <a:pt x="0" y="2409"/>
                  </a:lnTo>
                  <a:lnTo>
                    <a:pt x="508" y="1987"/>
                  </a:lnTo>
                  <a:lnTo>
                    <a:pt x="508" y="422"/>
                  </a:lnTo>
                </a:path>
              </a:pathLst>
            </a:cu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3886200" y="2484360"/>
              <a:ext cx="703080" cy="2766960"/>
            </a:xfrm>
            <a:prstGeom prst="rect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Rectangle 11"/>
          <p:cNvSpPr/>
          <p:nvPr/>
        </p:nvSpPr>
        <p:spPr>
          <a:xfrm>
            <a:off x="6935040" y="3260880"/>
            <a:ext cx="1408320" cy="11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livery 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eater th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 equal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mi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2"/>
          <p:cNvSpPr/>
          <p:nvPr/>
        </p:nvSpPr>
        <p:spPr>
          <a:xfrm>
            <a:off x="5274360" y="3413160"/>
            <a:ext cx="1287720" cy="7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uarante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3"/>
          <p:cNvSpPr/>
          <p:nvPr/>
        </p:nvSpPr>
        <p:spPr>
          <a:xfrm>
            <a:off x="228600" y="3413160"/>
            <a:ext cx="19162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ff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ic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4"/>
          <p:cNvSpPr/>
          <p:nvPr/>
        </p:nvSpPr>
        <p:spPr>
          <a:xfrm>
            <a:off x="760320" y="2651040"/>
            <a:ext cx="42199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ING SERVICE PROMI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5"/>
          <p:cNvSpPr/>
          <p:nvPr/>
        </p:nvSpPr>
        <p:spPr>
          <a:xfrm>
            <a:off x="3968280" y="3413160"/>
            <a:ext cx="1108080" cy="7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lis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mi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6"/>
          <p:cNvSpPr/>
          <p:nvPr/>
        </p:nvSpPr>
        <p:spPr>
          <a:xfrm>
            <a:off x="2133720" y="3413160"/>
            <a:ext cx="1741320" cy="7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ordin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Approaches for Managing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ervice Promise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ervices Advertising Strategies Matched with Properties of Intangibility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1"/>
          <a:stretch/>
        </p:blipFill>
        <p:spPr>
          <a:xfrm>
            <a:off x="1612800" y="1549440"/>
            <a:ext cx="6367680" cy="478620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4"/>
          <p:cNvSpPr/>
          <p:nvPr/>
        </p:nvSpPr>
        <p:spPr>
          <a:xfrm>
            <a:off x="282600" y="6319800"/>
            <a:ext cx="843768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Adapted from B. Mittal, “The Advertising of Services: Meeting the Challenge of Intangibility,”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Journal of Service Research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, no. 1, August 1999, pp. 98–116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1143000" y="2131920"/>
            <a:ext cx="716292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4211640" y="1311120"/>
            <a:ext cx="103680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4"/>
          <p:cNvSpPr/>
          <p:nvPr/>
        </p:nvSpPr>
        <p:spPr>
          <a:xfrm>
            <a:off x="271440" y="3675240"/>
            <a:ext cx="861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3321000" y="2889360"/>
            <a:ext cx="1308240" cy="465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2954160" y="4724280"/>
            <a:ext cx="235908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546840" y="1981080"/>
            <a:ext cx="124632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2840" rIns="42840" tIns="15840" bIns="15840" anchor="t">
            <a:spAutoFit/>
          </a:bodyPr>
          <a:p>
            <a:pPr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1" lang="en-US" sz="1600" spc="-1" strike="noStrike">
                <a:solidFill>
                  <a:srgbClr val="996633"/>
                </a:solidFill>
                <a:latin typeface="Arial"/>
              </a:rPr>
              <a:t>CUSTO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552960" y="3948120"/>
            <a:ext cx="11228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2840" rIns="42840" tIns="15840" bIns="15840" anchor="t">
            <a:spAutoFit/>
          </a:bodyPr>
          <a:p>
            <a:pPr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1" lang="en-US" sz="1600" spc="-1" strike="noStrike">
                <a:solidFill>
                  <a:srgbClr val="996633"/>
                </a:solidFill>
                <a:latin typeface="Arial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9"/>
          <p:cNvSpPr/>
          <p:nvPr/>
        </p:nvSpPr>
        <p:spPr>
          <a:xfrm>
            <a:off x="1808280" y="2590920"/>
            <a:ext cx="0" cy="3352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0"/>
          <p:cNvSpPr/>
          <p:nvPr/>
        </p:nvSpPr>
        <p:spPr>
          <a:xfrm>
            <a:off x="1808280" y="594360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1"/>
          <p:cNvSpPr/>
          <p:nvPr/>
        </p:nvSpPr>
        <p:spPr>
          <a:xfrm>
            <a:off x="1808280" y="2590920"/>
            <a:ext cx="14335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2"/>
          <p:cNvSpPr/>
          <p:nvPr/>
        </p:nvSpPr>
        <p:spPr>
          <a:xfrm>
            <a:off x="3457440" y="2382840"/>
            <a:ext cx="0" cy="490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3"/>
          <p:cNvSpPr/>
          <p:nvPr/>
        </p:nvSpPr>
        <p:spPr>
          <a:xfrm>
            <a:off x="3255840" y="43434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4"/>
          <p:cNvSpPr/>
          <p:nvPr/>
        </p:nvSpPr>
        <p:spPr>
          <a:xfrm>
            <a:off x="3255840" y="52578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5"/>
          <p:cNvSpPr/>
          <p:nvPr/>
        </p:nvSpPr>
        <p:spPr>
          <a:xfrm flipV="1">
            <a:off x="4094280" y="52578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6"/>
          <p:cNvSpPr/>
          <p:nvPr/>
        </p:nvSpPr>
        <p:spPr>
          <a:xfrm flipH="1" flipV="1">
            <a:off x="4094280" y="4343400"/>
            <a:ext cx="14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7"/>
          <p:cNvSpPr/>
          <p:nvPr/>
        </p:nvSpPr>
        <p:spPr>
          <a:xfrm flipV="1">
            <a:off x="4094280" y="3352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8"/>
          <p:cNvSpPr/>
          <p:nvPr/>
        </p:nvSpPr>
        <p:spPr>
          <a:xfrm>
            <a:off x="6997680" y="3776760"/>
            <a:ext cx="1790640" cy="710280"/>
          </a:xfrm>
          <a:prstGeom prst="rect">
            <a:avLst/>
          </a:prstGeom>
          <a:solidFill>
            <a:srgbClr val="ffff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 algn="ctr">
              <a:lnSpc>
                <a:spcPct val="93000"/>
              </a:lnSpc>
              <a:spcAft>
                <a:spcPts val="938"/>
              </a:spcAft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ternal Communications to Custom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9"/>
          <p:cNvSpPr/>
          <p:nvPr/>
        </p:nvSpPr>
        <p:spPr>
          <a:xfrm flipH="1">
            <a:off x="5346720" y="4037040"/>
            <a:ext cx="1619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0"/>
          <p:cNvSpPr/>
          <p:nvPr/>
        </p:nvSpPr>
        <p:spPr>
          <a:xfrm>
            <a:off x="5345280" y="4124160"/>
            <a:ext cx="1618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 algn="ctr"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1" lang="en-US" sz="1600" spc="-1" strike="noStrike">
                <a:solidFill>
                  <a:srgbClr val="996633"/>
                </a:solidFill>
                <a:latin typeface="Arial"/>
              </a:rPr>
              <a:t>The Communication G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1"/>
          <p:cNvSpPr/>
          <p:nvPr/>
        </p:nvSpPr>
        <p:spPr>
          <a:xfrm>
            <a:off x="5307120" y="5027760"/>
            <a:ext cx="26524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2"/>
          <p:cNvSpPr/>
          <p:nvPr/>
        </p:nvSpPr>
        <p:spPr>
          <a:xfrm flipV="1">
            <a:off x="7950240" y="45720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23"/>
          <p:cNvSpPr/>
          <p:nvPr/>
        </p:nvSpPr>
        <p:spPr>
          <a:xfrm flipV="1">
            <a:off x="7950240" y="2742840"/>
            <a:ext cx="0" cy="1066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4"/>
          <p:cNvSpPr/>
          <p:nvPr/>
        </p:nvSpPr>
        <p:spPr>
          <a:xfrm flipH="1" flipV="1">
            <a:off x="4080960" y="2749320"/>
            <a:ext cx="3878280" cy="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5"/>
          <p:cNvSpPr/>
          <p:nvPr/>
        </p:nvSpPr>
        <p:spPr>
          <a:xfrm flipV="1">
            <a:off x="4094280" y="2377800"/>
            <a:ext cx="0" cy="376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6"/>
          <p:cNvSpPr/>
          <p:nvPr/>
        </p:nvSpPr>
        <p:spPr>
          <a:xfrm flipH="1">
            <a:off x="4635360" y="3200400"/>
            <a:ext cx="3299040" cy="3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vider Gap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28"/>
          <p:cNvSpPr/>
          <p:nvPr/>
        </p:nvSpPr>
        <p:spPr>
          <a:xfrm>
            <a:off x="2951280" y="3787920"/>
            <a:ext cx="2361960" cy="484200"/>
          </a:xfrm>
          <a:prstGeom prst="rect">
            <a:avLst/>
          </a:prstGeom>
          <a:solidFill>
            <a:srgbClr val="ffff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 algn="ctr">
              <a:lnSpc>
                <a:spcPct val="93000"/>
              </a:lnSpc>
              <a:spcAft>
                <a:spcPts val="938"/>
              </a:spcAft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ice              Deli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9"/>
          <p:cNvSpPr/>
          <p:nvPr/>
        </p:nvSpPr>
        <p:spPr>
          <a:xfrm>
            <a:off x="3321000" y="1905120"/>
            <a:ext cx="1308240" cy="465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0"/>
          <p:cNvSpPr/>
          <p:nvPr/>
        </p:nvSpPr>
        <p:spPr>
          <a:xfrm>
            <a:off x="2951280" y="5716440"/>
            <a:ext cx="2357280" cy="532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1"/>
          <p:cNvSpPr/>
          <p:nvPr/>
        </p:nvSpPr>
        <p:spPr>
          <a:xfrm>
            <a:off x="336600" y="6194520"/>
            <a:ext cx="9777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t 6 Open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AutoShape 2"/>
          <p:cNvSpPr/>
          <p:nvPr/>
        </p:nvSpPr>
        <p:spPr>
          <a:xfrm>
            <a:off x="3200400" y="5029200"/>
            <a:ext cx="2486160" cy="1752480"/>
          </a:xfrm>
          <a:prstGeom prst="diamond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3"/>
          <p:cNvSpPr/>
          <p:nvPr/>
        </p:nvSpPr>
        <p:spPr>
          <a:xfrm>
            <a:off x="2962440" y="4238640"/>
            <a:ext cx="3054240" cy="1095480"/>
          </a:xfrm>
          <a:custGeom>
            <a:avLst/>
            <a:gdLst/>
            <a:ahLst/>
            <a:rect l="l" t="t" r="r" b="b"/>
            <a:pathLst>
              <a:path w="1925" h="608">
                <a:moveTo>
                  <a:pt x="1924" y="0"/>
                </a:moveTo>
                <a:lnTo>
                  <a:pt x="0" y="0"/>
                </a:lnTo>
                <a:lnTo>
                  <a:pt x="964" y="607"/>
                </a:lnTo>
                <a:lnTo>
                  <a:pt x="1924" y="0"/>
                </a:lnTo>
              </a:path>
            </a:pathLst>
          </a:custGeom>
          <a:solidFill>
            <a:srgbClr val="ffccff"/>
          </a:solidFill>
          <a:ln cap="rnd" w="12600">
            <a:solidFill>
              <a:srgbClr val="f766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2798640" y="1892160"/>
            <a:ext cx="3402000" cy="5367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2798640" y="1522440"/>
            <a:ext cx="3402000" cy="3715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2800440" y="2808360"/>
            <a:ext cx="3400200" cy="476280"/>
          </a:xfrm>
          <a:prstGeom prst="rect">
            <a:avLst/>
          </a:prstGeom>
          <a:solidFill>
            <a:srgbClr val="fda4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2800440" y="2347920"/>
            <a:ext cx="3402000" cy="480960"/>
          </a:xfrm>
          <a:prstGeom prst="rect">
            <a:avLst/>
          </a:prstGeom>
          <a:solidFill>
            <a:srgbClr val="fda4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8"/>
          <p:cNvGrpSpPr/>
          <p:nvPr/>
        </p:nvGrpSpPr>
        <p:grpSpPr>
          <a:xfrm>
            <a:off x="2141640" y="3284640"/>
            <a:ext cx="4697280" cy="955080"/>
            <a:chOff x="2141640" y="3284640"/>
            <a:chExt cx="4697280" cy="955080"/>
          </a:xfrm>
        </p:grpSpPr>
        <p:sp>
          <p:nvSpPr>
            <p:cNvPr id="243" name="Freeform 9"/>
            <p:cNvSpPr/>
            <p:nvPr/>
          </p:nvSpPr>
          <p:spPr>
            <a:xfrm>
              <a:off x="2141640" y="3754440"/>
              <a:ext cx="4697280" cy="485280"/>
            </a:xfrm>
            <a:custGeom>
              <a:avLst/>
              <a:gdLst/>
              <a:ahLst/>
              <a:rect l="l" t="t" r="r" b="b"/>
              <a:pathLst>
                <a:path w="2959" h="306">
                  <a:moveTo>
                    <a:pt x="2440" y="305"/>
                  </a:moveTo>
                  <a:lnTo>
                    <a:pt x="2958" y="0"/>
                  </a:lnTo>
                  <a:lnTo>
                    <a:pt x="0" y="0"/>
                  </a:lnTo>
                  <a:lnTo>
                    <a:pt x="516" y="305"/>
                  </a:lnTo>
                  <a:lnTo>
                    <a:pt x="2440" y="305"/>
                  </a:lnTo>
                </a:path>
              </a:pathLst>
            </a:custGeom>
            <a:solidFill>
              <a:srgbClr val="ffc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10"/>
            <p:cNvSpPr/>
            <p:nvPr/>
          </p:nvSpPr>
          <p:spPr>
            <a:xfrm>
              <a:off x="2800440" y="3284640"/>
              <a:ext cx="3400200" cy="477720"/>
            </a:xfrm>
            <a:prstGeom prst="rect">
              <a:avLst/>
            </a:prstGeom>
            <a:solidFill>
              <a:srgbClr val="ffc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Rectangle 11"/>
          <p:cNvSpPr/>
          <p:nvPr/>
        </p:nvSpPr>
        <p:spPr>
          <a:xfrm>
            <a:off x="3119760" y="3430440"/>
            <a:ext cx="275688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e criteria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 effectiv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2"/>
          <p:cNvSpPr/>
          <p:nvPr/>
        </p:nvSpPr>
        <p:spPr>
          <a:xfrm>
            <a:off x="3481560" y="2496960"/>
            <a:ext cx="214596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iered-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er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3785760" y="4191120"/>
            <a:ext cx="142200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egotiat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nrealisti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pecta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4"/>
          <p:cNvSpPr/>
          <p:nvPr/>
        </p:nvSpPr>
        <p:spPr>
          <a:xfrm>
            <a:off x="3736080" y="5257800"/>
            <a:ext cx="1408320" cy="11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livery 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eater th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 equal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mi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5"/>
          <p:cNvSpPr/>
          <p:nvPr/>
        </p:nvSpPr>
        <p:spPr>
          <a:xfrm>
            <a:off x="2971800" y="1733400"/>
            <a:ext cx="3048120" cy="3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er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Approaches for Managing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ustomer Expectation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5562720" y="2563920"/>
            <a:ext cx="830160" cy="2971800"/>
          </a:xfrm>
          <a:prstGeom prst="rect">
            <a:avLst/>
          </a:prstGeom>
          <a:solidFill>
            <a:srgbClr val="73f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6392880" y="2563920"/>
            <a:ext cx="834840" cy="2970000"/>
          </a:xfrm>
          <a:prstGeom prst="rect">
            <a:avLst/>
          </a:prstGeom>
          <a:solidFill>
            <a:srgbClr val="73f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4"/>
          <p:cNvGrpSpPr/>
          <p:nvPr/>
        </p:nvGrpSpPr>
        <p:grpSpPr>
          <a:xfrm>
            <a:off x="3755880" y="1981080"/>
            <a:ext cx="1806480" cy="4114440"/>
            <a:chOff x="3755880" y="1981080"/>
            <a:chExt cx="1806480" cy="4114440"/>
          </a:xfrm>
        </p:grpSpPr>
        <p:sp>
          <p:nvSpPr>
            <p:cNvPr id="254" name="Freeform 5"/>
            <p:cNvSpPr/>
            <p:nvPr/>
          </p:nvSpPr>
          <p:spPr>
            <a:xfrm>
              <a:off x="3755880" y="1981080"/>
              <a:ext cx="917280" cy="4114440"/>
            </a:xfrm>
            <a:custGeom>
              <a:avLst/>
              <a:gdLst/>
              <a:ahLst/>
              <a:rect l="l" t="t" r="r" b="b"/>
              <a:pathLst>
                <a:path w="391" h="2574">
                  <a:moveTo>
                    <a:pt x="0" y="2124"/>
                  </a:moveTo>
                  <a:lnTo>
                    <a:pt x="390" y="2573"/>
                  </a:lnTo>
                  <a:lnTo>
                    <a:pt x="390" y="0"/>
                  </a:lnTo>
                  <a:lnTo>
                    <a:pt x="0" y="451"/>
                  </a:lnTo>
                  <a:lnTo>
                    <a:pt x="0" y="2124"/>
                  </a:lnTo>
                </a:path>
              </a:pathLst>
            </a:custGeom>
            <a:solidFill>
              <a:srgbClr val="a3f2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6"/>
            <p:cNvSpPr/>
            <p:nvPr/>
          </p:nvSpPr>
          <p:spPr>
            <a:xfrm>
              <a:off x="4658760" y="2561040"/>
              <a:ext cx="903600" cy="2975040"/>
            </a:xfrm>
            <a:prstGeom prst="rect">
              <a:avLst/>
            </a:prstGeom>
            <a:solidFill>
              <a:srgbClr val="a3f2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Rectangle 7"/>
          <p:cNvSpPr/>
          <p:nvPr/>
        </p:nvSpPr>
        <p:spPr>
          <a:xfrm>
            <a:off x="7130880" y="2563920"/>
            <a:ext cx="1752840" cy="297000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8"/>
          <p:cNvSpPr/>
          <p:nvPr/>
        </p:nvSpPr>
        <p:spPr>
          <a:xfrm>
            <a:off x="290520" y="3251160"/>
            <a:ext cx="2486160" cy="1730520"/>
          </a:xfrm>
          <a:prstGeom prst="diamond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9"/>
          <p:cNvSpPr/>
          <p:nvPr/>
        </p:nvSpPr>
        <p:spPr>
          <a:xfrm>
            <a:off x="839160" y="3429000"/>
            <a:ext cx="1408320" cy="11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livery 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eater th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 equal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mi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10"/>
          <p:cNvSpPr/>
          <p:nvPr/>
        </p:nvSpPr>
        <p:spPr>
          <a:xfrm>
            <a:off x="2316240" y="2590920"/>
            <a:ext cx="1557360" cy="2895480"/>
          </a:xfrm>
          <a:custGeom>
            <a:avLst/>
            <a:gdLst/>
            <a:ahLst/>
            <a:rect l="l" t="t" r="r" b="b"/>
            <a:pathLst>
              <a:path w="902" h="1673">
                <a:moveTo>
                  <a:pt x="901" y="1672"/>
                </a:moveTo>
                <a:lnTo>
                  <a:pt x="901" y="0"/>
                </a:lnTo>
                <a:lnTo>
                  <a:pt x="0" y="835"/>
                </a:lnTo>
                <a:lnTo>
                  <a:pt x="901" y="1672"/>
                </a:lnTo>
              </a:path>
            </a:pathLst>
          </a:cu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1"/>
          <p:cNvSpPr/>
          <p:nvPr/>
        </p:nvSpPr>
        <p:spPr>
          <a:xfrm>
            <a:off x="2792520" y="3417840"/>
            <a:ext cx="1293840" cy="11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pare custome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service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2"/>
          <p:cNvSpPr/>
          <p:nvPr/>
        </p:nvSpPr>
        <p:spPr>
          <a:xfrm>
            <a:off x="5638680" y="3409920"/>
            <a:ext cx="1524240" cy="7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rif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ec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fter the s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3"/>
          <p:cNvSpPr/>
          <p:nvPr/>
        </p:nvSpPr>
        <p:spPr>
          <a:xfrm>
            <a:off x="7189920" y="3409920"/>
            <a:ext cx="1730160" cy="14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ch customers to avoid peak demand periods and seek slow peri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4"/>
          <p:cNvSpPr/>
          <p:nvPr/>
        </p:nvSpPr>
        <p:spPr>
          <a:xfrm>
            <a:off x="4075200" y="3417840"/>
            <a:ext cx="1373040" cy="7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rm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standa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Approaches for Improving Customer Education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reeform 2"/>
          <p:cNvSpPr/>
          <p:nvPr/>
        </p:nvSpPr>
        <p:spPr>
          <a:xfrm>
            <a:off x="3068640" y="2671920"/>
            <a:ext cx="2973240" cy="1412640"/>
          </a:xfrm>
          <a:custGeom>
            <a:avLst/>
            <a:gdLst/>
            <a:ahLst/>
            <a:rect l="l" t="t" r="r" b="b"/>
            <a:pathLst>
              <a:path w="1665" h="635">
                <a:moveTo>
                  <a:pt x="0" y="634"/>
                </a:moveTo>
                <a:lnTo>
                  <a:pt x="1664" y="634"/>
                </a:lnTo>
                <a:lnTo>
                  <a:pt x="832" y="0"/>
                </a:lnTo>
                <a:lnTo>
                  <a:pt x="0" y="634"/>
                </a:lnTo>
              </a:path>
            </a:pathLst>
          </a:custGeom>
          <a:solidFill>
            <a:srgbClr val="e3b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3"/>
          <p:cNvSpPr/>
          <p:nvPr/>
        </p:nvSpPr>
        <p:spPr>
          <a:xfrm>
            <a:off x="3352680" y="1447920"/>
            <a:ext cx="2486160" cy="1652400"/>
          </a:xfrm>
          <a:prstGeom prst="diamond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3079800" y="5813280"/>
            <a:ext cx="2917800" cy="487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3076560" y="6272280"/>
            <a:ext cx="2921040" cy="430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6"/>
          <p:cNvGrpSpPr/>
          <p:nvPr/>
        </p:nvGrpSpPr>
        <p:grpSpPr>
          <a:xfrm>
            <a:off x="2536920" y="3908520"/>
            <a:ext cx="4022640" cy="1242360"/>
            <a:chOff x="2536920" y="3908520"/>
            <a:chExt cx="4022640" cy="1242360"/>
          </a:xfrm>
        </p:grpSpPr>
        <p:sp>
          <p:nvSpPr>
            <p:cNvPr id="270" name="Freeform 7"/>
            <p:cNvSpPr/>
            <p:nvPr/>
          </p:nvSpPr>
          <p:spPr>
            <a:xfrm>
              <a:off x="2536920" y="3908520"/>
              <a:ext cx="4022640" cy="632520"/>
            </a:xfrm>
            <a:custGeom>
              <a:avLst/>
              <a:gdLst/>
              <a:ahLst/>
              <a:rect l="l" t="t" r="r" b="b"/>
              <a:pathLst>
                <a:path w="2561" h="320">
                  <a:moveTo>
                    <a:pt x="448" y="0"/>
                  </a:moveTo>
                  <a:lnTo>
                    <a:pt x="0" y="319"/>
                  </a:lnTo>
                  <a:lnTo>
                    <a:pt x="2560" y="319"/>
                  </a:lnTo>
                  <a:lnTo>
                    <a:pt x="2112" y="0"/>
                  </a:lnTo>
                  <a:lnTo>
                    <a:pt x="448" y="0"/>
                  </a:lnTo>
                </a:path>
              </a:pathLst>
            </a:custGeom>
            <a:solidFill>
              <a:srgbClr val="d4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8"/>
            <p:cNvSpPr/>
            <p:nvPr/>
          </p:nvSpPr>
          <p:spPr>
            <a:xfrm>
              <a:off x="3081960" y="4528800"/>
              <a:ext cx="2913480" cy="622080"/>
            </a:xfrm>
            <a:prstGeom prst="rect">
              <a:avLst/>
            </a:prstGeom>
            <a:solidFill>
              <a:srgbClr val="d4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Rectangle 9"/>
          <p:cNvSpPr/>
          <p:nvPr/>
        </p:nvSpPr>
        <p:spPr>
          <a:xfrm>
            <a:off x="3886920" y="1600200"/>
            <a:ext cx="1408320" cy="11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livery 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eater th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 equal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mi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0"/>
          <p:cNvSpPr/>
          <p:nvPr/>
        </p:nvSpPr>
        <p:spPr>
          <a:xfrm>
            <a:off x="3386160" y="3124080"/>
            <a:ext cx="2362320" cy="7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fective vert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11"/>
          <p:cNvGrpSpPr/>
          <p:nvPr/>
        </p:nvGrpSpPr>
        <p:grpSpPr>
          <a:xfrm>
            <a:off x="3081240" y="4902120"/>
            <a:ext cx="2917440" cy="929880"/>
            <a:chOff x="3081240" y="4902120"/>
            <a:chExt cx="2917440" cy="929880"/>
          </a:xfrm>
        </p:grpSpPr>
        <p:sp>
          <p:nvSpPr>
            <p:cNvPr id="275" name="Rectangle 12"/>
            <p:cNvSpPr/>
            <p:nvPr/>
          </p:nvSpPr>
          <p:spPr>
            <a:xfrm>
              <a:off x="3081240" y="4902120"/>
              <a:ext cx="2916000" cy="464760"/>
            </a:xfrm>
            <a:prstGeom prst="rect">
              <a:avLst/>
            </a:pr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13"/>
            <p:cNvSpPr/>
            <p:nvPr/>
          </p:nvSpPr>
          <p:spPr>
            <a:xfrm>
              <a:off x="3081240" y="5365080"/>
              <a:ext cx="2917440" cy="466920"/>
            </a:xfrm>
            <a:prstGeom prst="rect">
              <a:avLst/>
            </a:prstGeom>
            <a:solidFill>
              <a:srgbClr val="ea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Rectangle 14"/>
          <p:cNvSpPr/>
          <p:nvPr/>
        </p:nvSpPr>
        <p:spPr>
          <a:xfrm>
            <a:off x="3298680" y="4976640"/>
            <a:ext cx="2513160" cy="7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ign back-office personnel wi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rnal custom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5"/>
          <p:cNvSpPr/>
          <p:nvPr/>
        </p:nvSpPr>
        <p:spPr>
          <a:xfrm>
            <a:off x="3068640" y="4008600"/>
            <a:ext cx="3048120" cy="7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fective horizon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6"/>
          <p:cNvSpPr/>
          <p:nvPr/>
        </p:nvSpPr>
        <p:spPr>
          <a:xfrm>
            <a:off x="3144960" y="5891040"/>
            <a:ext cx="2820960" cy="7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func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proaches for Managing Internal Marketing Communic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Pricing and ser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Pricing of Service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59984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00160" indent="-200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00160" indent="-200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 three major ways that service prices are perceived differently from goods prices by custom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20920" indent="-209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00160" indent="-200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ticulate the key ways that pricing of services differs from pricing of goods from a company’s perspec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20920" indent="-209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Overview (cont.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monstrate what value means to customers and the role that price plays in val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 strategies that companies use to price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3 key differ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8360" y="1052280"/>
            <a:ext cx="822960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libri"/>
              </a:rPr>
              <a:t>Customer knowledge of service pric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Service variability limits knowled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Providers are unwilling to estimate pri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Individual customer needs v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Collection of price information is overwhel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Prices are not visi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libri"/>
              </a:rPr>
              <a:t>Role of non-monetary cost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Time co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Search co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Convenience co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Psychological co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libri"/>
              </a:rPr>
              <a:t>Price as an indicator of service qua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116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Three Basic Marketing Price Structures and 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Challenges Associated with Their Use for Servic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reeform 3"/>
          <p:cNvSpPr/>
          <p:nvPr/>
        </p:nvSpPr>
        <p:spPr>
          <a:xfrm>
            <a:off x="4073400" y="1752480"/>
            <a:ext cx="2119320" cy="2616480"/>
          </a:xfrm>
          <a:custGeom>
            <a:avLst/>
            <a:gdLst/>
            <a:ahLst/>
            <a:rect l="l" t="t" r="r" b="b"/>
            <a:pathLst>
              <a:path w="1336" h="3295">
                <a:moveTo>
                  <a:pt x="509" y="433"/>
                </a:moveTo>
                <a:lnTo>
                  <a:pt x="527" y="439"/>
                </a:lnTo>
                <a:lnTo>
                  <a:pt x="552" y="447"/>
                </a:lnTo>
                <a:lnTo>
                  <a:pt x="576" y="459"/>
                </a:lnTo>
                <a:lnTo>
                  <a:pt x="593" y="466"/>
                </a:lnTo>
                <a:lnTo>
                  <a:pt x="614" y="476"/>
                </a:lnTo>
                <a:lnTo>
                  <a:pt x="633" y="488"/>
                </a:lnTo>
                <a:lnTo>
                  <a:pt x="653" y="500"/>
                </a:lnTo>
                <a:lnTo>
                  <a:pt x="672" y="510"/>
                </a:lnTo>
                <a:lnTo>
                  <a:pt x="693" y="526"/>
                </a:lnTo>
                <a:lnTo>
                  <a:pt x="717" y="546"/>
                </a:lnTo>
                <a:lnTo>
                  <a:pt x="739" y="562"/>
                </a:lnTo>
                <a:lnTo>
                  <a:pt x="759" y="580"/>
                </a:lnTo>
                <a:lnTo>
                  <a:pt x="782" y="600"/>
                </a:lnTo>
                <a:lnTo>
                  <a:pt x="805" y="622"/>
                </a:lnTo>
                <a:lnTo>
                  <a:pt x="825" y="642"/>
                </a:lnTo>
                <a:lnTo>
                  <a:pt x="844" y="666"/>
                </a:lnTo>
                <a:lnTo>
                  <a:pt x="862" y="686"/>
                </a:lnTo>
                <a:lnTo>
                  <a:pt x="879" y="710"/>
                </a:lnTo>
                <a:lnTo>
                  <a:pt x="898" y="732"/>
                </a:lnTo>
                <a:lnTo>
                  <a:pt x="920" y="762"/>
                </a:lnTo>
                <a:lnTo>
                  <a:pt x="939" y="789"/>
                </a:lnTo>
                <a:lnTo>
                  <a:pt x="957" y="817"/>
                </a:lnTo>
                <a:lnTo>
                  <a:pt x="974" y="841"/>
                </a:lnTo>
                <a:lnTo>
                  <a:pt x="1002" y="887"/>
                </a:lnTo>
                <a:lnTo>
                  <a:pt x="1030" y="939"/>
                </a:lnTo>
                <a:lnTo>
                  <a:pt x="1053" y="979"/>
                </a:lnTo>
                <a:lnTo>
                  <a:pt x="1079" y="1037"/>
                </a:lnTo>
                <a:lnTo>
                  <a:pt x="1097" y="1078"/>
                </a:lnTo>
                <a:lnTo>
                  <a:pt x="1118" y="1126"/>
                </a:lnTo>
                <a:lnTo>
                  <a:pt x="1140" y="1180"/>
                </a:lnTo>
                <a:lnTo>
                  <a:pt x="1158" y="1232"/>
                </a:lnTo>
                <a:lnTo>
                  <a:pt x="1177" y="1290"/>
                </a:lnTo>
                <a:lnTo>
                  <a:pt x="1196" y="1346"/>
                </a:lnTo>
                <a:lnTo>
                  <a:pt x="1212" y="1405"/>
                </a:lnTo>
                <a:lnTo>
                  <a:pt x="1229" y="1457"/>
                </a:lnTo>
                <a:lnTo>
                  <a:pt x="1244" y="1521"/>
                </a:lnTo>
                <a:lnTo>
                  <a:pt x="1258" y="1583"/>
                </a:lnTo>
                <a:lnTo>
                  <a:pt x="1270" y="1647"/>
                </a:lnTo>
                <a:lnTo>
                  <a:pt x="1282" y="1716"/>
                </a:lnTo>
                <a:lnTo>
                  <a:pt x="1298" y="1802"/>
                </a:lnTo>
                <a:lnTo>
                  <a:pt x="1308" y="1882"/>
                </a:lnTo>
                <a:lnTo>
                  <a:pt x="1318" y="1964"/>
                </a:lnTo>
                <a:lnTo>
                  <a:pt x="1323" y="2043"/>
                </a:lnTo>
                <a:lnTo>
                  <a:pt x="1330" y="2137"/>
                </a:lnTo>
                <a:lnTo>
                  <a:pt x="1335" y="2255"/>
                </a:lnTo>
                <a:lnTo>
                  <a:pt x="1336" y="2344"/>
                </a:lnTo>
                <a:lnTo>
                  <a:pt x="1335" y="2434"/>
                </a:lnTo>
                <a:lnTo>
                  <a:pt x="1331" y="2518"/>
                </a:lnTo>
                <a:lnTo>
                  <a:pt x="1326" y="2597"/>
                </a:lnTo>
                <a:lnTo>
                  <a:pt x="1321" y="2681"/>
                </a:lnTo>
                <a:lnTo>
                  <a:pt x="1312" y="2767"/>
                </a:lnTo>
                <a:lnTo>
                  <a:pt x="1300" y="2859"/>
                </a:lnTo>
                <a:lnTo>
                  <a:pt x="1284" y="2954"/>
                </a:lnTo>
                <a:lnTo>
                  <a:pt x="1269" y="3042"/>
                </a:lnTo>
                <a:lnTo>
                  <a:pt x="1252" y="3128"/>
                </a:lnTo>
                <a:lnTo>
                  <a:pt x="1226" y="3211"/>
                </a:lnTo>
                <a:lnTo>
                  <a:pt x="1201" y="3295"/>
                </a:lnTo>
                <a:lnTo>
                  <a:pt x="808" y="2849"/>
                </a:lnTo>
                <a:lnTo>
                  <a:pt x="829" y="2765"/>
                </a:lnTo>
                <a:lnTo>
                  <a:pt x="843" y="2701"/>
                </a:lnTo>
                <a:lnTo>
                  <a:pt x="854" y="2631"/>
                </a:lnTo>
                <a:lnTo>
                  <a:pt x="863" y="2564"/>
                </a:lnTo>
                <a:lnTo>
                  <a:pt x="869" y="2502"/>
                </a:lnTo>
                <a:lnTo>
                  <a:pt x="871" y="2440"/>
                </a:lnTo>
                <a:lnTo>
                  <a:pt x="874" y="2380"/>
                </a:lnTo>
                <a:lnTo>
                  <a:pt x="874" y="2316"/>
                </a:lnTo>
                <a:lnTo>
                  <a:pt x="872" y="2243"/>
                </a:lnTo>
                <a:lnTo>
                  <a:pt x="867" y="2171"/>
                </a:lnTo>
                <a:lnTo>
                  <a:pt x="860" y="2091"/>
                </a:lnTo>
                <a:lnTo>
                  <a:pt x="851" y="2027"/>
                </a:lnTo>
                <a:lnTo>
                  <a:pt x="836" y="1956"/>
                </a:lnTo>
                <a:lnTo>
                  <a:pt x="823" y="1894"/>
                </a:lnTo>
                <a:lnTo>
                  <a:pt x="807" y="1834"/>
                </a:lnTo>
                <a:lnTo>
                  <a:pt x="793" y="1788"/>
                </a:lnTo>
                <a:lnTo>
                  <a:pt x="778" y="1750"/>
                </a:lnTo>
                <a:lnTo>
                  <a:pt x="764" y="1712"/>
                </a:lnTo>
                <a:lnTo>
                  <a:pt x="748" y="1675"/>
                </a:lnTo>
                <a:lnTo>
                  <a:pt x="730" y="1635"/>
                </a:lnTo>
                <a:lnTo>
                  <a:pt x="714" y="1607"/>
                </a:lnTo>
                <a:lnTo>
                  <a:pt x="697" y="1573"/>
                </a:lnTo>
                <a:lnTo>
                  <a:pt x="680" y="1543"/>
                </a:lnTo>
                <a:lnTo>
                  <a:pt x="659" y="1513"/>
                </a:lnTo>
                <a:lnTo>
                  <a:pt x="635" y="1483"/>
                </a:lnTo>
                <a:lnTo>
                  <a:pt x="615" y="1455"/>
                </a:lnTo>
                <a:lnTo>
                  <a:pt x="598" y="1437"/>
                </a:lnTo>
                <a:lnTo>
                  <a:pt x="572" y="1407"/>
                </a:lnTo>
                <a:lnTo>
                  <a:pt x="550" y="1391"/>
                </a:lnTo>
                <a:lnTo>
                  <a:pt x="530" y="1377"/>
                </a:lnTo>
                <a:lnTo>
                  <a:pt x="510" y="1364"/>
                </a:lnTo>
                <a:lnTo>
                  <a:pt x="480" y="1350"/>
                </a:lnTo>
                <a:lnTo>
                  <a:pt x="451" y="1340"/>
                </a:lnTo>
                <a:lnTo>
                  <a:pt x="422" y="1334"/>
                </a:lnTo>
                <a:lnTo>
                  <a:pt x="392" y="1330"/>
                </a:lnTo>
                <a:lnTo>
                  <a:pt x="376" y="1328"/>
                </a:lnTo>
                <a:lnTo>
                  <a:pt x="376" y="1808"/>
                </a:lnTo>
                <a:lnTo>
                  <a:pt x="0" y="917"/>
                </a:lnTo>
                <a:lnTo>
                  <a:pt x="375" y="0"/>
                </a:lnTo>
                <a:lnTo>
                  <a:pt x="375" y="413"/>
                </a:lnTo>
                <a:lnTo>
                  <a:pt x="395" y="415"/>
                </a:lnTo>
                <a:lnTo>
                  <a:pt x="425" y="417"/>
                </a:lnTo>
                <a:lnTo>
                  <a:pt x="455" y="421"/>
                </a:lnTo>
                <a:lnTo>
                  <a:pt x="485" y="427"/>
                </a:lnTo>
                <a:lnTo>
                  <a:pt x="509" y="43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4"/>
          <p:cNvSpPr/>
          <p:nvPr/>
        </p:nvSpPr>
        <p:spPr>
          <a:xfrm>
            <a:off x="3456000" y="3676680"/>
            <a:ext cx="2814480" cy="1452600"/>
          </a:xfrm>
          <a:custGeom>
            <a:avLst/>
            <a:gdLst/>
            <a:ahLst/>
            <a:rect l="l" t="t" r="r" b="b"/>
            <a:pathLst>
              <a:path w="1773" h="1830">
                <a:moveTo>
                  <a:pt x="891" y="1808"/>
                </a:moveTo>
                <a:lnTo>
                  <a:pt x="909" y="1802"/>
                </a:lnTo>
                <a:lnTo>
                  <a:pt x="934" y="1794"/>
                </a:lnTo>
                <a:lnTo>
                  <a:pt x="958" y="1784"/>
                </a:lnTo>
                <a:lnTo>
                  <a:pt x="975" y="1776"/>
                </a:lnTo>
                <a:lnTo>
                  <a:pt x="996" y="1766"/>
                </a:lnTo>
                <a:lnTo>
                  <a:pt x="1016" y="1754"/>
                </a:lnTo>
                <a:lnTo>
                  <a:pt x="1036" y="1744"/>
                </a:lnTo>
                <a:lnTo>
                  <a:pt x="1055" y="1732"/>
                </a:lnTo>
                <a:lnTo>
                  <a:pt x="1075" y="1716"/>
                </a:lnTo>
                <a:lnTo>
                  <a:pt x="1100" y="1698"/>
                </a:lnTo>
                <a:lnTo>
                  <a:pt x="1122" y="1681"/>
                </a:lnTo>
                <a:lnTo>
                  <a:pt x="1142" y="1663"/>
                </a:lnTo>
                <a:lnTo>
                  <a:pt x="1165" y="1643"/>
                </a:lnTo>
                <a:lnTo>
                  <a:pt x="1188" y="1621"/>
                </a:lnTo>
                <a:lnTo>
                  <a:pt x="1208" y="1601"/>
                </a:lnTo>
                <a:lnTo>
                  <a:pt x="1226" y="1577"/>
                </a:lnTo>
                <a:lnTo>
                  <a:pt x="1244" y="1557"/>
                </a:lnTo>
                <a:lnTo>
                  <a:pt x="1261" y="1533"/>
                </a:lnTo>
                <a:lnTo>
                  <a:pt x="1280" y="1511"/>
                </a:lnTo>
                <a:lnTo>
                  <a:pt x="1302" y="1483"/>
                </a:lnTo>
                <a:lnTo>
                  <a:pt x="1321" y="1455"/>
                </a:lnTo>
                <a:lnTo>
                  <a:pt x="1339" y="1427"/>
                </a:lnTo>
                <a:lnTo>
                  <a:pt x="1355" y="1403"/>
                </a:lnTo>
                <a:lnTo>
                  <a:pt x="1384" y="1360"/>
                </a:lnTo>
                <a:lnTo>
                  <a:pt x="1409" y="1316"/>
                </a:lnTo>
                <a:lnTo>
                  <a:pt x="1435" y="1266"/>
                </a:lnTo>
                <a:lnTo>
                  <a:pt x="1461" y="1208"/>
                </a:lnTo>
                <a:lnTo>
                  <a:pt x="1479" y="1166"/>
                </a:lnTo>
                <a:lnTo>
                  <a:pt x="1500" y="1118"/>
                </a:lnTo>
                <a:lnTo>
                  <a:pt x="1522" y="1067"/>
                </a:lnTo>
                <a:lnTo>
                  <a:pt x="1541" y="1015"/>
                </a:lnTo>
                <a:lnTo>
                  <a:pt x="1560" y="959"/>
                </a:lnTo>
                <a:lnTo>
                  <a:pt x="1582" y="895"/>
                </a:lnTo>
                <a:lnTo>
                  <a:pt x="1773" y="1114"/>
                </a:lnTo>
                <a:lnTo>
                  <a:pt x="1586" y="0"/>
                </a:lnTo>
                <a:lnTo>
                  <a:pt x="979" y="211"/>
                </a:lnTo>
                <a:lnTo>
                  <a:pt x="1184" y="439"/>
                </a:lnTo>
                <a:lnTo>
                  <a:pt x="1166" y="486"/>
                </a:lnTo>
                <a:lnTo>
                  <a:pt x="1148" y="528"/>
                </a:lnTo>
                <a:lnTo>
                  <a:pt x="1130" y="570"/>
                </a:lnTo>
                <a:lnTo>
                  <a:pt x="1112" y="610"/>
                </a:lnTo>
                <a:lnTo>
                  <a:pt x="1096" y="640"/>
                </a:lnTo>
                <a:lnTo>
                  <a:pt x="1080" y="674"/>
                </a:lnTo>
                <a:lnTo>
                  <a:pt x="1062" y="702"/>
                </a:lnTo>
                <a:lnTo>
                  <a:pt x="1041" y="732"/>
                </a:lnTo>
                <a:lnTo>
                  <a:pt x="1017" y="764"/>
                </a:lnTo>
                <a:lnTo>
                  <a:pt x="997" y="789"/>
                </a:lnTo>
                <a:lnTo>
                  <a:pt x="979" y="809"/>
                </a:lnTo>
                <a:lnTo>
                  <a:pt x="954" y="837"/>
                </a:lnTo>
                <a:lnTo>
                  <a:pt x="932" y="855"/>
                </a:lnTo>
                <a:lnTo>
                  <a:pt x="912" y="867"/>
                </a:lnTo>
                <a:lnTo>
                  <a:pt x="892" y="881"/>
                </a:lnTo>
                <a:lnTo>
                  <a:pt x="863" y="897"/>
                </a:lnTo>
                <a:lnTo>
                  <a:pt x="833" y="905"/>
                </a:lnTo>
                <a:lnTo>
                  <a:pt x="804" y="911"/>
                </a:lnTo>
                <a:lnTo>
                  <a:pt x="760" y="915"/>
                </a:lnTo>
                <a:lnTo>
                  <a:pt x="703" y="917"/>
                </a:lnTo>
                <a:lnTo>
                  <a:pt x="659" y="905"/>
                </a:lnTo>
                <a:lnTo>
                  <a:pt x="620" y="887"/>
                </a:lnTo>
                <a:lnTo>
                  <a:pt x="574" y="861"/>
                </a:lnTo>
                <a:lnTo>
                  <a:pt x="533" y="827"/>
                </a:lnTo>
                <a:lnTo>
                  <a:pt x="493" y="787"/>
                </a:lnTo>
                <a:lnTo>
                  <a:pt x="456" y="742"/>
                </a:lnTo>
                <a:lnTo>
                  <a:pt x="421" y="680"/>
                </a:lnTo>
                <a:lnTo>
                  <a:pt x="0" y="1156"/>
                </a:lnTo>
                <a:lnTo>
                  <a:pt x="17" y="1196"/>
                </a:lnTo>
                <a:lnTo>
                  <a:pt x="42" y="1242"/>
                </a:lnTo>
                <a:lnTo>
                  <a:pt x="62" y="1282"/>
                </a:lnTo>
                <a:lnTo>
                  <a:pt x="82" y="1320"/>
                </a:lnTo>
                <a:lnTo>
                  <a:pt x="102" y="1358"/>
                </a:lnTo>
                <a:lnTo>
                  <a:pt x="127" y="1397"/>
                </a:lnTo>
                <a:lnTo>
                  <a:pt x="149" y="1431"/>
                </a:lnTo>
                <a:lnTo>
                  <a:pt x="172" y="1463"/>
                </a:lnTo>
                <a:lnTo>
                  <a:pt x="197" y="1495"/>
                </a:lnTo>
                <a:lnTo>
                  <a:pt x="221" y="1529"/>
                </a:lnTo>
                <a:lnTo>
                  <a:pt x="247" y="1561"/>
                </a:lnTo>
                <a:lnTo>
                  <a:pt x="270" y="1587"/>
                </a:lnTo>
                <a:lnTo>
                  <a:pt x="294" y="1613"/>
                </a:lnTo>
                <a:lnTo>
                  <a:pt x="316" y="1635"/>
                </a:lnTo>
                <a:lnTo>
                  <a:pt x="346" y="1663"/>
                </a:lnTo>
                <a:lnTo>
                  <a:pt x="375" y="1686"/>
                </a:lnTo>
                <a:lnTo>
                  <a:pt x="407" y="1710"/>
                </a:lnTo>
                <a:lnTo>
                  <a:pt x="432" y="1728"/>
                </a:lnTo>
                <a:lnTo>
                  <a:pt x="455" y="1746"/>
                </a:lnTo>
                <a:lnTo>
                  <a:pt x="483" y="1762"/>
                </a:lnTo>
                <a:lnTo>
                  <a:pt x="509" y="1776"/>
                </a:lnTo>
                <a:lnTo>
                  <a:pt x="535" y="1788"/>
                </a:lnTo>
                <a:lnTo>
                  <a:pt x="566" y="1800"/>
                </a:lnTo>
                <a:lnTo>
                  <a:pt x="596" y="1810"/>
                </a:lnTo>
                <a:lnTo>
                  <a:pt x="628" y="1818"/>
                </a:lnTo>
                <a:lnTo>
                  <a:pt x="660" y="1824"/>
                </a:lnTo>
                <a:lnTo>
                  <a:pt x="685" y="1826"/>
                </a:lnTo>
                <a:lnTo>
                  <a:pt x="718" y="1830"/>
                </a:lnTo>
                <a:lnTo>
                  <a:pt x="752" y="1830"/>
                </a:lnTo>
                <a:lnTo>
                  <a:pt x="778" y="1828"/>
                </a:lnTo>
                <a:lnTo>
                  <a:pt x="807" y="1826"/>
                </a:lnTo>
                <a:lnTo>
                  <a:pt x="838" y="1822"/>
                </a:lnTo>
                <a:lnTo>
                  <a:pt x="867" y="1814"/>
                </a:lnTo>
                <a:lnTo>
                  <a:pt x="891" y="1808"/>
                </a:lnTo>
                <a:close/>
              </a:path>
            </a:pathLst>
          </a:custGeom>
          <a:solidFill>
            <a:srgbClr val="ffd5a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5"/>
          <p:cNvSpPr/>
          <p:nvPr/>
        </p:nvSpPr>
        <p:spPr>
          <a:xfrm>
            <a:off x="2970360" y="2103480"/>
            <a:ext cx="1427040" cy="2590920"/>
          </a:xfrm>
          <a:custGeom>
            <a:avLst/>
            <a:gdLst/>
            <a:ahLst/>
            <a:rect l="l" t="t" r="r" b="b"/>
            <a:pathLst>
              <a:path w="899" h="3263">
                <a:moveTo>
                  <a:pt x="899" y="0"/>
                </a:moveTo>
                <a:lnTo>
                  <a:pt x="880" y="6"/>
                </a:lnTo>
                <a:lnTo>
                  <a:pt x="861" y="12"/>
                </a:lnTo>
                <a:lnTo>
                  <a:pt x="834" y="23"/>
                </a:lnTo>
                <a:lnTo>
                  <a:pt x="815" y="31"/>
                </a:lnTo>
                <a:lnTo>
                  <a:pt x="795" y="43"/>
                </a:lnTo>
                <a:lnTo>
                  <a:pt x="775" y="55"/>
                </a:lnTo>
                <a:lnTo>
                  <a:pt x="755" y="65"/>
                </a:lnTo>
                <a:lnTo>
                  <a:pt x="736" y="77"/>
                </a:lnTo>
                <a:lnTo>
                  <a:pt x="715" y="93"/>
                </a:lnTo>
                <a:lnTo>
                  <a:pt x="691" y="111"/>
                </a:lnTo>
                <a:lnTo>
                  <a:pt x="671" y="129"/>
                </a:lnTo>
                <a:lnTo>
                  <a:pt x="649" y="147"/>
                </a:lnTo>
                <a:lnTo>
                  <a:pt x="627" y="167"/>
                </a:lnTo>
                <a:lnTo>
                  <a:pt x="605" y="189"/>
                </a:lnTo>
                <a:lnTo>
                  <a:pt x="584" y="209"/>
                </a:lnTo>
                <a:lnTo>
                  <a:pt x="565" y="233"/>
                </a:lnTo>
                <a:lnTo>
                  <a:pt x="548" y="253"/>
                </a:lnTo>
                <a:lnTo>
                  <a:pt x="530" y="277"/>
                </a:lnTo>
                <a:lnTo>
                  <a:pt x="511" y="299"/>
                </a:lnTo>
                <a:lnTo>
                  <a:pt x="490" y="326"/>
                </a:lnTo>
                <a:lnTo>
                  <a:pt x="470" y="356"/>
                </a:lnTo>
                <a:lnTo>
                  <a:pt x="452" y="384"/>
                </a:lnTo>
                <a:lnTo>
                  <a:pt x="435" y="408"/>
                </a:lnTo>
                <a:lnTo>
                  <a:pt x="406" y="454"/>
                </a:lnTo>
                <a:lnTo>
                  <a:pt x="378" y="508"/>
                </a:lnTo>
                <a:lnTo>
                  <a:pt x="356" y="548"/>
                </a:lnTo>
                <a:lnTo>
                  <a:pt x="329" y="606"/>
                </a:lnTo>
                <a:lnTo>
                  <a:pt x="311" y="647"/>
                </a:lnTo>
                <a:lnTo>
                  <a:pt x="291" y="695"/>
                </a:lnTo>
                <a:lnTo>
                  <a:pt x="268" y="749"/>
                </a:lnTo>
                <a:lnTo>
                  <a:pt x="250" y="799"/>
                </a:lnTo>
                <a:lnTo>
                  <a:pt x="232" y="857"/>
                </a:lnTo>
                <a:lnTo>
                  <a:pt x="213" y="913"/>
                </a:lnTo>
                <a:lnTo>
                  <a:pt x="195" y="972"/>
                </a:lnTo>
                <a:lnTo>
                  <a:pt x="180" y="1024"/>
                </a:lnTo>
                <a:lnTo>
                  <a:pt x="166" y="1088"/>
                </a:lnTo>
                <a:lnTo>
                  <a:pt x="151" y="1150"/>
                </a:lnTo>
                <a:lnTo>
                  <a:pt x="139" y="1214"/>
                </a:lnTo>
                <a:lnTo>
                  <a:pt x="127" y="1283"/>
                </a:lnTo>
                <a:lnTo>
                  <a:pt x="112" y="1369"/>
                </a:lnTo>
                <a:lnTo>
                  <a:pt x="102" y="1449"/>
                </a:lnTo>
                <a:lnTo>
                  <a:pt x="91" y="1531"/>
                </a:lnTo>
                <a:lnTo>
                  <a:pt x="86" y="1610"/>
                </a:lnTo>
                <a:lnTo>
                  <a:pt x="79" y="1704"/>
                </a:lnTo>
                <a:lnTo>
                  <a:pt x="74" y="1820"/>
                </a:lnTo>
                <a:lnTo>
                  <a:pt x="73" y="1911"/>
                </a:lnTo>
                <a:lnTo>
                  <a:pt x="74" y="2001"/>
                </a:lnTo>
                <a:lnTo>
                  <a:pt x="78" y="2087"/>
                </a:lnTo>
                <a:lnTo>
                  <a:pt x="83" y="2166"/>
                </a:lnTo>
                <a:lnTo>
                  <a:pt x="88" y="2250"/>
                </a:lnTo>
                <a:lnTo>
                  <a:pt x="98" y="2336"/>
                </a:lnTo>
                <a:lnTo>
                  <a:pt x="110" y="2428"/>
                </a:lnTo>
                <a:lnTo>
                  <a:pt x="125" y="2521"/>
                </a:lnTo>
                <a:lnTo>
                  <a:pt x="140" y="2609"/>
                </a:lnTo>
                <a:lnTo>
                  <a:pt x="157" y="2695"/>
                </a:lnTo>
                <a:lnTo>
                  <a:pt x="178" y="2778"/>
                </a:lnTo>
                <a:lnTo>
                  <a:pt x="202" y="2858"/>
                </a:lnTo>
                <a:lnTo>
                  <a:pt x="0" y="3083"/>
                </a:lnTo>
                <a:lnTo>
                  <a:pt x="617" y="3263"/>
                </a:lnTo>
                <a:lnTo>
                  <a:pt x="843" y="2150"/>
                </a:lnTo>
                <a:lnTo>
                  <a:pt x="607" y="2400"/>
                </a:lnTo>
                <a:lnTo>
                  <a:pt x="583" y="2328"/>
                </a:lnTo>
                <a:lnTo>
                  <a:pt x="569" y="2264"/>
                </a:lnTo>
                <a:lnTo>
                  <a:pt x="556" y="2198"/>
                </a:lnTo>
                <a:lnTo>
                  <a:pt x="547" y="2133"/>
                </a:lnTo>
                <a:lnTo>
                  <a:pt x="541" y="2069"/>
                </a:lnTo>
                <a:lnTo>
                  <a:pt x="539" y="2007"/>
                </a:lnTo>
                <a:lnTo>
                  <a:pt x="535" y="1945"/>
                </a:lnTo>
                <a:lnTo>
                  <a:pt x="535" y="1883"/>
                </a:lnTo>
                <a:lnTo>
                  <a:pt x="538" y="1810"/>
                </a:lnTo>
                <a:lnTo>
                  <a:pt x="542" y="1738"/>
                </a:lnTo>
                <a:lnTo>
                  <a:pt x="550" y="1658"/>
                </a:lnTo>
                <a:lnTo>
                  <a:pt x="559" y="1594"/>
                </a:lnTo>
                <a:lnTo>
                  <a:pt x="573" y="1523"/>
                </a:lnTo>
                <a:lnTo>
                  <a:pt x="585" y="1461"/>
                </a:lnTo>
                <a:lnTo>
                  <a:pt x="603" y="1401"/>
                </a:lnTo>
                <a:lnTo>
                  <a:pt x="617" y="1355"/>
                </a:lnTo>
                <a:lnTo>
                  <a:pt x="631" y="1317"/>
                </a:lnTo>
                <a:lnTo>
                  <a:pt x="645" y="1279"/>
                </a:lnTo>
                <a:lnTo>
                  <a:pt x="661" y="1241"/>
                </a:lnTo>
                <a:lnTo>
                  <a:pt x="679" y="1202"/>
                </a:lnTo>
                <a:lnTo>
                  <a:pt x="694" y="1174"/>
                </a:lnTo>
                <a:lnTo>
                  <a:pt x="711" y="1138"/>
                </a:lnTo>
                <a:lnTo>
                  <a:pt x="729" y="1110"/>
                </a:lnTo>
                <a:lnTo>
                  <a:pt x="749" y="1080"/>
                </a:lnTo>
                <a:lnTo>
                  <a:pt x="773" y="1048"/>
                </a:lnTo>
                <a:lnTo>
                  <a:pt x="794" y="1022"/>
                </a:lnTo>
                <a:lnTo>
                  <a:pt x="811" y="1002"/>
                </a:lnTo>
                <a:lnTo>
                  <a:pt x="836" y="974"/>
                </a:lnTo>
                <a:lnTo>
                  <a:pt x="861" y="954"/>
                </a:lnTo>
                <a:lnTo>
                  <a:pt x="899" y="932"/>
                </a:lnTo>
                <a:lnTo>
                  <a:pt x="899" y="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6"/>
          <p:cNvSpPr/>
          <p:nvPr/>
        </p:nvSpPr>
        <p:spPr>
          <a:xfrm>
            <a:off x="4073400" y="1752480"/>
            <a:ext cx="2119320" cy="2344680"/>
          </a:xfrm>
          <a:custGeom>
            <a:avLst/>
            <a:gdLst/>
            <a:ahLst/>
            <a:rect l="l" t="t" r="r" b="b"/>
            <a:pathLst>
              <a:path w="1336" h="2954">
                <a:moveTo>
                  <a:pt x="509" y="433"/>
                </a:moveTo>
                <a:lnTo>
                  <a:pt x="527" y="439"/>
                </a:lnTo>
                <a:lnTo>
                  <a:pt x="552" y="447"/>
                </a:lnTo>
                <a:lnTo>
                  <a:pt x="576" y="459"/>
                </a:lnTo>
                <a:lnTo>
                  <a:pt x="593" y="466"/>
                </a:lnTo>
                <a:lnTo>
                  <a:pt x="614" y="476"/>
                </a:lnTo>
                <a:lnTo>
                  <a:pt x="633" y="488"/>
                </a:lnTo>
                <a:lnTo>
                  <a:pt x="653" y="500"/>
                </a:lnTo>
                <a:lnTo>
                  <a:pt x="672" y="510"/>
                </a:lnTo>
                <a:lnTo>
                  <a:pt x="693" y="526"/>
                </a:lnTo>
                <a:lnTo>
                  <a:pt x="717" y="546"/>
                </a:lnTo>
                <a:lnTo>
                  <a:pt x="739" y="562"/>
                </a:lnTo>
                <a:lnTo>
                  <a:pt x="759" y="580"/>
                </a:lnTo>
                <a:lnTo>
                  <a:pt x="782" y="600"/>
                </a:lnTo>
                <a:lnTo>
                  <a:pt x="805" y="622"/>
                </a:lnTo>
                <a:lnTo>
                  <a:pt x="825" y="642"/>
                </a:lnTo>
                <a:lnTo>
                  <a:pt x="844" y="666"/>
                </a:lnTo>
                <a:lnTo>
                  <a:pt x="862" y="686"/>
                </a:lnTo>
                <a:lnTo>
                  <a:pt x="879" y="710"/>
                </a:lnTo>
                <a:lnTo>
                  <a:pt x="898" y="732"/>
                </a:lnTo>
                <a:lnTo>
                  <a:pt x="920" y="760"/>
                </a:lnTo>
                <a:lnTo>
                  <a:pt x="939" y="787"/>
                </a:lnTo>
                <a:lnTo>
                  <a:pt x="957" y="815"/>
                </a:lnTo>
                <a:lnTo>
                  <a:pt x="974" y="841"/>
                </a:lnTo>
                <a:lnTo>
                  <a:pt x="1002" y="887"/>
                </a:lnTo>
                <a:lnTo>
                  <a:pt x="1030" y="939"/>
                </a:lnTo>
                <a:lnTo>
                  <a:pt x="1053" y="979"/>
                </a:lnTo>
                <a:lnTo>
                  <a:pt x="1079" y="1037"/>
                </a:lnTo>
                <a:lnTo>
                  <a:pt x="1097" y="1078"/>
                </a:lnTo>
                <a:lnTo>
                  <a:pt x="1118" y="1126"/>
                </a:lnTo>
                <a:lnTo>
                  <a:pt x="1140" y="1180"/>
                </a:lnTo>
                <a:lnTo>
                  <a:pt x="1158" y="1232"/>
                </a:lnTo>
                <a:lnTo>
                  <a:pt x="1177" y="1290"/>
                </a:lnTo>
                <a:lnTo>
                  <a:pt x="1196" y="1346"/>
                </a:lnTo>
                <a:lnTo>
                  <a:pt x="1212" y="1405"/>
                </a:lnTo>
                <a:lnTo>
                  <a:pt x="1229" y="1457"/>
                </a:lnTo>
                <a:lnTo>
                  <a:pt x="1244" y="1521"/>
                </a:lnTo>
                <a:lnTo>
                  <a:pt x="1258" y="1583"/>
                </a:lnTo>
                <a:lnTo>
                  <a:pt x="1270" y="1647"/>
                </a:lnTo>
                <a:lnTo>
                  <a:pt x="1282" y="1716"/>
                </a:lnTo>
                <a:lnTo>
                  <a:pt x="1298" y="1802"/>
                </a:lnTo>
                <a:lnTo>
                  <a:pt x="1308" y="1882"/>
                </a:lnTo>
                <a:lnTo>
                  <a:pt x="1318" y="1964"/>
                </a:lnTo>
                <a:lnTo>
                  <a:pt x="1323" y="2043"/>
                </a:lnTo>
                <a:lnTo>
                  <a:pt x="1330" y="2137"/>
                </a:lnTo>
                <a:lnTo>
                  <a:pt x="1335" y="2253"/>
                </a:lnTo>
                <a:lnTo>
                  <a:pt x="1336" y="2342"/>
                </a:lnTo>
                <a:lnTo>
                  <a:pt x="1335" y="2432"/>
                </a:lnTo>
                <a:lnTo>
                  <a:pt x="1331" y="2518"/>
                </a:lnTo>
                <a:lnTo>
                  <a:pt x="1326" y="2597"/>
                </a:lnTo>
                <a:lnTo>
                  <a:pt x="1321" y="2681"/>
                </a:lnTo>
                <a:lnTo>
                  <a:pt x="1312" y="2767"/>
                </a:lnTo>
                <a:lnTo>
                  <a:pt x="1300" y="2859"/>
                </a:lnTo>
                <a:lnTo>
                  <a:pt x="1284" y="2954"/>
                </a:lnTo>
                <a:lnTo>
                  <a:pt x="1197" y="2420"/>
                </a:lnTo>
                <a:lnTo>
                  <a:pt x="864" y="2532"/>
                </a:lnTo>
                <a:lnTo>
                  <a:pt x="871" y="2438"/>
                </a:lnTo>
                <a:lnTo>
                  <a:pt x="874" y="2378"/>
                </a:lnTo>
                <a:lnTo>
                  <a:pt x="874" y="2314"/>
                </a:lnTo>
                <a:lnTo>
                  <a:pt x="872" y="2241"/>
                </a:lnTo>
                <a:lnTo>
                  <a:pt x="867" y="2171"/>
                </a:lnTo>
                <a:lnTo>
                  <a:pt x="860" y="2091"/>
                </a:lnTo>
                <a:lnTo>
                  <a:pt x="851" y="2027"/>
                </a:lnTo>
                <a:lnTo>
                  <a:pt x="836" y="1956"/>
                </a:lnTo>
                <a:lnTo>
                  <a:pt x="823" y="1894"/>
                </a:lnTo>
                <a:lnTo>
                  <a:pt x="807" y="1834"/>
                </a:lnTo>
                <a:lnTo>
                  <a:pt x="793" y="1788"/>
                </a:lnTo>
                <a:lnTo>
                  <a:pt x="778" y="1750"/>
                </a:lnTo>
                <a:lnTo>
                  <a:pt x="764" y="1712"/>
                </a:lnTo>
                <a:lnTo>
                  <a:pt x="748" y="1675"/>
                </a:lnTo>
                <a:lnTo>
                  <a:pt x="730" y="1635"/>
                </a:lnTo>
                <a:lnTo>
                  <a:pt x="714" y="1607"/>
                </a:lnTo>
                <a:lnTo>
                  <a:pt x="697" y="1573"/>
                </a:lnTo>
                <a:lnTo>
                  <a:pt x="680" y="1543"/>
                </a:lnTo>
                <a:lnTo>
                  <a:pt x="659" y="1513"/>
                </a:lnTo>
                <a:lnTo>
                  <a:pt x="635" y="1483"/>
                </a:lnTo>
                <a:lnTo>
                  <a:pt x="615" y="1455"/>
                </a:lnTo>
                <a:lnTo>
                  <a:pt x="598" y="1437"/>
                </a:lnTo>
                <a:lnTo>
                  <a:pt x="572" y="1407"/>
                </a:lnTo>
                <a:lnTo>
                  <a:pt x="550" y="1391"/>
                </a:lnTo>
                <a:lnTo>
                  <a:pt x="530" y="1377"/>
                </a:lnTo>
                <a:lnTo>
                  <a:pt x="510" y="1364"/>
                </a:lnTo>
                <a:lnTo>
                  <a:pt x="480" y="1350"/>
                </a:lnTo>
                <a:lnTo>
                  <a:pt x="451" y="1340"/>
                </a:lnTo>
                <a:lnTo>
                  <a:pt x="422" y="1334"/>
                </a:lnTo>
                <a:lnTo>
                  <a:pt x="392" y="1330"/>
                </a:lnTo>
                <a:lnTo>
                  <a:pt x="376" y="1328"/>
                </a:lnTo>
                <a:lnTo>
                  <a:pt x="376" y="1808"/>
                </a:lnTo>
                <a:lnTo>
                  <a:pt x="0" y="917"/>
                </a:lnTo>
                <a:lnTo>
                  <a:pt x="375" y="0"/>
                </a:lnTo>
                <a:lnTo>
                  <a:pt x="375" y="413"/>
                </a:lnTo>
                <a:lnTo>
                  <a:pt x="395" y="415"/>
                </a:lnTo>
                <a:lnTo>
                  <a:pt x="425" y="417"/>
                </a:lnTo>
                <a:lnTo>
                  <a:pt x="455" y="421"/>
                </a:lnTo>
                <a:lnTo>
                  <a:pt x="485" y="427"/>
                </a:lnTo>
                <a:lnTo>
                  <a:pt x="509" y="433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 rot="20856000">
            <a:off x="3965760" y="4352760"/>
            <a:ext cx="2050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and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 rot="2352600">
            <a:off x="4564800" y="2529000"/>
            <a:ext cx="1569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t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 rot="18065400">
            <a:off x="2674080" y="2943000"/>
            <a:ext cx="1751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etition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 rot="17935800">
            <a:off x="3242880" y="3153960"/>
            <a:ext cx="917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6095880" y="1197000"/>
            <a:ext cx="2773440" cy="21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P= DC+OC+Pro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Challeng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 Costs difficult to tr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 Labor is more difficult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ce than materia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  Costs may not equal the value that customers perceive the services are wort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766800" y="1905120"/>
            <a:ext cx="2624040" cy="16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58840" indent="-258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Challeng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Small firms may charge to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ttle to be viab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Heterogeneity of servi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mits comparabil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 Prices may not reflect customer valu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2853000" y="5111640"/>
            <a:ext cx="4651200" cy="12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Challeng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 Monetary price must be adjusted to refl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value of non-monetary cost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 Information on service costs is less available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ers; hence, price may not be a central fact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923760" y="2031840"/>
            <a:ext cx="2583000" cy="1017720"/>
          </a:xfrm>
          <a:prstGeom prst="rect">
            <a:avLst/>
          </a:prstGeom>
          <a:solidFill>
            <a:srgbClr val="c1ce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3"/>
          <p:cNvSpPr/>
          <p:nvPr/>
        </p:nvSpPr>
        <p:spPr>
          <a:xfrm>
            <a:off x="3524400" y="2028960"/>
            <a:ext cx="1042920" cy="1819080"/>
          </a:xfrm>
          <a:custGeom>
            <a:avLst/>
            <a:gdLst/>
            <a:ahLst/>
            <a:rect l="l" t="t" r="r" b="b"/>
            <a:pathLst>
              <a:path w="657" h="1145">
                <a:moveTo>
                  <a:pt x="0" y="0"/>
                </a:moveTo>
                <a:lnTo>
                  <a:pt x="656" y="1144"/>
                </a:lnTo>
                <a:lnTo>
                  <a:pt x="0" y="653"/>
                </a:lnTo>
                <a:lnTo>
                  <a:pt x="0" y="0"/>
                </a:lnTo>
              </a:path>
            </a:pathLst>
          </a:custGeom>
          <a:solidFill>
            <a:srgbClr val="6880c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4"/>
          <p:cNvSpPr/>
          <p:nvPr/>
        </p:nvSpPr>
        <p:spPr>
          <a:xfrm>
            <a:off x="922320" y="3067200"/>
            <a:ext cx="3645000" cy="780840"/>
          </a:xfrm>
          <a:custGeom>
            <a:avLst/>
            <a:gdLst/>
            <a:ahLst/>
            <a:rect l="l" t="t" r="r" b="b"/>
            <a:pathLst>
              <a:path w="2296" h="492">
                <a:moveTo>
                  <a:pt x="0" y="0"/>
                </a:moveTo>
                <a:lnTo>
                  <a:pt x="1639" y="0"/>
                </a:lnTo>
                <a:lnTo>
                  <a:pt x="2295" y="491"/>
                </a:lnTo>
                <a:lnTo>
                  <a:pt x="0" y="0"/>
                </a:lnTo>
              </a:path>
            </a:pathLst>
          </a:custGeom>
          <a:solidFill>
            <a:srgbClr val="5e92b6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923760" y="4624560"/>
            <a:ext cx="2583000" cy="1017360"/>
          </a:xfrm>
          <a:prstGeom prst="rect">
            <a:avLst/>
          </a:prstGeom>
          <a:solidFill>
            <a:srgbClr val="fdc0e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6"/>
          <p:cNvSpPr/>
          <p:nvPr/>
        </p:nvSpPr>
        <p:spPr>
          <a:xfrm>
            <a:off x="922320" y="3846600"/>
            <a:ext cx="3645000" cy="777960"/>
          </a:xfrm>
          <a:custGeom>
            <a:avLst/>
            <a:gdLst/>
            <a:ahLst/>
            <a:rect l="l" t="t" r="r" b="b"/>
            <a:pathLst>
              <a:path w="2296" h="490">
                <a:moveTo>
                  <a:pt x="0" y="489"/>
                </a:moveTo>
                <a:lnTo>
                  <a:pt x="2295" y="0"/>
                </a:lnTo>
                <a:lnTo>
                  <a:pt x="1639" y="489"/>
                </a:lnTo>
                <a:lnTo>
                  <a:pt x="0" y="489"/>
                </a:lnTo>
              </a:path>
            </a:pathLst>
          </a:custGeom>
          <a:solidFill>
            <a:srgbClr val="80008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7"/>
          <p:cNvSpPr/>
          <p:nvPr/>
        </p:nvSpPr>
        <p:spPr>
          <a:xfrm>
            <a:off x="3513240" y="3846600"/>
            <a:ext cx="1054080" cy="1800000"/>
          </a:xfrm>
          <a:custGeom>
            <a:avLst/>
            <a:gdLst/>
            <a:ahLst/>
            <a:rect l="l" t="t" r="r" b="b"/>
            <a:pathLst>
              <a:path w="657" h="1143">
                <a:moveTo>
                  <a:pt x="0" y="1142"/>
                </a:moveTo>
                <a:lnTo>
                  <a:pt x="0" y="489"/>
                </a:lnTo>
                <a:lnTo>
                  <a:pt x="656" y="0"/>
                </a:lnTo>
                <a:lnTo>
                  <a:pt x="0" y="1142"/>
                </a:lnTo>
              </a:path>
            </a:pathLst>
          </a:custGeom>
          <a:solidFill>
            <a:srgbClr val="c000c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5607000" y="2031840"/>
            <a:ext cx="2583000" cy="1017720"/>
          </a:xfrm>
          <a:prstGeom prst="rect">
            <a:avLst/>
          </a:prstGeom>
          <a:solidFill>
            <a:srgbClr val="fde3b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9"/>
          <p:cNvSpPr/>
          <p:nvPr/>
        </p:nvSpPr>
        <p:spPr>
          <a:xfrm>
            <a:off x="4565520" y="2028960"/>
            <a:ext cx="1041480" cy="1819080"/>
          </a:xfrm>
          <a:custGeom>
            <a:avLst/>
            <a:gdLst/>
            <a:ahLst/>
            <a:rect l="l" t="t" r="r" b="b"/>
            <a:pathLst>
              <a:path w="656" h="1145">
                <a:moveTo>
                  <a:pt x="655" y="0"/>
                </a:moveTo>
                <a:lnTo>
                  <a:pt x="0" y="1144"/>
                </a:lnTo>
                <a:lnTo>
                  <a:pt x="655" y="653"/>
                </a:lnTo>
                <a:lnTo>
                  <a:pt x="655" y="0"/>
                </a:lnTo>
              </a:path>
            </a:pathLst>
          </a:custGeom>
          <a:solidFill>
            <a:srgbClr val="804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10"/>
          <p:cNvSpPr/>
          <p:nvPr/>
        </p:nvSpPr>
        <p:spPr>
          <a:xfrm>
            <a:off x="4565520" y="3062160"/>
            <a:ext cx="3621240" cy="785880"/>
          </a:xfrm>
          <a:custGeom>
            <a:avLst/>
            <a:gdLst/>
            <a:ahLst/>
            <a:rect l="l" t="t" r="r" b="b"/>
            <a:pathLst>
              <a:path w="2295" h="492">
                <a:moveTo>
                  <a:pt x="2294" y="0"/>
                </a:moveTo>
                <a:lnTo>
                  <a:pt x="655" y="0"/>
                </a:lnTo>
                <a:lnTo>
                  <a:pt x="0" y="491"/>
                </a:lnTo>
                <a:lnTo>
                  <a:pt x="2294" y="0"/>
                </a:lnTo>
              </a:path>
            </a:pathLst>
          </a:custGeom>
          <a:solidFill>
            <a:srgbClr val="402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1"/>
          <p:cNvSpPr/>
          <p:nvPr/>
        </p:nvSpPr>
        <p:spPr>
          <a:xfrm>
            <a:off x="5603760" y="4621320"/>
            <a:ext cx="2600280" cy="10350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12"/>
          <p:cNvSpPr/>
          <p:nvPr/>
        </p:nvSpPr>
        <p:spPr>
          <a:xfrm>
            <a:off x="4565520" y="3846600"/>
            <a:ext cx="3643560" cy="777960"/>
          </a:xfrm>
          <a:custGeom>
            <a:avLst/>
            <a:gdLst/>
            <a:ahLst/>
            <a:rect l="l" t="t" r="r" b="b"/>
            <a:pathLst>
              <a:path w="2295" h="490">
                <a:moveTo>
                  <a:pt x="2294" y="489"/>
                </a:moveTo>
                <a:lnTo>
                  <a:pt x="0" y="0"/>
                </a:lnTo>
                <a:lnTo>
                  <a:pt x="655" y="489"/>
                </a:lnTo>
                <a:lnTo>
                  <a:pt x="2294" y="489"/>
                </a:lnTo>
              </a:path>
            </a:pathLst>
          </a:custGeom>
          <a:solidFill>
            <a:srgbClr val="99cc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13"/>
          <p:cNvSpPr/>
          <p:nvPr/>
        </p:nvSpPr>
        <p:spPr>
          <a:xfrm>
            <a:off x="4565520" y="3846600"/>
            <a:ext cx="1041480" cy="1815840"/>
          </a:xfrm>
          <a:custGeom>
            <a:avLst/>
            <a:gdLst/>
            <a:ahLst/>
            <a:rect l="l" t="t" r="r" b="b"/>
            <a:pathLst>
              <a:path w="656" h="1143">
                <a:moveTo>
                  <a:pt x="655" y="1142"/>
                </a:moveTo>
                <a:lnTo>
                  <a:pt x="655" y="489"/>
                </a:lnTo>
                <a:lnTo>
                  <a:pt x="0" y="0"/>
                </a:lnTo>
                <a:lnTo>
                  <a:pt x="655" y="1142"/>
                </a:lnTo>
              </a:path>
            </a:pathLst>
          </a:custGeom>
          <a:solidFill>
            <a:srgbClr val="00ff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4"/>
          <p:cNvSpPr/>
          <p:nvPr/>
        </p:nvSpPr>
        <p:spPr>
          <a:xfrm>
            <a:off x="1019880" y="2324160"/>
            <a:ext cx="2383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alue is low pr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5634360" y="2174760"/>
            <a:ext cx="24994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alue is every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 want in a serv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1172880" y="4611600"/>
            <a:ext cx="20743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alue is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uality I get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he price I p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5882760" y="4611600"/>
            <a:ext cx="20314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alue is all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 get for a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hat I g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ur Customer Definitions of Val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1790640" y="2379600"/>
            <a:ext cx="3257640" cy="3083040"/>
          </a:xfrm>
          <a:prstGeom prst="rect">
            <a:avLst/>
          </a:prstGeom>
          <a:solidFill>
            <a:srgbClr val="c1ce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1971000" y="2590920"/>
            <a:ext cx="2714400" cy="439200"/>
          </a:xfrm>
          <a:prstGeom prst="rect">
            <a:avLst/>
          </a:prstGeom>
          <a:solidFill>
            <a:srgbClr val="c1c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Value is low pric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1948680" y="3181320"/>
            <a:ext cx="2657880" cy="1308600"/>
          </a:xfrm>
          <a:prstGeom prst="rect">
            <a:avLst/>
          </a:prstGeom>
          <a:solidFill>
            <a:srgbClr val="c1c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oun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dd pri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nchro-pri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netration pri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5"/>
          <p:cNvSpPr/>
          <p:nvPr/>
        </p:nvSpPr>
        <p:spPr>
          <a:xfrm>
            <a:off x="5037120" y="5452920"/>
            <a:ext cx="2565360" cy="5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cing Strategies When the Customer Defines Value as Low Pr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Line 7"/>
          <p:cNvSpPr/>
          <p:nvPr/>
        </p:nvSpPr>
        <p:spPr>
          <a:xfrm>
            <a:off x="1828800" y="5479920"/>
            <a:ext cx="5761080" cy="528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8"/>
          <p:cNvSpPr/>
          <p:nvPr/>
        </p:nvSpPr>
        <p:spPr>
          <a:xfrm flipV="1">
            <a:off x="5060880" y="2370240"/>
            <a:ext cx="2538360" cy="3641760"/>
          </a:xfrm>
          <a:custGeom>
            <a:avLst/>
            <a:gdLst/>
            <a:ahLst/>
            <a:rect l="l" t="t" r="r" b="b"/>
            <a:pathLst>
              <a:path w="657" h="1143">
                <a:moveTo>
                  <a:pt x="0" y="1142"/>
                </a:moveTo>
                <a:lnTo>
                  <a:pt x="0" y="489"/>
                </a:lnTo>
                <a:lnTo>
                  <a:pt x="656" y="0"/>
                </a:lnTo>
                <a:lnTo>
                  <a:pt x="0" y="1142"/>
                </a:lnTo>
              </a:path>
            </a:pathLst>
          </a:custGeom>
          <a:solidFill>
            <a:srgbClr val="c1ce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00:21:45Z</dcterms:created>
  <dc:creator>UoB</dc:creator>
  <dc:description/>
  <dc:language>en-US</dc:language>
  <cp:lastModifiedBy>Sunil John</cp:lastModifiedBy>
  <dcterms:modified xsi:type="dcterms:W3CDTF">2012-02-16T05:33:23Z</dcterms:modified>
  <cp:revision>5</cp:revision>
  <dc:subject/>
  <dc:title>Pricing and services</dc:title>
</cp:coreProperties>
</file>